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1D30D-8A33-444B-AFB6-865F493F8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1031C-0BEC-4164-BAC8-8D3318E3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C5D90-5D4D-4CF4-868E-CC8592182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AC37D-80BE-4201-9E71-ADCB53F82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0911-4EFA-43AA-86A8-3706C97B0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059A-B880-461D-B2DF-7C1BD254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FA37-62EF-4494-BC22-5C4C74AD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3D48-0953-41BA-96F0-06C6908C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D855-4143-4190-BA91-63A56088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024A-D959-4126-837F-D85279F2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FEF3-4D5F-4EA5-B36B-E398016A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A4A66-417E-412D-BF49-53714F46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D71D-4BA8-4365-8CD4-C548A31E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3827-F4D5-400A-8DD3-A91FCE0C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4B25-4970-4FE6-AC00-051EF49A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FF7C-972F-4129-97E8-D3BDB7364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91B8-12AC-4CF9-96AB-0086E15EB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2FAA0-B78C-4470-BB49-26E5638C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AC776-7D4F-4534-9C9A-593360F9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1A4EC-FBD9-4987-B77D-05862446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BFEC6-D44B-469D-9332-B50DFCA6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17A4C-BA18-4743-9FA3-F77EE6C8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DC402-5700-467E-B6DE-471FC16B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8B1FC-E6F0-4778-912E-195770EE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CFC6-410D-4991-8921-4A73391D18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565A-1F6D-40A4-851D-744FDD49D3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Название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pic>
        <p:nvPicPr>
          <p:cNvPr id="101" name="LabLogo" descr=""/>
          <p:cNvPicPr/>
          <p:nvPr/>
        </p:nvPicPr>
        <p:blipFill>
          <a:blip r:embed="rId1"/>
          <a:stretch/>
        </p:blipFill>
        <p:spPr>
          <a:xfrm>
            <a:off x="4076640" y="5867280"/>
            <a:ext cx="990720" cy="644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725640" y="6477120"/>
            <a:ext cx="169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phics &amp; Media L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78680" y="1523880"/>
            <a:ext cx="21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пломная раб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409760" y="49525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О, гр. 521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учный руководитель: Баяковский Ю. 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Программная реализация</a:t>
            </a: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ткое описание вашей программной реализации. (С++, классы, жесткая оптимизац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елательно привести скриншот с окошком программы, меню, диалоги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LabLogo" descr=""/>
          <p:cNvPicPr/>
          <p:nvPr/>
        </p:nvPicPr>
        <p:blipFill>
          <a:blip r:embed="rId1"/>
          <a:stretch/>
        </p:blipFill>
        <p:spPr>
          <a:xfrm>
            <a:off x="8077320" y="228600"/>
            <a:ext cx="990360" cy="64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Результаты</a:t>
            </a: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ladimir Script"/>
              </a:rPr>
              <a:t>Обязательный слайд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ladimir Script"/>
              </a:rPr>
              <a:t>Тут перечисляем все то же что было в слайде «Цели дипломной работы», с той разницей что в целях было «сделать» - «провести сравнительный анализ», а тут «сделано» - «проведен сравнительный анализ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LabLogo" descr=""/>
          <p:cNvPicPr/>
          <p:nvPr/>
        </p:nvPicPr>
        <p:blipFill>
          <a:blip r:embed="rId1"/>
          <a:stretch/>
        </p:blipFill>
        <p:spPr>
          <a:xfrm>
            <a:off x="8077320" y="228600"/>
            <a:ext cx="990360" cy="64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Цели дипломной работы</a:t>
            </a: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язательный слайд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ут перечисляем что надо было сделать в дипломной рабо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порные слов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вести сравнительный анализ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работать алгоритм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еализов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LabLogo" descr=""/>
          <p:cNvPicPr/>
          <p:nvPr/>
        </p:nvPicPr>
        <p:blipFill>
          <a:blip r:embed="rId1"/>
          <a:stretch/>
        </p:blipFill>
        <p:spPr>
          <a:xfrm>
            <a:off x="8077320" y="228600"/>
            <a:ext cx="990360" cy="64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Актуальность задачи</a:t>
            </a: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Тут перечисляем области применения задач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Этот слайд можно назвать «Область применения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Можно для наглядности привести картинку(-и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LabLogo" descr=""/>
          <p:cNvPicPr/>
          <p:nvPr/>
        </p:nvPicPr>
        <p:blipFill>
          <a:blip r:embed="rId1"/>
          <a:stretch/>
        </p:blipFill>
        <p:spPr>
          <a:xfrm>
            <a:off x="8077320" y="228600"/>
            <a:ext cx="990360" cy="64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Введение в предметную область</a:t>
            </a: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щие замечания об области вашей задачи в обще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тот слайд можно озаглавить названием вашей предметной обла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Если постановка задачи не очевидна, этот слайд можно поставить перед постановкой задач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LabLogo" descr=""/>
          <p:cNvPicPr/>
          <p:nvPr/>
        </p:nvPicPr>
        <p:blipFill>
          <a:blip r:embed="rId1"/>
          <a:stretch/>
        </p:blipFill>
        <p:spPr>
          <a:xfrm>
            <a:off x="8077320" y="228600"/>
            <a:ext cx="990360" cy="64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Обзор существующих методов</a:t>
            </a: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тот слайд можно опуст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сли вы его оставляете, то весь обзор необходимо суметь уложить в один слайд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до написать недостатки существующих методов, побудившие вас сделать свой – это можно сделать на этом же слайде, либо на следующем, который назвать «Недостатки существующих методов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LabLogo" descr=""/>
          <p:cNvPicPr/>
          <p:nvPr/>
        </p:nvPicPr>
        <p:blipFill>
          <a:blip r:embed="rId1"/>
          <a:stretch/>
        </p:blipFill>
        <p:spPr>
          <a:xfrm>
            <a:off x="8077320" y="228600"/>
            <a:ext cx="990360" cy="64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Предложенный метод</a:t>
            </a: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сли в цели дипломной работы было «разработать алгоритм» - обязательный слайд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ужно указать, что мы получаем на входе и на выходе (можно в отдельном слайд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писываем алгоритм. Обязательно должен быть этот слайд, в котором перечислена последовательность шагов алгорит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Шаг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Шаг 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Шаг 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LabLogo" descr=""/>
          <p:cNvPicPr/>
          <p:nvPr/>
        </p:nvPicPr>
        <p:blipFill>
          <a:blip r:embed="rId1"/>
          <a:stretch/>
        </p:blipFill>
        <p:spPr>
          <a:xfrm>
            <a:off x="8077320" y="228600"/>
            <a:ext cx="990360" cy="64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Предложенный метод</a:t>
            </a: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перь по одному слайду на каждый шаг алгорит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ывать слайды надо так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Предложенный метод: шаг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LabLogo" descr=""/>
          <p:cNvPicPr/>
          <p:nvPr/>
        </p:nvPicPr>
        <p:blipFill>
          <a:blip r:embed="rId1"/>
          <a:stretch/>
        </p:blipFill>
        <p:spPr>
          <a:xfrm>
            <a:off x="8077320" y="228600"/>
            <a:ext cx="990360" cy="64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Результат работы метода</a:t>
            </a: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язательный слайд! (Или дв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ут куча-куча картинок, или видео, или демка показывающая как крут ваш мет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LabLogo" descr=""/>
          <p:cNvPicPr/>
          <p:nvPr/>
        </p:nvPicPr>
        <p:blipFill>
          <a:blip r:embed="rId1"/>
          <a:stretch/>
        </p:blipFill>
        <p:spPr>
          <a:xfrm>
            <a:off x="8077320" y="228600"/>
            <a:ext cx="990360" cy="64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Сравнение</a:t>
            </a: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аблица или график сравнения предложенного метода с существующими, выгодно подчеркивающий предложенный мет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ли два изображения, первое лучшего конкурента, второе – вашего мет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сли выгодно подчеркнуть не получается, то лучше этот слайд опуст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LabLogo" descr=""/>
          <p:cNvPicPr/>
          <p:nvPr/>
        </p:nvPicPr>
        <p:blipFill>
          <a:blip r:embed="rId1"/>
          <a:stretch/>
        </p:blipFill>
        <p:spPr>
          <a:xfrm>
            <a:off x="8077320" y="228600"/>
            <a:ext cx="990360" cy="644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6T17:46:02Z</dcterms:created>
  <dc:creator>Titova</dc:creator>
  <dc:description/>
  <dc:language>en-US</dc:language>
  <cp:lastModifiedBy>02a_kon</cp:lastModifiedBy>
  <dcterms:modified xsi:type="dcterms:W3CDTF">2005-04-25T06:59:07Z</dcterms:modified>
  <cp:revision>130</cp:revision>
  <dc:subject/>
  <dc:title>Computer-Generated watercolor.</dc:title>
</cp:coreProperties>
</file>