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8.jpeg" ContentType="image/jpeg"/>
  <Override PartName="/ppt/media/image5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CB47-D6DA-4481-9567-8E1C3A109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80AE-37F9-4B2A-9025-A2600FA00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60BE-780E-4BAB-BA01-40108CE56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587D-40B3-425D-918B-0DAA8F415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26E2-76E9-4A00-9D39-FCAA726CA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36A0-C61B-4787-A8D2-7E50D4D37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7532-06F0-4F6E-979A-5F5B2C908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D6C1-195B-4EA7-B064-16948450F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67F2-ACDE-4C0E-9D3C-8376673ED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8CEB-748F-4AD1-83CB-6038EB0BF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BFDE-0742-4E88-A8CD-216F880FC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7C85-5D52-4CDA-903A-F6A64F54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21D8E-A446-4E04-BDBB-E455B4600B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Лекция 9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преля 2003 г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Видовые преобразов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Закраска Гуро и Фонг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Удаление невидимых линий и поверхност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ablogo_bold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690560" cy="10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свещение и отраже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133720" y="1790640"/>
            <a:ext cx="5029200" cy="44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. Лекция 9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A8FD-EAB9-4FF1-A194-AD9802394A6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Функции освещения и отраж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6934320" cy="439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. Лекция 9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4440-7BFE-4085-8904-311E895AF8FA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иффузное и зеркальное отраже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14400" y="2181240"/>
            <a:ext cx="7315200" cy="381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. Лекция 9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B7D2-567A-4D18-8467-0B446B4763F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Функции отраж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SLIDE001" descr=""/>
          <p:cNvPicPr/>
          <p:nvPr/>
        </p:nvPicPr>
        <p:blipFill>
          <a:blip r:embed="rId1"/>
          <a:stretch/>
        </p:blipFill>
        <p:spPr>
          <a:xfrm>
            <a:off x="1676520" y="1712880"/>
            <a:ext cx="5943600" cy="459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. Лекция 9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EFB3-C06B-4695-92BD-59D72895E55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иффузное отраже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38160" y="2014560"/>
            <a:ext cx="7267680" cy="28288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066680" y="5181480"/>
            <a:ext cx="6782040" cy="701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. Лекция 9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EE09-BA2F-4141-BDE2-1BD96D24C77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Зеркальное отраже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6781680" cy="4481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. Лекция 9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ECCF-01E4-4637-A7FF-AC0C479EA51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одель Фонг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066680" y="2371680"/>
            <a:ext cx="6782040" cy="3584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. Лекция 9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EF65-C449-4E3C-AA27-867646AFC81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интез изображени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for each polygon i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project polygon onto viewing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for each pixel in polyg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calculate pixel col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calculate pixel z-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compare pixel z-value to value stored for pixel in z-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if pixel is closer, draw it in frame-buffer and z-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. Лекция 9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AF81-05DA-4875-9EA3-D8E06D76996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нтерполяционная закраска</a:t>
            </a:r>
            <a:br>
              <a:rPr sz="4000"/>
            </a:b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(Interpolative Shad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ппроксимация объекта плоскими граня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числение нормал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ладкая интерполяция нормал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85800" y="3657600"/>
            <a:ext cx="7772400" cy="243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. Лекция 9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BCC9-C741-4A5D-AA87-FF57B5D1D00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ычисление нормале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Нормали в вершинах вычисляются усреднением нормалей смежных гран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. Лекция 9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0CB0-5562-4B41-9D1D-75DD87AF88F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торое зад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дание проверено, результаты на сайте сегодня к вечер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8-го апреля (вторник) в 18.00 в ауд. 7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4 апреля (пн.) в 14.15 в ауд. 7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блемы (А.Поляков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. Лекция 9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55A9-D801-4511-8179-922C7AD6160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нтерполяция цвет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Вычислить цвет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RGB)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в каждой вершин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Вычислить цвет в точках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1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2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 = ||P1 - B|| / ||A - B||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(P1) = s(C(A)) - (1-s)(C(B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Вычислить цвет в т. Р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 = ||P - P2|| / ||P1 - P2||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C(P) = s(C(P1))-(1-s)(C(P2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. Лекция 9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C0D0-C13F-4F7E-B16A-92F1CCE8F8D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счезают блик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7772400" cy="2940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. Лекция 9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FAE0-C26A-4315-87D2-32356265710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нтерполяция нормале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Вычислить нормали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RGB)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в каждой вершин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Вычислить нормаль в точках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1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2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 = ||P1 - B|| / ||A - B||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(P1) = s(N(A)) - (1-s)(N(B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Вычислить нормаль в т. Р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 = ||P - P2|| / ||P1 - P2||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N(P) = s(т(P1))-(1-s)(N(P2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Вычислить цвет в точке 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. Лекция 9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E39D-7AA9-42C6-AAD5-CB2B73371AA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Клонирование» верши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вершин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ужно иметь две норма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а нормаль для гладкой закраски боковой поверх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угая нормаль для закраски тор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острых ребрах нормали дублируют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. Лекция 9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A728-D7B1-41B6-BB8D-D7E0B58FA14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олнообразная поверхность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523880" y="1828800"/>
            <a:ext cx="6400800" cy="405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. Лекция 9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E73D-0F69-4C2F-852D-B1995893CD6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олнообразная поверхность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00200" y="1981080"/>
            <a:ext cx="5943600" cy="404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. Лекция 9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CDB0-0654-4168-A65D-1BB46E9EA5A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олнообразная поверхность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895480" y="1828800"/>
            <a:ext cx="324036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. Лекция 9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A5DB-EE7D-4E1B-8257-CF7AE6099CD1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ону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3311640" cy="4114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848120" y="1981080"/>
            <a:ext cx="364824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. Лекция 9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A9DB-DF33-4D2E-B1FA-29EC72676ED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Удаление невидимых лини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7696080" cy="351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. Лекция 9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9750-246F-4888-8CA9-F424B608C6B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Z -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уфе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буфере отводится одно значение на каждый пиксел. Вначале всем им присваивается 1.0 (что соответствуе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=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ерспективной проекции). Многоугольник заполняется обычным образом. Пиксел рисуется, если он ближе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7391160" cy="6188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838080" y="3809880"/>
            <a:ext cx="4343400" cy="2452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8153280" y="2895480"/>
                <a:ext cx="45720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. Лекция 9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3E0D-9C8E-4EB9-9DBC-C5E881559CF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 Александру</a:t>
            </a:r>
            <a:br>
              <a:rPr sz="44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шграф в целом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arning instead of Teach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arning by Do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. Лекция 9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20A9-E8C6-48CA-B68A-BC3D3DECCB6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остоинства и недостатк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2876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. Лекция 9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BA32-FA45-4670-8C48-C03A03BBE79D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Удаление невидимых поверхносте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2239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. Лекция 9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C106-4BB5-4E5A-BA46-E2F496ACFC4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Алгоритм художника (маляра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7772400" cy="297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. Лекция 9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DBE1-743D-43EC-BE4D-52818DE021FD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лгоритм сортировки по глубине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depth-sort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порядочить все многоугольники в соответствии с наименьшей (дальней координатой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ешить неоднозначности, которые вызывают наложение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габаритов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рисовать многоугольники в порядке возрастания наименьшей координаты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. Лекция 9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5592-AD71-423A-8B50-2B7E4F8A0B9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85800" y="2438280"/>
            <a:ext cx="7772400" cy="220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. Лекция 9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0E62-43AA-4D8E-9FB9-36B4CBA13F36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еоднозначности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ambiguitie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400040" y="1881360"/>
            <a:ext cx="6343920" cy="3095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. Лекция 9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F8E8-61A9-4DAC-A5C9-4F0C1BF48F04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ять тест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Накладываются л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абариты мн-ков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Накладываются л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абариты мн-ков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. Лекция 9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EF85-3AA9-49C2-B3E1-982A10002A1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ложение габаритов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7010640" cy="26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. Лекция 9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0FDE-AFE5-43D4-8693-4DDFCE179C75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ять тест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Накладываются л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абариты мн-ков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Накладываются л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абариты мн-ков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лностью за плоскостью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 отношению к наблюдателю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лностью перед плоскостью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 отношению к наблюдателю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. Лекция 9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F46E-3130-4F92-B2B4-A9EC2664E0A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ест 3 и Тест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3505320" cy="27766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191120" y="1981080"/>
            <a:ext cx="4647960" cy="242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. Лекция 9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6611-2D11-42EB-933B-86047C3EFA7B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аспределение по кафедра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федра АСВК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аборатория графики и мультимеди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семинар -- понедельник, П-8а, 18: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федра математической физик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ылов Андрей Сердже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федра АН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новенков Игорь Николаевич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пов Александр Михайл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. Лекция 9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9EC8-718C-4CD6-8C12-C004984CEA1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ять тест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Накладываются л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абариты мн-ков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Накладываются л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абариты мн-ков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лностью за плоскостью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 отношению к наблюдателю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лностью перед плоскостью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 отношению к наблюдателю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. Пересекаются ли проекции многоугольников на плоскость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(x, y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. Лекция 9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3FAB-1EDE-4D1E-A26C-A727E1E9D20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езультат сортировки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шести многоугольник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7696080" cy="222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. Лекция 9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9B02-5625-4A39-A46A-86486F2E38D7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лан лекци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Видовые преобразов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cc"/>
                </a:solidFill>
                <a:latin typeface="Arial"/>
              </a:rPr>
              <a:t>Локальные модели освещ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Закраска Гуро и Фонг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Удаление невидимых линий и поверхност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. Лекция 9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7FCE-66AB-4C7D-B704-0A8D446D9AC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мера в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enG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Positioning the camera in OpenG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The OpenGL auxilliary library provides the call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gluLookAt(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to create the viewing transforma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gluLookAt(ex,ey,ez,rx,ry,rz,ux,uy,uz&gt;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(ex,ey,ez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gives the eye point,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(rx,ry,rz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gives the reference or 'lookat' point, and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(ux,uy,uz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gives the up vecto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This function call postmultiplies the current matrix, so the easiest way to use it i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glMatrixMode(GL_MODELVIEW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glLoadIdentity()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gluLookAt(ex,ey,ez,rx,ry,rz,ux,uy,uz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/* setup modelling transformations here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. Лекция 9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6144-BC5C-4A2A-8297-4B59FE454A2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1" descr=""/>
          <p:cNvPicPr/>
          <p:nvPr/>
        </p:nvPicPr>
        <p:blipFill>
          <a:blip r:embed="rId1"/>
          <a:stretch/>
        </p:blipFill>
        <p:spPr>
          <a:xfrm>
            <a:off x="1905120" y="228600"/>
            <a:ext cx="5029200" cy="6019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. Лекция 9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9318-32BE-4EC4-8C92-657DB15E1ED9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2" descr=""/>
          <p:cNvPicPr/>
          <p:nvPr/>
        </p:nvPicPr>
        <p:blipFill>
          <a:blip r:embed="rId1"/>
          <a:stretch/>
        </p:blipFill>
        <p:spPr>
          <a:xfrm>
            <a:off x="2130480" y="228600"/>
            <a:ext cx="4884840" cy="6095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. Лекция 9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1D4D-1CA7-4072-9575-C91993808A18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3" descr=""/>
          <p:cNvPicPr/>
          <p:nvPr/>
        </p:nvPicPr>
        <p:blipFill>
          <a:blip r:embed="rId1"/>
          <a:stretch/>
        </p:blipFill>
        <p:spPr>
          <a:xfrm>
            <a:off x="990720" y="369720"/>
            <a:ext cx="7315200" cy="560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. Лекция 9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68C6-F073-4EC3-87AA-C0DCBD2EF203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9T12:55:46Z</dcterms:created>
  <dc:creator>ymb</dc:creator>
  <dc:description/>
  <dc:language>en-US</dc:language>
  <cp:lastModifiedBy>ymb</cp:lastModifiedBy>
  <dcterms:modified xsi:type="dcterms:W3CDTF">2003-04-08T12:42:18Z</dcterms:modified>
  <cp:revision>26</cp:revision>
  <dc:subject/>
  <dc:title>Лекция 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H:\ymb\CG-2002\Lectures\2002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