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png" ContentType="image/png"/>
  <Override PartName="/ppt/media/image58.png" ContentType="image/png"/>
  <Override PartName="/ppt/media/image57.png" ContentType="image/png"/>
  <Override PartName="/ppt/media/image56.png" ContentType="image/png"/>
  <Override PartName="/ppt/media/image55.png" ContentType="image/png"/>
  <Override PartName="/ppt/media/image20.jpeg" ContentType="image/jpeg"/>
  <Override PartName="/ppt/media/image54.png" ContentType="image/png"/>
  <Override PartName="/ppt/media/image53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11.png" ContentType="image/png"/>
  <Override PartName="/ppt/media/image48.png" ContentType="image/png"/>
  <Override PartName="/ppt/media/image19.jpeg" ContentType="image/jpeg"/>
  <Override PartName="/ppt/media/image25.png" ContentType="image/png"/>
  <Override PartName="/ppt/media/image29.wmf" ContentType="image/x-wmf"/>
  <Override PartName="/ppt/media/image68.png" ContentType="image/png"/>
  <Override PartName="/ppt/media/image31.png" ContentType="image/png"/>
  <Override PartName="/ppt/media/image28.jpeg" ContentType="image/jpeg"/>
  <Override PartName="/ppt/media/image62.png" ContentType="image/png"/>
  <Override PartName="/ppt/media/image71.png" ContentType="image/png"/>
  <Override PartName="/ppt/media/image21.jpeg" ContentType="image/jpeg"/>
  <Override PartName="/ppt/media/image65.png" ContentType="image/png"/>
  <Override PartName="/ppt/media/image23.png" ContentType="image/png"/>
  <Override PartName="/ppt/media/image60.png" ContentType="image/png"/>
  <Override PartName="/ppt/media/image73.jpeg" ContentType="image/jpeg"/>
  <Override PartName="/ppt/media/image24.png" ContentType="image/png"/>
  <Override PartName="/ppt/media/image61.png" ContentType="image/png"/>
  <Override PartName="/ppt/media/image77.png" ContentType="image/png"/>
  <Override PartName="/ppt/media/image76.png" ContentType="image/png"/>
  <Override PartName="/ppt/media/image64.png" ContentType="image/png"/>
  <Override PartName="/ppt/media/image74.png" ContentType="image/png"/>
  <Override PartName="/ppt/media/image14.png" ContentType="image/png"/>
  <Override PartName="/ppt/media/image2.png" ContentType="image/png"/>
  <Override PartName="/ppt/media/image69.png" ContentType="image/png"/>
  <Override PartName="/ppt/media/image32.png" ContentType="image/png"/>
  <Override PartName="/ppt/media/image72.png" ContentType="image/png"/>
  <Override PartName="/ppt/media/image70.png" ContentType="image/png"/>
  <Override PartName="/ppt/media/image67.png" ContentType="image/png"/>
  <Override PartName="/ppt/media/image66.png" ContentType="image/png"/>
  <Override PartName="/ppt/media/image63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7.jpeg" ContentType="image/jpeg"/>
  <Override PartName="/ppt/media/image52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9.jpeg" ContentType="image/jpeg"/>
  <Override PartName="/ppt/media/image36.png" ContentType="image/png"/>
  <Override PartName="/ppt/media/image75.png" ContentType="image/png"/>
  <Override PartName="/ppt/media/image22.jpeg" ContentType="image/jpeg"/>
  <Override PartName="/ppt/media/image3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27F1-C9FA-4258-B4BE-39C5F09C6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FA24-CC57-4A5C-88E3-75F95DBB6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FE55-D1A9-450A-8AF4-37101B261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74AE-44AF-4B82-87F7-84638FBA6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021D-7094-412A-9845-20B1329D7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2C45-71C3-4885-843C-527AAB2D8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A06F-F121-4A52-8B84-79C603AAE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171B-DF13-45CF-A4A0-923696E7F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1274-E55B-42A3-A828-FE6E9514D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DE71-4DBC-43E9-A4E8-2CC07696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BCAF-06CF-48A9-B2C6-0CF191EF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D9EB-6AF6-4093-BA26-6D323CE2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C5751-F03F-4FC9-A259-2499D44B15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png"/><Relationship Id="rId3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Лекция 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ффинные преобразов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довые преобразов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Локальные модели освещ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5 марта 2003 г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днородные координа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HOMO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019560" cy="4515120"/>
          </a:xfrm>
          <a:prstGeom prst="rect">
            <a:avLst/>
          </a:prstGeom>
          <a:ln w="0">
            <a:noFill/>
          </a:ln>
        </p:spPr>
      </p:pic>
      <p:pic>
        <p:nvPicPr>
          <p:cNvPr id="69" name="GRLINE1" descr=""/>
          <p:cNvPicPr/>
          <p:nvPr/>
        </p:nvPicPr>
        <p:blipFill>
          <a:blip r:embed="rId2"/>
          <a:stretch/>
        </p:blipFill>
        <p:spPr>
          <a:xfrm>
            <a:off x="533520" y="1523880"/>
            <a:ext cx="5143320" cy="3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 Лекция 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B986-4BB3-44DD-9B21-26F87454880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марта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еобразования в матричной форм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sl14" descr=""/>
          <p:cNvPicPr/>
          <p:nvPr/>
        </p:nvPicPr>
        <p:blipFill>
          <a:blip r:embed="rId1"/>
          <a:stretch/>
        </p:blipFill>
        <p:spPr>
          <a:xfrm>
            <a:off x="1508040" y="1981080"/>
            <a:ext cx="6127920" cy="4114800"/>
          </a:xfrm>
          <a:prstGeom prst="rect">
            <a:avLst/>
          </a:prstGeom>
          <a:ln w="0">
            <a:noFill/>
          </a:ln>
        </p:spPr>
      </p:pic>
      <p:pic>
        <p:nvPicPr>
          <p:cNvPr id="72" name="GRLINE1" descr=""/>
          <p:cNvPicPr/>
          <p:nvPr/>
        </p:nvPicPr>
        <p:blipFill>
          <a:blip r:embed="rId2"/>
          <a:stretch/>
        </p:blipFill>
        <p:spPr>
          <a:xfrm>
            <a:off x="533520" y="1828800"/>
            <a:ext cx="5143320" cy="3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 Лекция 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0AB9-F817-4EEC-8C5C-E4D743288BB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марта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Единичная матриц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75" name="GRLINE1" descr=""/>
          <p:cNvPicPr/>
          <p:nvPr/>
        </p:nvPicPr>
        <p:blipFill>
          <a:blip r:embed="rId2"/>
          <a:stretch/>
        </p:blipFill>
        <p:spPr>
          <a:xfrm>
            <a:off x="533520" y="1676520"/>
            <a:ext cx="5143320" cy="3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 Лекция 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6C8E-CAAD-4235-A620-0852544A084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марта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78" name="GRLINE1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5143680" cy="3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 Лекция 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1E85-63EE-4AC7-8698-28B0E23473C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марта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араллельный перено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81" name="GRLINE1" descr=""/>
          <p:cNvPicPr/>
          <p:nvPr/>
        </p:nvPicPr>
        <p:blipFill>
          <a:blip r:embed="rId2"/>
          <a:stretch/>
        </p:blipFill>
        <p:spPr>
          <a:xfrm>
            <a:off x="380880" y="1676520"/>
            <a:ext cx="5143680" cy="3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 Лекция 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96E8-631C-44AD-B4AE-2D85AB1DB30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марта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асштабирова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84" name="GRLINE1" descr=""/>
          <p:cNvPicPr/>
          <p:nvPr/>
        </p:nvPicPr>
        <p:blipFill>
          <a:blip r:embed="rId2"/>
          <a:stretch/>
        </p:blipFill>
        <p:spPr>
          <a:xfrm>
            <a:off x="457200" y="1676520"/>
            <a:ext cx="5143680" cy="3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 Лекция 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2FB4-D826-4B5B-82EE-09FDCB69A6A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марта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воро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87" name="GRLINE1" descr=""/>
          <p:cNvPicPr/>
          <p:nvPr/>
        </p:nvPicPr>
        <p:blipFill>
          <a:blip r:embed="rId2"/>
          <a:stretch/>
        </p:blipFill>
        <p:spPr>
          <a:xfrm>
            <a:off x="380880" y="1676520"/>
            <a:ext cx="5143680" cy="3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 Лекция 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2FEC-34A9-44CD-8049-B63CAEFC66D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марта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ворот вокруг оси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90" name="GRLINE1" descr=""/>
          <p:cNvPicPr/>
          <p:nvPr/>
        </p:nvPicPr>
        <p:blipFill>
          <a:blip r:embed="rId2"/>
          <a:stretch/>
        </p:blipFill>
        <p:spPr>
          <a:xfrm>
            <a:off x="380880" y="1676520"/>
            <a:ext cx="5143680" cy="3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 Лекция 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1543-5CB8-48E5-88C1-0497A6DC573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марта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ворот вокруг осей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94" name="GRLINE1" descr=""/>
          <p:cNvPicPr/>
          <p:nvPr/>
        </p:nvPicPr>
        <p:blipFill>
          <a:blip r:embed="rId3"/>
          <a:stretch/>
        </p:blipFill>
        <p:spPr>
          <a:xfrm>
            <a:off x="533520" y="1676520"/>
            <a:ext cx="5143320" cy="3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 Лекция 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A528-E7A4-457B-937D-8784C7F5332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марта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двиг по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 по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2d-shear-x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1073160"/>
          </a:xfrm>
          <a:prstGeom prst="rect">
            <a:avLst/>
          </a:prstGeom>
          <a:ln w="0">
            <a:noFill/>
          </a:ln>
        </p:spPr>
      </p:pic>
      <p:pic>
        <p:nvPicPr>
          <p:cNvPr id="97" name="2d-shear-y" descr=""/>
          <p:cNvPicPr/>
          <p:nvPr/>
        </p:nvPicPr>
        <p:blipFill>
          <a:blip r:embed="rId2"/>
          <a:stretch/>
        </p:blipFill>
        <p:spPr>
          <a:xfrm>
            <a:off x="685800" y="4191120"/>
            <a:ext cx="7772400" cy="988920"/>
          </a:xfrm>
          <a:prstGeom prst="rect">
            <a:avLst/>
          </a:prstGeom>
          <a:ln w="0">
            <a:noFill/>
          </a:ln>
        </p:spPr>
      </p:pic>
      <p:pic>
        <p:nvPicPr>
          <p:cNvPr id="98" name="GRLINE1" descr=""/>
          <p:cNvPicPr/>
          <p:nvPr/>
        </p:nvPicPr>
        <p:blipFill>
          <a:blip r:embed="rId3"/>
          <a:stretch/>
        </p:blipFill>
        <p:spPr>
          <a:xfrm>
            <a:off x="228600" y="1600200"/>
            <a:ext cx="5143680" cy="3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 Лекция 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648D-AFFE-4E83-A996-B07FAD32CCD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марта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ипы геометрических преобразован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зометрия (сохраняются расстояния)</a:t>
            </a:r>
            <a:br>
              <a:rPr sz="24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композиция поворотов и перенос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обие (сохраняются углы)</a:t>
            </a:r>
            <a:br>
              <a:rPr sz="24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однородное масштабиро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ффинные преобразование (сохраняется параллельность линий)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двиг, масштабиро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нейные (проективные) преобразования (прямые переходят в прямые)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ерспекти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линейные преобраз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GRLINE1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5143320" cy="38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 Лекция 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AC8A-9924-4E92-A4D8-6EC19480005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марта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he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SHEAR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2376720"/>
          </a:xfrm>
          <a:prstGeom prst="rect">
            <a:avLst/>
          </a:prstGeom>
          <a:ln w="0">
            <a:noFill/>
          </a:ln>
        </p:spPr>
      </p:pic>
      <p:pic>
        <p:nvPicPr>
          <p:cNvPr id="101" name="3d-shear-xy" descr=""/>
          <p:cNvPicPr/>
          <p:nvPr/>
        </p:nvPicPr>
        <p:blipFill>
          <a:blip r:embed="rId2"/>
          <a:stretch/>
        </p:blipFill>
        <p:spPr>
          <a:xfrm>
            <a:off x="685800" y="4648320"/>
            <a:ext cx="7772400" cy="1217520"/>
          </a:xfrm>
          <a:prstGeom prst="rect">
            <a:avLst/>
          </a:prstGeom>
          <a:ln w="0">
            <a:noFill/>
          </a:ln>
        </p:spPr>
      </p:pic>
      <p:pic>
        <p:nvPicPr>
          <p:cNvPr id="102" name="GRLINE1" descr=""/>
          <p:cNvPicPr/>
          <p:nvPr/>
        </p:nvPicPr>
        <p:blipFill>
          <a:blip r:embed="rId3"/>
          <a:stretch/>
        </p:blipFill>
        <p:spPr>
          <a:xfrm>
            <a:off x="304920" y="1600200"/>
            <a:ext cx="5143320" cy="3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 Лекция 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FB0F-2952-42A5-B597-56AC74A2004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марта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уперпозиция преобразован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05" name="GRLINE1" descr=""/>
          <p:cNvPicPr/>
          <p:nvPr/>
        </p:nvPicPr>
        <p:blipFill>
          <a:blip r:embed="rId2"/>
          <a:stretch/>
        </p:blipFill>
        <p:spPr>
          <a:xfrm>
            <a:off x="304920" y="1600200"/>
            <a:ext cx="5143320" cy="3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 Лекция 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EA8F-6329-4929-9296-252328B3DA9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марта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Умножение матриц некоммутативн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08" name="GRLINE1" descr=""/>
          <p:cNvPicPr/>
          <p:nvPr/>
        </p:nvPicPr>
        <p:blipFill>
          <a:blip r:embed="rId2"/>
          <a:stretch/>
        </p:blipFill>
        <p:spPr>
          <a:xfrm>
            <a:off x="304920" y="1600200"/>
            <a:ext cx="5143320" cy="3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 Лекция 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5C57-FAC7-470E-A3B9-199864C74E8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марта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Умножение матриц ассоциативн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11" name="GRLINE1" descr=""/>
          <p:cNvPicPr/>
          <p:nvPr/>
        </p:nvPicPr>
        <p:blipFill>
          <a:blip r:embed="rId2"/>
          <a:stretch/>
        </p:blipFill>
        <p:spPr>
          <a:xfrm>
            <a:off x="304920" y="1600200"/>
            <a:ext cx="5143320" cy="3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 Лекция 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D98C-BC94-4C4E-A92D-FEF506724DE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марта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уперпозиция преобразован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14" name="GRLINE1" descr=""/>
          <p:cNvPicPr/>
          <p:nvPr/>
        </p:nvPicPr>
        <p:blipFill>
          <a:blip r:embed="rId2"/>
          <a:stretch/>
        </p:blipFill>
        <p:spPr>
          <a:xfrm>
            <a:off x="304920" y="1600200"/>
            <a:ext cx="5143320" cy="3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 Лекция 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A66E-FAA8-450D-97E3-A2F078985BE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марта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оективные преобразования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3D-PROJ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7772400" cy="1181160"/>
          </a:xfrm>
          <a:prstGeom prst="rect">
            <a:avLst/>
          </a:prstGeom>
          <a:ln w="0">
            <a:noFill/>
          </a:ln>
        </p:spPr>
      </p:pic>
      <p:pic>
        <p:nvPicPr>
          <p:cNvPr id="117" name="pr-tran-1" descr=""/>
          <p:cNvPicPr/>
          <p:nvPr/>
        </p:nvPicPr>
        <p:blipFill>
          <a:blip r:embed="rId2"/>
          <a:stretch/>
        </p:blipFill>
        <p:spPr>
          <a:xfrm>
            <a:off x="762120" y="3886200"/>
            <a:ext cx="7696080" cy="113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 Лекция 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2593-4CC5-455A-9AA7-189D5C82BAF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марта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оективные преобразования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= 2x' + y'     y = x' + y'    w = 2x' + y' + w'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кружность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2xy + 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4xw - 2yw - w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арабола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2xy + 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4x - 2y - 1 = 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 Лекция 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2E1A-5E70-46E8-A01B-E376DE6DE56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марта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85800" y="1905120"/>
          <a:ext cx="7772400" cy="3903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05120"/>
                    <a:ext cx="7772400" cy="39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3" name="GRLINE1" descr=""/>
          <p:cNvPicPr/>
          <p:nvPr/>
        </p:nvPicPr>
        <p:blipFill>
          <a:blip r:embed="rId3"/>
          <a:stretch/>
        </p:blipFill>
        <p:spPr>
          <a:xfrm>
            <a:off x="533520" y="1676520"/>
            <a:ext cx="5143320" cy="3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 Лекция 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6F3C-A43A-4AB8-9B67-627A4E89F1A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марта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Решение задач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(-1,-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h(-1,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(1,2.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(4,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’= T(4,0)*S(1,2.5)*Sh(-1,0)*T(-1,-1)*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 Лекция 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667F-E533-4829-8C00-B35DDC86149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марта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ерархия преобразований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28" name="GRLINE1" descr=""/>
          <p:cNvPicPr/>
          <p:nvPr/>
        </p:nvPicPr>
        <p:blipFill>
          <a:blip r:embed="rId2"/>
          <a:stretch/>
        </p:blipFill>
        <p:spPr>
          <a:xfrm>
            <a:off x="304920" y="1600200"/>
            <a:ext cx="5143320" cy="3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 Лекция 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EB12-FA0D-4139-932E-FFDCB7FC948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марта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елинейные преобразования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5800" y="2438280"/>
            <a:ext cx="7772400" cy="2716200"/>
          </a:xfrm>
          <a:prstGeom prst="rect">
            <a:avLst/>
          </a:prstGeom>
          <a:ln w="0">
            <a:noFill/>
          </a:ln>
        </p:spPr>
      </p:pic>
      <p:pic>
        <p:nvPicPr>
          <p:cNvPr id="48" name="GRLINE1" descr=""/>
          <p:cNvPicPr/>
          <p:nvPr/>
        </p:nvPicPr>
        <p:blipFill>
          <a:blip r:embed="rId2"/>
          <a:stretch/>
        </p:blipFill>
        <p:spPr>
          <a:xfrm>
            <a:off x="533520" y="1676520"/>
            <a:ext cx="5143320" cy="3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 Лекция 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5E2A-8D3D-4170-919B-B243F0DB779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марта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ерархия преобразований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31" name="GRLINE1" descr=""/>
          <p:cNvPicPr/>
          <p:nvPr/>
        </p:nvPicPr>
        <p:blipFill>
          <a:blip r:embed="rId2"/>
          <a:stretch/>
        </p:blipFill>
        <p:spPr>
          <a:xfrm>
            <a:off x="304920" y="1600200"/>
            <a:ext cx="5143320" cy="3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 Лекция 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15EF-E342-47B7-8172-BCC8B0899B52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марта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34" name="GRLINE1" descr=""/>
          <p:cNvPicPr/>
          <p:nvPr/>
        </p:nvPicPr>
        <p:blipFill>
          <a:blip r:embed="rId2"/>
          <a:stretch/>
        </p:blipFill>
        <p:spPr>
          <a:xfrm>
            <a:off x="304920" y="1600200"/>
            <a:ext cx="5143320" cy="3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 Лекция 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4394-E98D-4575-83A7-2DB83DA1FC6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марта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37" name="GRLINE1" descr=""/>
          <p:cNvPicPr/>
          <p:nvPr/>
        </p:nvPicPr>
        <p:blipFill>
          <a:blip r:embed="rId2"/>
          <a:stretch/>
        </p:blipFill>
        <p:spPr>
          <a:xfrm>
            <a:off x="304920" y="1600200"/>
            <a:ext cx="5143320" cy="3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 Лекция 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7D61-907B-4FCE-8BB1-BA0AC1284E1D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марта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40" name="GRLINE1" descr=""/>
          <p:cNvPicPr/>
          <p:nvPr/>
        </p:nvPicPr>
        <p:blipFill>
          <a:blip r:embed="rId2"/>
          <a:stretch/>
        </p:blipFill>
        <p:spPr>
          <a:xfrm>
            <a:off x="304920" y="1600200"/>
            <a:ext cx="5143320" cy="3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 Лекция 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7D49-19F3-4BBF-83C9-8651954F2812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марта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43" name="GRLINE1" descr=""/>
          <p:cNvPicPr/>
          <p:nvPr/>
        </p:nvPicPr>
        <p:blipFill>
          <a:blip r:embed="rId2"/>
          <a:stretch/>
        </p:blipFill>
        <p:spPr>
          <a:xfrm>
            <a:off x="304920" y="1600200"/>
            <a:ext cx="5143320" cy="3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 Лекция 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E5A8-7581-445F-976E-E3D561B8B71D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марта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имер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46" name="GRLINE1" descr=""/>
          <p:cNvPicPr/>
          <p:nvPr/>
        </p:nvPicPr>
        <p:blipFill>
          <a:blip r:embed="rId2"/>
          <a:stretch/>
        </p:blipFill>
        <p:spPr>
          <a:xfrm>
            <a:off x="304920" y="1600200"/>
            <a:ext cx="5143320" cy="3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 Лекция 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94AB-C3A0-4CFD-A201-11F416A3D8D4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марта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имер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49" name="GRLINE1" descr=""/>
          <p:cNvPicPr/>
          <p:nvPr/>
        </p:nvPicPr>
        <p:blipFill>
          <a:blip r:embed="rId2"/>
          <a:stretch/>
        </p:blipFill>
        <p:spPr>
          <a:xfrm>
            <a:off x="304920" y="1600200"/>
            <a:ext cx="5143320" cy="3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 Лекция 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75AA-737C-458B-AD57-359044274DC8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марта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имер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52" name="GRLINE1" descr=""/>
          <p:cNvPicPr/>
          <p:nvPr/>
        </p:nvPicPr>
        <p:blipFill>
          <a:blip r:embed="rId2"/>
          <a:stretch/>
        </p:blipFill>
        <p:spPr>
          <a:xfrm>
            <a:off x="304920" y="1600200"/>
            <a:ext cx="5143320" cy="3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 Лекция 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D164-AB06-4B59-A476-3A4380E1DE8E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марта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имер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55" name="GRLINE1" descr=""/>
          <p:cNvPicPr/>
          <p:nvPr/>
        </p:nvPicPr>
        <p:blipFill>
          <a:blip r:embed="rId2"/>
          <a:stretch/>
        </p:blipFill>
        <p:spPr>
          <a:xfrm>
            <a:off x="304920" y="1600200"/>
            <a:ext cx="5143320" cy="3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 Лекция 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D6A6-C4A4-4585-94D8-07E4A2E7BC81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марта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нвейер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Pipelin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modelview1" descr=""/>
          <p:cNvPicPr/>
          <p:nvPr/>
        </p:nvPicPr>
        <p:blipFill>
          <a:blip r:embed="rId1"/>
          <a:stretch/>
        </p:blipFill>
        <p:spPr>
          <a:xfrm>
            <a:off x="1295280" y="1797120"/>
            <a:ext cx="6477120" cy="2276280"/>
          </a:xfrm>
          <a:prstGeom prst="rect">
            <a:avLst/>
          </a:prstGeom>
          <a:ln w="0">
            <a:noFill/>
          </a:ln>
        </p:spPr>
      </p:pic>
      <p:pic>
        <p:nvPicPr>
          <p:cNvPr id="158" name="modelview3" descr=""/>
          <p:cNvPicPr/>
          <p:nvPr/>
        </p:nvPicPr>
        <p:blipFill>
          <a:blip r:embed="rId2"/>
          <a:stretch/>
        </p:blipFill>
        <p:spPr>
          <a:xfrm>
            <a:off x="1600200" y="4114800"/>
            <a:ext cx="5943600" cy="204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 Лекция 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5715-5C5F-4BFD-A640-937F376641D3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марта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елинейные преобразования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543800" cy="2663640"/>
          </a:xfrm>
          <a:prstGeom prst="rect">
            <a:avLst/>
          </a:prstGeom>
          <a:ln w="0">
            <a:noFill/>
          </a:ln>
        </p:spPr>
      </p:pic>
      <p:pic>
        <p:nvPicPr>
          <p:cNvPr id="51" name="GRLINE1" descr=""/>
          <p:cNvPicPr/>
          <p:nvPr/>
        </p:nvPicPr>
        <p:blipFill>
          <a:blip r:embed="rId2"/>
          <a:stretch/>
        </p:blipFill>
        <p:spPr>
          <a:xfrm>
            <a:off x="533520" y="1676520"/>
            <a:ext cx="5143320" cy="3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 Лекция 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2A78-14E0-42D5-86F0-9DFFF4A53B4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марта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ировые и экранные координат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328760" y="2190600"/>
            <a:ext cx="6486480" cy="2476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 Лекция 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C941-5EF7-4714-8E10-BCA027D0888A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марта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ировые и экранные координаты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62120" y="2190600"/>
            <a:ext cx="7391160" cy="2820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 Лекция 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F201-594D-451B-ABF6-5D57E5A96450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марта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ировые и экранные координаты (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62120" y="2171880"/>
            <a:ext cx="7619760" cy="327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 Лекция 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B197-FA9C-46A7-B823-9BEC5953DCE9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марта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ировые и экранные координаты (4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f5-33" descr=""/>
          <p:cNvPicPr/>
          <p:nvPr/>
        </p:nvPicPr>
        <p:blipFill>
          <a:blip r:embed="rId1"/>
          <a:stretch/>
        </p:blipFill>
        <p:spPr>
          <a:xfrm>
            <a:off x="1066680" y="4724280"/>
            <a:ext cx="5600880" cy="581040"/>
          </a:xfrm>
          <a:prstGeom prst="rect">
            <a:avLst/>
          </a:prstGeom>
          <a:ln w="0">
            <a:noFill/>
          </a:ln>
        </p:spPr>
      </p:pic>
      <p:pic>
        <p:nvPicPr>
          <p:cNvPr id="167" name="f5-34" descr=""/>
          <p:cNvPicPr/>
          <p:nvPr/>
        </p:nvPicPr>
        <p:blipFill>
          <a:blip r:embed="rId2"/>
          <a:stretch/>
        </p:blipFill>
        <p:spPr>
          <a:xfrm>
            <a:off x="1066680" y="5334120"/>
            <a:ext cx="6276960" cy="6760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1066680" y="1752480"/>
            <a:ext cx="7010640" cy="28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 Лекция 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57A3-127F-446E-9876-AF0298B8BC33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марта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Центральная и параллельная проекц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2205000"/>
            <a:ext cx="7696080" cy="283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 Лекция 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8791-BC20-40BC-8C29-4E7975D47B8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марта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ипы проекци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676520" y="1609560"/>
            <a:ext cx="6095880" cy="428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 Лекция 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6C86-6F8D-4011-915E-1BDAD9038FF4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марта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ртографическая проекц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6324480" cy="4721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 Лекция 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4C5C-188A-4A99-A9C5-CF9AB12A8696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марта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зометр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838080" y="2095560"/>
            <a:ext cx="7620120" cy="3271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 Лекция 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F8A2-67C1-46E2-8DE4-03513B38D87C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марта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енная проекция 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VALIER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143000" y="2095560"/>
            <a:ext cx="7010280" cy="367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 Лекция 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6376-E855-47A6-A222-3C7464EDD81E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марта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бинетная проекция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CABINET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838080" y="2233440"/>
            <a:ext cx="7391520" cy="365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 Лекция 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E013-F26A-4EAF-ABE6-4D852F7BCE9D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марта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инейные преобразования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ansform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54" name="GRLINE1" descr=""/>
          <p:cNvPicPr/>
          <p:nvPr/>
        </p:nvPicPr>
        <p:blipFill>
          <a:blip r:embed="rId2"/>
          <a:stretch/>
        </p:blipFill>
        <p:spPr>
          <a:xfrm>
            <a:off x="380880" y="1752480"/>
            <a:ext cx="5143680" cy="3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 Лекция 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3368-87CD-4958-A551-6E656EE8B57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марта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осоугольные проекц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Направление проецировани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Угол между косыми проекторами и плоскостью проекц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Военная проекци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Кабинетная проекци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5108400" y="2438280"/>
                <a:ext cx="147168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l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,</m:t>
                    </m:r>
                    <m:r>
                      <m:t xml:space="preserve">l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5105520" y="3352680"/>
                <a:ext cx="125244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ctg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5105520" y="4038480"/>
                <a:ext cx="179064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ctg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5105520" y="4724280"/>
                <a:ext cx="241776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ctg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 Лекция 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5B23-12A8-40FC-B7C8-AAD0943033A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марта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соугольные проекции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838080" y="4572000"/>
                <a:ext cx="160020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85800" y="2387520"/>
            <a:ext cx="7772400" cy="187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 Лекция 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EA77-9322-4B62-B68F-54895D5AAB37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марта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Фотограф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685800" y="2371680"/>
            <a:ext cx="7772400" cy="337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 Лекция 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2ED3-AC3B-41B3-B4EC-3CFA6DC9090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марта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ерспективная проекц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3316320" cy="35812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2743200" y="5486400"/>
            <a:ext cx="6095880" cy="6415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4876920" y="4419720"/>
            <a:ext cx="3962160" cy="9093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3809880" y="1600200"/>
            <a:ext cx="5124600" cy="2533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 Лекция 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9D94-6D29-47CF-8C3F-B92F9A73406C}" type="slidenum">
              <a:t>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марта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вухточечная проекц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09480" y="1990800"/>
            <a:ext cx="7925040" cy="3279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 Лекция 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E17E-179D-41BC-B75E-DC517259B7E8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марта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идовое преобразование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Viewing transformatio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7467840" cy="380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 Лекция 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7EBC-B7DB-44E8-A3EA-F2CD2B78BAD1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марта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85800" y="2209680"/>
            <a:ext cx="7772400" cy="328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 Лекция 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1A94-14DB-4939-BD5C-8604CFB2D0E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марта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752480" y="1905120"/>
            <a:ext cx="5715000" cy="430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 Лекция 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25AB-CE47-44C9-B7E9-E4B34A3BF51A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марта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447920" y="2171880"/>
            <a:ext cx="6172200" cy="408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 Лекция 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B051-9DB8-4D79-A7D4-CE358C55E08E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марта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143000" y="1990800"/>
            <a:ext cx="6934320" cy="409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 Лекция 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A0E5-6A6A-45B9-AF5B-B60E0804E292}" type="slidenum">
              <a:t>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марта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ерено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57" name="GRLINE1" descr=""/>
          <p:cNvPicPr/>
          <p:nvPr/>
        </p:nvPicPr>
        <p:blipFill>
          <a:blip r:embed="rId2"/>
          <a:stretch/>
        </p:blipFill>
        <p:spPr>
          <a:xfrm>
            <a:off x="533520" y="1600200"/>
            <a:ext cx="5143320" cy="3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 Лекция 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C44A-5C29-4EC6-9708-46EA623E643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марта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260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 Лекция 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131C-1E32-4370-B527-ECA7958790B0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марта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914400" y="1989000"/>
            <a:ext cx="7391520" cy="419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 Лекция 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4572-3B48-4522-8B2B-A05C4EE8960F}" type="slidenum">
              <a:t>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марта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тсечение 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PPING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6315120" cy="378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 Лекция 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1640-DCEF-4632-999B-457830B9884E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марта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нвейер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Pipelin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modelview1" descr=""/>
          <p:cNvPicPr/>
          <p:nvPr/>
        </p:nvPicPr>
        <p:blipFill>
          <a:blip r:embed="rId1"/>
          <a:stretch/>
        </p:blipFill>
        <p:spPr>
          <a:xfrm>
            <a:off x="1295280" y="1797120"/>
            <a:ext cx="6477120" cy="2276280"/>
          </a:xfrm>
          <a:prstGeom prst="rect">
            <a:avLst/>
          </a:prstGeom>
          <a:ln w="0">
            <a:noFill/>
          </a:ln>
        </p:spPr>
      </p:pic>
      <p:pic>
        <p:nvPicPr>
          <p:cNvPr id="219" name="modelview3" descr=""/>
          <p:cNvPicPr/>
          <p:nvPr/>
        </p:nvPicPr>
        <p:blipFill>
          <a:blip r:embed="rId2"/>
          <a:stretch/>
        </p:blipFill>
        <p:spPr>
          <a:xfrm>
            <a:off x="1600200" y="4114800"/>
            <a:ext cx="5943600" cy="204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 Лекция 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F46D-9029-47BF-BABC-1997CDC8B11C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марта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мера в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enG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Positioning the camera in OpenG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The OpenGL auxilliary library provides the call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gluLookAt(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to create the viewing transforma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gluLookAt(ex,ey,ez,rx,ry,rz,ux,uy,uz&gt;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(ex,ey,ez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gives the eye point,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(rx,ry,rz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gives the reference or 'lookat' point, and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(ux,uy,uz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gives the up vecto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This function call postmultiplies the current matrix, so the easiest way to use it i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glMatrixMode(GL_MODELVIEW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glLoadIdentity()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gluLookAt(ex,ey,ez,rx,ry,rz,ux,uy,uz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/* setup modelling transformations here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 Лекция 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C6DC-6981-4121-9706-E5BEBD2F86B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марта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Локальные модели освещ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свещение и отраже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133720" y="1790640"/>
            <a:ext cx="5029200" cy="44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 Лекция 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FEE4-28B8-407C-BF81-7A4193B599D2}" type="slidenum">
              <a:t>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марта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Функции освещения и отраж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934320" cy="439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 Лекция 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12DF-5376-48A6-8BB8-B30ACD225AA1}" type="slidenum">
              <a:t>6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марта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иффузное и зеркальное отраже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14400" y="2181240"/>
            <a:ext cx="7315200" cy="381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 Лекция 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16D9-80EB-4831-BF83-6473E2CC4856}" type="slidenum">
              <a:t>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марта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Функции отраж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SLIDE001" descr=""/>
          <p:cNvPicPr/>
          <p:nvPr/>
        </p:nvPicPr>
        <p:blipFill>
          <a:blip r:embed="rId1"/>
          <a:stretch/>
        </p:blipFill>
        <p:spPr>
          <a:xfrm>
            <a:off x="1676520" y="1712880"/>
            <a:ext cx="5943600" cy="459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 Лекция 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BE32-169C-4E85-8021-4A75C9D326C7}" type="slidenum">
              <a:t>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марта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асштабиров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60" name="GRLINE1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5143680" cy="3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 Лекция 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1581-C1AD-462D-9A86-96BF449092F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марта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иффузное отраже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938160" y="2014560"/>
            <a:ext cx="7267680" cy="28288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1066680" y="5181480"/>
            <a:ext cx="6782040" cy="701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 Лекция 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F91A-9735-4A16-94BD-AE76DC56FC20}" type="slidenum">
              <a:t>7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марта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Зеркальное отраже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6781680" cy="4481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 Лекция 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F796-2342-4695-AD95-F7C64B1D85A0}" type="slidenum">
              <a:t>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марта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одель Фонг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066680" y="2371680"/>
            <a:ext cx="6782040" cy="3584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 Лекция 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04E0-F30F-4E31-ACA5-6C59B6838E0F}" type="slidenum">
              <a:t>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марта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ворот (вращение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63" name="GRLINE1" descr=""/>
          <p:cNvPicPr/>
          <p:nvPr/>
        </p:nvPicPr>
        <p:blipFill>
          <a:blip r:embed="rId2"/>
          <a:stretch/>
        </p:blipFill>
        <p:spPr>
          <a:xfrm>
            <a:off x="457200" y="1676520"/>
            <a:ext cx="5143680" cy="3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 Лекция 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F8AB-76E6-4216-98FF-5EC4C588CD2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марта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еобразования в матричной форм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66" name="GRLINE1" descr=""/>
          <p:cNvPicPr/>
          <p:nvPr/>
        </p:nvPicPr>
        <p:blipFill>
          <a:blip r:embed="rId2"/>
          <a:stretch/>
        </p:blipFill>
        <p:spPr>
          <a:xfrm>
            <a:off x="533520" y="1752480"/>
            <a:ext cx="5143320" cy="3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 Лекция 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709E-3E0A-4F3F-89DE-D6D221A5F45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марта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5T12:56:05Z</dcterms:created>
  <dc:creator>ymb</dc:creator>
  <dc:description/>
  <dc:language>en-US</dc:language>
  <cp:lastModifiedBy>ymb</cp:lastModifiedBy>
  <cp:lastPrinted>2002-03-25T18:03:38Z</cp:lastPrinted>
  <dcterms:modified xsi:type="dcterms:W3CDTF">2003-03-25T10:51:22Z</dcterms:modified>
  <cp:revision>27</cp:revision>
  <dc:subject/>
  <dc:title>Лекция 7</dc:title>
</cp:coreProperties>
</file>