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ACE-2AE1-4AE9-9728-12FFC9B0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35C-A096-4243-A20B-C68CAB30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F7E-2C56-4A97-AAAC-2F2BF15E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DCC-22EB-4A5B-9C3F-43BF7D6A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F5C-CC0D-4DE3-AFCD-9D73BE04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9CD-F27A-485E-A95E-3A6105F8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65F-E598-40A4-9436-0D77AA4A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7F8-5CE8-4122-9A53-D9DC1799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A34-ECD8-463B-9C79-B422799F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76C-6BA9-4CD0-AAB4-9C9B0169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BEB7-8AE0-4048-BABA-1E336362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AAB5-3CB7-4014-B331-384E0039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42A6-131E-481C-95D8-EBAB8C0BE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екция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Графический проце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Геометрическое модел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GRLINE1" descr=""/>
          <p:cNvPicPr/>
          <p:nvPr/>
        </p:nvPicPr>
        <p:blipFill>
          <a:blip r:embed="rId1"/>
          <a:stretch/>
        </p:blipFill>
        <p:spPr>
          <a:xfrm>
            <a:off x="1905120" y="35053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9C5B-FA8C-4260-B357-2B24E60075F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истема координа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9" name="GRLINE1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514368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300-B0D5-44A8-A907-179F97BAC9D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GRLINE1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514368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E864-2935-4041-BC4D-01B1078B4C7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ркасное представление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refram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блица верш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1        1    1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2        1   -1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3       -1   -1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4       -1    1   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5        1    1  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6        1   -1  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7       -1   -1  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8       -1    1   -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блица реб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(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2)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2,3)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3,4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5,6)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(5,6)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(6,7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(7,8)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(8,5)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(1,5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(2,6)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(3,7)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12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(4,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UBE-F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6" name="GRLINE1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082-B6E3-4A0B-8712-E0B93495831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однозначная интерпрет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UBE-W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80" name="CUBE" descr=""/>
          <p:cNvPicPr/>
          <p:nvPr/>
        </p:nvPicPr>
        <p:blipFill>
          <a:blip r:embed="rId2"/>
          <a:stretch/>
        </p:blipFill>
        <p:spPr>
          <a:xfrm>
            <a:off x="4191120" y="3124080"/>
            <a:ext cx="4800600" cy="1739880"/>
          </a:xfrm>
          <a:prstGeom prst="rect">
            <a:avLst/>
          </a:prstGeom>
          <a:ln w="0">
            <a:noFill/>
          </a:ln>
        </p:spPr>
      </p:pic>
      <p:pic>
        <p:nvPicPr>
          <p:cNvPr id="81" name="GRLINE1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39C-DAD2-4F1E-A0B7-72A77221DF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рани и Реб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ace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{A,B,D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{B,C,D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{A,C,D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{A,B,C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dge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(A,D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(A,B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ING-2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85" name="GRLINE1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05D4-15AC-44B9-8E0A-0C8738705B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верх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 Мёбиу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O-CUBE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89" name="MOBIUS" descr=""/>
          <p:cNvPicPr/>
          <p:nvPr/>
        </p:nvPicPr>
        <p:blipFill>
          <a:blip r:embed="rId2"/>
          <a:stretch/>
        </p:blipFill>
        <p:spPr>
          <a:xfrm>
            <a:off x="4648320" y="2819520"/>
            <a:ext cx="3809880" cy="2517480"/>
          </a:xfrm>
          <a:prstGeom prst="rect">
            <a:avLst/>
          </a:prstGeom>
          <a:ln w="0">
            <a:noFill/>
          </a:ln>
        </p:spPr>
      </p:pic>
      <p:pic>
        <p:nvPicPr>
          <p:cNvPr id="90" name="GRLINE1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9F4-4FE4-45D4-8D6D-1050A1E9B5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ничное представление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ndary Representation (B-Re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dg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Vertices    Faces    Left      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End  Star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2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b  d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e     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WING-1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94" name="WING-0" descr=""/>
          <p:cNvPicPr/>
          <p:nvPr/>
        </p:nvPicPr>
        <p:blipFill>
          <a:blip r:embed="rId2"/>
          <a:stretch/>
        </p:blipFill>
        <p:spPr>
          <a:xfrm>
            <a:off x="5638680" y="2895480"/>
            <a:ext cx="2808360" cy="3276720"/>
          </a:xfrm>
          <a:prstGeom prst="rect">
            <a:avLst/>
          </a:prstGeom>
          <a:ln w="0">
            <a:noFill/>
          </a:ln>
        </p:spPr>
      </p:pic>
      <p:pic>
        <p:nvPicPr>
          <p:cNvPr id="95" name="GRLINE1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0F6-C8E0-4B21-91A3-A071E6E22F1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структивная геометрия те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ctive Solid Geometry (CS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GRLINE1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BEE6-EF06-440B-A7E5-28038EED245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ерации с телами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GRLINE1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042-58AB-4E7E-9B1B-8E52328CE1A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ерации с телами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GRLINE1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425-97A3-4CA1-BE8B-77030BD2064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омпьютерная графика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&amp;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Компьютерное зр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4582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AC49-CCD5-4197-866C-5C502B2804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diff(union(trans(Block1), trans(Block2))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rans(Cylinder))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676520" y="4038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952880" y="40384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10" name="GRLINE1" descr=""/>
          <p:cNvPicPr/>
          <p:nvPr/>
        </p:nvPicPr>
        <p:blipFill>
          <a:blip r:embed="rId5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376-C10A-45D1-A034-D4BF0D2E99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(trans(Block1) + trans(Block2)) - trans(Cylinder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782040" cy="4314960"/>
          </a:xfrm>
          <a:prstGeom prst="rect">
            <a:avLst/>
          </a:prstGeom>
          <a:ln w="0">
            <a:noFill/>
          </a:ln>
        </p:spPr>
      </p:pic>
      <p:pic>
        <p:nvPicPr>
          <p:cNvPr id="113" name="GRLINE1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33B-64BD-4B47-B943-07DE1F7E30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верхности вращ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6" name="GRLINE1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63BF-DB06-45AF-B099-DCE546FC4B6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мет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9" name="GRLINE1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7C5-A895-460B-A23E-AB1D2CED44E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кселное представл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172200" cy="4097160"/>
          </a:xfrm>
          <a:prstGeom prst="rect">
            <a:avLst/>
          </a:prstGeom>
          <a:ln w="0">
            <a:noFill/>
          </a:ln>
        </p:spPr>
      </p:pic>
      <p:pic>
        <p:nvPicPr>
          <p:cNvPr id="122" name="GRLINE1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A7B-9898-4BBF-9C10-BA8330B87D4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тарное дерево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ct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051080" cy="4419720"/>
          </a:xfrm>
          <a:prstGeom prst="rect">
            <a:avLst/>
          </a:prstGeom>
          <a:ln w="0">
            <a:noFill/>
          </a:ln>
        </p:spPr>
      </p:pic>
      <p:pic>
        <p:nvPicPr>
          <p:cNvPr id="125" name="GRLINE1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7BF-7FA0-4C85-9556-204476EAB04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вейер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Pipelin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modelview1" descr=""/>
          <p:cNvPicPr/>
          <p:nvPr/>
        </p:nvPicPr>
        <p:blipFill>
          <a:blip r:embed="rId1"/>
          <a:stretch/>
        </p:blipFill>
        <p:spPr>
          <a:xfrm>
            <a:off x="1295280" y="1797120"/>
            <a:ext cx="6477120" cy="2276280"/>
          </a:xfrm>
          <a:prstGeom prst="rect">
            <a:avLst/>
          </a:prstGeom>
          <a:ln w="0">
            <a:noFill/>
          </a:ln>
        </p:spPr>
      </p:pic>
      <p:pic>
        <p:nvPicPr>
          <p:cNvPr id="128" name="modelview3" descr=""/>
          <p:cNvPicPr/>
          <p:nvPr/>
        </p:nvPicPr>
        <p:blipFill>
          <a:blip r:embed="rId2"/>
          <a:stretch/>
        </p:blipFill>
        <p:spPr>
          <a:xfrm>
            <a:off x="1600200" y="4114800"/>
            <a:ext cx="5943600" cy="204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B558-A34D-491A-BF9C-F81D42CE4B1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геометрических преобразов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ометрия (сохраняются расстояния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мпозиция поворотов и перено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обие (сохраняются углы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сштаб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ффинные преобразование (сохраняется параллельность линий) сдви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ейные (проективные) преобразования (прямые переходят в прямы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линейные пре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GRLINE1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C28B-8029-4B23-895C-5D8F4F0EBC9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линейные преобразования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72400" cy="2716200"/>
          </a:xfrm>
          <a:prstGeom prst="rect">
            <a:avLst/>
          </a:prstGeom>
          <a:ln w="0">
            <a:noFill/>
          </a:ln>
        </p:spPr>
      </p:pic>
      <p:pic>
        <p:nvPicPr>
          <p:cNvPr id="134" name="GRLINE1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F4F-2281-401B-8FCF-51E52E090AE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линейные преобразования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543800" cy="2663640"/>
          </a:xfrm>
          <a:prstGeom prst="rect">
            <a:avLst/>
          </a:prstGeom>
          <a:ln w="0">
            <a:noFill/>
          </a:ln>
        </p:spPr>
      </p:pic>
      <p:pic>
        <p:nvPicPr>
          <p:cNvPr id="137" name="GRLINE1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85F-32A5-4150-8B08-E0A1EAFC958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овая схема графической обрабо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8" name="GRLINE1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1F1-1721-40C4-8DB7-2D14A42C4A2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ейные преобразован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0" name="GRLINE1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514368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2CA-5870-474F-B3B5-76CA630450D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3" name="GRLINE1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F00-3F1F-48D3-96A9-E80D597342F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сштаб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6" name="GRLIN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514368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4AF5-12EA-43C5-9A94-EEAD9E8B3C3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еометрическое модел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GRLINE1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3144-6155-44CA-83B7-19606264953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ехмерная аним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GRLIN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514368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D50D-E015-494E-B57E-76F674ECB70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ур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7" name="GRLINE1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514368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BA0-85F1-42FB-AD6C-F0E0DC99745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интез изображений (экранизация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GRLINE1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E212-570D-450F-BF74-81BF1315FDB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ранение и вывод изобра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GRLINE1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E22-4395-4855-B3B3-D98619E666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еометрическое модел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686800" cy="3957840"/>
          </a:xfrm>
          <a:prstGeom prst="rect">
            <a:avLst/>
          </a:prstGeom>
          <a:ln w="0">
            <a:noFill/>
          </a:ln>
        </p:spPr>
      </p:pic>
      <p:pic>
        <p:nvPicPr>
          <p:cNvPr id="66" name="GRLINE1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2EC-D59D-4E0C-8F7F-52111E506D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марта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03:14Z</dcterms:created>
  <dc:creator>ymb</dc:creator>
  <dc:description/>
  <dc:language>en-US</dc:language>
  <cp:lastModifiedBy>ymb</cp:lastModifiedBy>
  <cp:lastPrinted>2002-03-15T17:57:59Z</cp:lastPrinted>
  <dcterms:modified xsi:type="dcterms:W3CDTF">2003-03-19T12:32:03Z</dcterms:modified>
  <cp:revision>26</cp:revision>
  <dc:subject/>
  <dc:title>Заголовок слайда отсутству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H:\ymb\CG-2002\Lectures\2002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