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4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wmf" ContentType="image/x-wmf"/>
  <Override PartName="/ppt/media/image27.wmf" ContentType="image/x-wmf"/>
  <Override PartName="/ppt/media/image26.wmf" ContentType="image/x-wmf"/>
  <Override PartName="/ppt/media/image24.wmf" ContentType="image/x-wmf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8.png" ContentType="image/png"/>
  <Override PartName="/ppt/media/image13.png" ContentType="image/png"/>
  <Override PartName="/ppt/media/image33.wmf" ContentType="image/x-wmf"/>
  <Override PartName="/ppt/media/image9.png" ContentType="image/png"/>
  <Override PartName="/ppt/media/image30.jpeg" ContentType="image/jpeg"/>
  <Override PartName="/ppt/media/image35.wmf" ContentType="image/x-wmf"/>
  <Override PartName="/ppt/media/image15.png" ContentType="image/png"/>
  <Override PartName="/ppt/media/image32.png" ContentType="image/png"/>
  <Override PartName="/ppt/media/image37.png" ContentType="image/png"/>
  <Override PartName="/ppt/media/image7.png" ContentType="image/png"/>
  <Override PartName="/ppt/media/image10.wmf" ContentType="image/x-wmf"/>
  <Override PartName="/ppt/media/image11.png" ContentType="image/png"/>
  <Override PartName="/ppt/media/image34.wmf" ContentType="image/x-wmf"/>
  <Override PartName="/ppt/media/image14.png" ContentType="image/png"/>
  <Override PartName="/ppt/media/image12.png" ContentType="image/png"/>
  <Override PartName="/ppt/media/image36.png" ContentType="image/png"/>
  <Override PartName="/ppt/media/image6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5.wmf" ContentType="image/x-wmf"/>
  <Override PartName="/ppt/media/image29.wmf" ContentType="image/x-wmf"/>
  <Override PartName="/ppt/media/image31.png" ContentType="image/png"/>
  <Override PartName="/ppt/media/image1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5C155-B1A0-4101-8BF4-5C3D34E9A15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строго говоря не нулей, пересечений ну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строго говоря не нулей, пересечений ну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з строго говоря не нулей, пересечений нул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гладить – потом анализирова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ultisca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Multisca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бъяснить толком про нелинейность, убрать дуб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- анализ примитивов для распознавания объект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ратко и четко сформулировать, что говор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с – повернут, смещение, Превитт – небольшое усреднение (шум), Собель – примерно как гауссовское усред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ски зависит от характера шума, ориентация не ва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с – повернут, смещение, Превитт – небольшое усреднение (шум), Собель – примерно как гауссовское усред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ски зависит от характера шума, ориентация не ва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с – повернут, смещение, Превитт – небольшое усреднение (шум), Собель – примерно как гауссовское усред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ски зависит от характера шума, ориентация не ва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бертс – повернут, смещение, Превитт – небольшое усреднение (шум), Собель – примерно как гауссовское усредне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бор маски зависит от характера шума, ориентация не важн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1F481-0B56-476D-97BE-744CDFCA4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28EF5-3F10-4766-91F9-42C97F523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B4B2A-FD76-4CD3-A9E2-BC8F5DA76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92A8A-5F5A-4D2B-8E02-73B2472B06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4AE69-06A8-46BC-A60A-1BEDEFBBB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E20E1-C756-49CA-AE01-44A1478DD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4D1C7-3D5D-478A-8CF9-C0AEFEA3D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CC64A-288F-4FBC-BDD0-7F794F04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F087F-654B-4ABA-9B3F-1566F3F24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401693-A062-4A98-9DE6-7DB907258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A086B-355F-4E5F-8F19-027B93A8E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673-16A8-4F7F-A213-A66C27006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31DD31-1944-4A96-AFA2-0EB704C39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4951D-37E4-4D48-B172-3AF1A035B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76FA7F-6BE1-4C07-841D-447617B9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EC71F-9E06-49F2-9057-2532600A6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0212B-347B-42E2-A755-A3322483DE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D0B1E-B0FA-4BE7-AC0C-B722D3571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FB3E5-ECEF-4DD5-9791-2A807CC9D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795A2-0BBD-407F-88C5-22436875A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BCA98-D324-4434-AD9B-0370A31082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731C-3DA7-4215-928A-5883DE628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DCD90-CEEE-4F80-B3BF-56998BF24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FF2E5-D3F3-4463-ABA4-8C88A27FC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912F3-3458-4F83-9F2E-3AB00085F4AE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25667-65BE-4F06-9450-2ED011203AF1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34.wmf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нализ информации, содержащейся в изображен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примере бинарных изображений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"/>
          <p:cNvSpPr/>
          <p:nvPr/>
        </p:nvSpPr>
        <p:spPr>
          <a:xfrm>
            <a:off x="1752480" y="4876920"/>
            <a:ext cx="5715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Бинарное изображение – изображение, пиксели которого принимают всего два значения (0 и 1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150560" y="106632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нализ формы связных областе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7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85880" y="2139840"/>
            <a:ext cx="7904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лощадь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количество пикселей в об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ериметр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личество пикселей принадлежащих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ранице област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омпактность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ношение квадрата периметра к площад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9" name=""/>
              <p:cNvSpPr txBox="1"/>
              <p:nvPr/>
            </p:nvSpPr>
            <p:spPr>
              <a:xfrm>
                <a:off x="1143000" y="4419720"/>
                <a:ext cx="1066680" cy="88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50" name=""/>
          <p:cNvSpPr/>
          <p:nvPr/>
        </p:nvSpPr>
        <p:spPr>
          <a:xfrm>
            <a:off x="3124080" y="4419720"/>
            <a:ext cx="525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иболее компактная фигура – круг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    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1" name=""/>
              <p:cNvSpPr txBox="1"/>
              <p:nvPr/>
            </p:nvSpPr>
            <p:spPr>
              <a:xfrm>
                <a:off x="3200400" y="4761000"/>
                <a:ext cx="838080" cy="317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r>
                      <m:t xml:space="preserve">4</m:t>
                    </m:r>
                    <m:r>
                      <m:t xml:space="preserve">π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одсчет периметра обла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6480" y="2209680"/>
            <a:ext cx="9812520" cy="34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иксель лежит на границе области, если он сам принадлежит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ласти и хотя бы один из его соседей области не принадлежит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внутренняя гран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иксель лежит на границе области, если он сам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н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ринадлежит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ласти и хотя бы один из его соседей области принадлежит.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внешняя граница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иметр зависит также от того 4-х или 8-ми связность используетс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определения сосед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периметров обла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55" name="perims" descr=""/>
          <p:cNvPicPr/>
          <p:nvPr/>
        </p:nvPicPr>
        <p:blipFill>
          <a:blip r:embed="rId1"/>
          <a:stretch/>
        </p:blipFill>
        <p:spPr>
          <a:xfrm>
            <a:off x="1143000" y="1981080"/>
            <a:ext cx="6477120" cy="3657600"/>
          </a:xfrm>
          <a:prstGeom prst="rect">
            <a:avLst/>
          </a:prstGeom>
          <a:ln w="0">
            <a:noFill/>
          </a:ln>
        </p:spPr>
      </p:pic>
      <p:sp>
        <p:nvSpPr>
          <p:cNvPr id="356" name=""/>
          <p:cNvSpPr/>
          <p:nvPr/>
        </p:nvSpPr>
        <p:spPr>
          <a:xfrm>
            <a:off x="1648080" y="4800600"/>
            <a:ext cx="1006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бла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123720" y="5638680"/>
            <a:ext cx="2248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нутренняя г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490000" y="563868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нешняя границ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татистические моменты обла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0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85800" y="2133720"/>
            <a:ext cx="731520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искретный центральный момент m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ahoma"/>
              </a:rPr>
              <a:t>ij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ласти определяется следующим образом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2" name=""/>
              <p:cNvSpPr txBox="1"/>
              <p:nvPr/>
            </p:nvSpPr>
            <p:spPr>
              <a:xfrm>
                <a:off x="1724040" y="2971800"/>
                <a:ext cx="4325760" cy="1936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</m:sub>
                          <m:sup/>
                          <m:e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x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i</m:t>
                                </m:r>
                              </m:sup>
                            </m:sSup>
                            <m:r>
                              <m:t xml:space="preserve">(</m:t>
                            </m:r>
                            <m:r>
                              <m:t xml:space="preserve">y</m:t>
                            </m:r>
                            <m:r>
                              <m:t xml:space="preserve">−</m:t>
                            </m:r>
                            <m:bar>
                              <m:barPr>
                                <m:pos m:val="top"/>
                              </m:barPr>
                              <m:e>
                                <m:r>
                                  <m:t xml:space="preserve">y</m:t>
                                </m:r>
                              </m:e>
                            </m:bar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j</m:t>
                                </m:r>
                              </m:sup>
                            </m:sSup>
                          </m:e>
                        </m:nary>
                        <m:r>
                          <m:t xml:space="preserve">;</m:t>
                        </m:r>
                      </m:e>
                      <m:e>
                        <m:bar>
                          <m:barPr>
                            <m:pos m:val="top"/>
                          </m:barPr>
                          <m:e>
                            <m:r>
                              <m:t xml:space="preserve">x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</m:sub>
                          <m:sup/>
                          <m:e>
                            <m:r>
                              <m:t xml:space="preserve">x</m:t>
                            </m:r>
                          </m:e>
                        </m:nary>
                        <m:r>
                          <m:t xml:space="preserve">;</m:t>
                        </m:r>
                        <m:r>
                          <m:rPr>
                            <m:lit/>
                            <m:nor/>
                          </m:rPr>
                          <m:t xml:space="preserve">    </m:t>
                        </m:r>
                        <m:bar>
                          <m:barPr>
                            <m:pos m:val="top"/>
                          </m:barPr>
                          <m:e>
                            <m:r>
                              <m:t xml:space="preserve">y</m:t>
                            </m:r>
                          </m:e>
                        </m:bar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,</m:t>
                            </m:r>
                            <m:r>
                              <m:t xml:space="preserve">y</m:t>
                            </m:r>
                            <m:r>
                              <m:t xml:space="preserve">)</m:t>
                            </m:r>
                            <m:r>
                              <m:t xml:space="preserve">∈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Reg</m:t>
                            </m:r>
                          </m:sub>
                          <m:sup/>
                          <m:e>
                            <m:r>
                              <m:t xml:space="preserve">y</m:t>
                            </m:r>
                          </m:e>
                        </m:nary>
                        <m:r>
                          <m:t xml:space="preserve">;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363" name=""/>
          <p:cNvSpPr/>
          <p:nvPr/>
        </p:nvSpPr>
        <p:spPr>
          <a:xfrm>
            <a:off x="762120" y="5029200"/>
            <a:ext cx="7315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n – общее количество пикселей в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нвариантные характеристики обла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65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62120" y="2133720"/>
            <a:ext cx="7315200" cy="36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распознавания нас интересуют характеристики инвариантные по отношению к масштабированию, переносу, повороту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Удлиненность, нецентрированность (эксцентрисит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омпакт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67" name=""/>
              <p:cNvSpPr txBox="1"/>
              <p:nvPr/>
            </p:nvSpPr>
            <p:spPr>
              <a:xfrm>
                <a:off x="990720" y="5181480"/>
                <a:ext cx="914400" cy="628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C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68" name=""/>
              <p:cNvSpPr txBox="1"/>
              <p:nvPr/>
            </p:nvSpPr>
            <p:spPr>
              <a:xfrm>
                <a:off x="914400" y="3886200"/>
                <a:ext cx="512136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elongation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+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20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02</m:t>
                            </m:r>
                          </m:sub>
                        </m:sSub>
                        <m:r>
                          <m:t xml:space="preserve">−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  <m:sSup>
                              <m:e>
                                <m:r>
                                  <m:t xml:space="preserve">)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t xml:space="preserve">+</m:t>
                            </m:r>
                            <m:r>
                              <m:t xml:space="preserve">4</m:t>
                            </m:r>
                            <m:sSubSup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Ориентация главной оси инер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0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2120" y="2133720"/>
            <a:ext cx="7315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е является инвариантной к повороту, но в ряде случаев предоставляет полезную информацию об ориентации объекта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2" name=""/>
              <p:cNvSpPr txBox="1"/>
              <p:nvPr/>
            </p:nvSpPr>
            <p:spPr>
              <a:xfrm>
                <a:off x="2362320" y="3429000"/>
                <a:ext cx="2666880" cy="75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θ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tan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d>
                      <m:dPr>
                        <m:begChr m:val="("/>
                        <m:endChr m:val=")"/>
                      </m:dPr>
                      <m:e>
                        <m:f>
                          <m:num>
                            <m:r>
                              <m:t xml:space="preserve">2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11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20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02</m:t>
                                </m:r>
                              </m:sub>
                            </m:sSub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изображения с подсчитанными характеристиками областе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74" name="spoon_ex" descr=""/>
          <p:cNvPicPr/>
          <p:nvPr/>
        </p:nvPicPr>
        <p:blipFill>
          <a:blip r:embed="rId1"/>
          <a:stretch/>
        </p:blipFill>
        <p:spPr>
          <a:xfrm>
            <a:off x="1523880" y="2057400"/>
            <a:ext cx="6324840" cy="409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Другие инвариантные характеристики обла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6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7" name="img131" descr=""/>
          <p:cNvPicPr/>
          <p:nvPr/>
        </p:nvPicPr>
        <p:blipFill>
          <a:blip r:embed="rId1"/>
          <a:stretch/>
        </p:blipFill>
        <p:spPr>
          <a:xfrm>
            <a:off x="1143000" y="2286000"/>
            <a:ext cx="7772400" cy="39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еобразование Хафа (Hough)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реобразование Хафа позволяет находить на бинарном изображении плоские кривые, заданные параметрически, например: прямые, окружности, эллипсы, и т.д.</a:t>
            </a:r>
            <a:br>
              <a:rPr sz="2400"/>
            </a:br>
            <a:br>
              <a:rPr sz="24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инарное изображение – изображение, пиксели которого принимают всего два значения (0 и 1). Считаем 0 – точками фона, 1 – «точками интереса».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Задача преобразования Хафа состоит в выделении кривых, образованных точками интерес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Основная идея метода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  <a:ea typeface="Arial"/>
              </a:rPr>
              <a:t>Рассмотрим семейство кривых на плоскости, заданное параметрическим уравнением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F(a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a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…, a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x, y) = 0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где F - некоторая функция, 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..., 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- параметры семейства кривых, x, y - координаты на плоскости. Параметры семейства кривых образуют фазовое пространство, каждая точка которого (конкретные значения параметров 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..., a</a:t>
            </a:r>
            <a:r>
              <a:rPr b="0" lang="ru-RU" sz="1600" spc="-1" strike="noStrike" baseline="-25000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 соответствует некоторой криво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2" name=""/>
          <p:cNvSpPr/>
          <p:nvPr/>
        </p:nvSpPr>
        <p:spPr>
          <a:xfrm>
            <a:off x="898560" y="5116680"/>
            <a:ext cx="73310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дея преобразования Хафа состоит в поиске кривых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(точек фазового пространства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которые проходят через достаточное количество точек интерес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Бинарное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зображе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14400" y="2209680"/>
            <a:ext cx="708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мер изображения для обработ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thresh_binary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276360" cy="2422440"/>
          </a:xfrm>
          <a:prstGeom prst="rect">
            <a:avLst/>
          </a:prstGeom>
          <a:ln w="0">
            <a:noFill/>
          </a:ln>
        </p:spPr>
      </p:pic>
      <p:pic>
        <p:nvPicPr>
          <p:cNvPr id="113" name="thresh_example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3200400" cy="236700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4038480" y="46483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Машинное представлени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4" name=""/>
          <p:cNvSpPr/>
          <p:nvPr/>
        </p:nvSpPr>
        <p:spPr>
          <a:xfrm>
            <a:off x="609480" y="2209680"/>
            <a:ext cx="7543800" cy="38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виду дискретности машинного представления и входных данных (изображения), требуется перевести непрерывное фазовое пространство в дискретно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водим сетку на фазовом пространств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ждой ячейке сетки ставим в соответствие счетчи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8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начение счетчика каждой ячейки устанавливаем равным количеству точек интереса, через которые проходит хотя бы одна кривая, параметры которой принадлежат данной ячейк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нализ счетчиков ячеек позволяет найти на изображении кривые, на которых лежит наибольшее количество точек интерес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деление прямых на изображен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837720" y="201780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ямую на плоскости можно задать следующим образом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x cos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+ y sin</a:t>
            </a:r>
            <a:r>
              <a:rPr b="0" lang="ru-RU" sz="24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= R,</a:t>
            </a: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R - длина перпендикуляра опущенного на прямую из начала координат, </a:t>
            </a: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- угол между перпендикуляром к прямой и осью OX,</a:t>
            </a:r>
            <a:br>
              <a:rPr sz="1400"/>
            </a:br>
            <a:br>
              <a:rPr sz="1400"/>
            </a:br>
            <a:r>
              <a:rPr b="0" lang="ru-RU" sz="16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изменяется в пределах от 0 до 2</a:t>
            </a:r>
            <a:r>
              <a:rPr b="0" lang="ru-RU" sz="1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, R ограничено размерами входного изображени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7" name=""/>
          <p:cNvSpPr/>
          <p:nvPr/>
        </p:nvSpPr>
        <p:spPr>
          <a:xfrm>
            <a:off x="393372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6019920" y="2514600"/>
            <a:ext cx="2012760" cy="220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деление прямых на изображен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92504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"/>
          <p:cNvSpPr/>
          <p:nvPr/>
        </p:nvSpPr>
        <p:spPr>
          <a:xfrm>
            <a:off x="1060920" y="2286000"/>
            <a:ext cx="6864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Таким образом функция, задающая семейство прямых,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меет вид: </a:t>
            </a:r>
            <a:br>
              <a:rPr sz="2000"/>
            </a:b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F (R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x, y) = x cos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+ y sin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- R.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431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066680" y="3908520"/>
            <a:ext cx="75438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Через каждую точку (x, y) изображения можно провести несколько прямых с разными R и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, то есть каждой точке (x, y) изображения соответствует набор точек в  фазовом пространстве (R,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. В свою очередь каждой точке пространства (R, </a:t>
            </a:r>
            <a:r>
              <a:rPr b="0" lang="ru-RU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  <a:ea typeface="Arial"/>
              </a:rPr>
              <a:t>) соответствует набор точек (x, y) на изображении, образующий прямую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зображение и фазовое пространство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31431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6" name="lines_through_point_gs" descr=""/>
          <p:cNvPicPr/>
          <p:nvPr/>
        </p:nvPicPr>
        <p:blipFill>
          <a:blip r:embed="rId1"/>
          <a:stretch/>
        </p:blipFill>
        <p:spPr>
          <a:xfrm>
            <a:off x="685800" y="2362320"/>
            <a:ext cx="2857680" cy="2857320"/>
          </a:xfrm>
          <a:prstGeom prst="rect">
            <a:avLst/>
          </a:prstGeom>
          <a:ln w="0">
            <a:noFill/>
          </a:ln>
        </p:spPr>
      </p:pic>
      <p:sp>
        <p:nvSpPr>
          <p:cNvPr id="397" name=""/>
          <p:cNvSpPr/>
          <p:nvPr/>
        </p:nvSpPr>
        <p:spPr>
          <a:xfrm>
            <a:off x="31431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8" name="sinus_to_point_gs" descr=""/>
          <p:cNvPicPr/>
          <p:nvPr/>
        </p:nvPicPr>
        <p:blipFill>
          <a:blip r:embed="rId2"/>
          <a:stretch/>
        </p:blipFill>
        <p:spPr>
          <a:xfrm>
            <a:off x="5029200" y="2286000"/>
            <a:ext cx="2857680" cy="2857680"/>
          </a:xfrm>
          <a:prstGeom prst="rect">
            <a:avLst/>
          </a:prstGeom>
          <a:ln w="0">
            <a:noFill/>
          </a:ln>
        </p:spPr>
      </p:pic>
      <p:sp>
        <p:nvSpPr>
          <p:cNvPr id="399" name=""/>
          <p:cNvSpPr/>
          <p:nvPr/>
        </p:nvSpPr>
        <p:spPr>
          <a:xfrm>
            <a:off x="762120" y="5181480"/>
            <a:ext cx="3047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рез одну точку можно провести несколько прямых. Учитывая дискретность и введенную сетку, их будет конечное числ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4952880" y="5181480"/>
            <a:ext cx="2835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ждой прямой пространства (x, y) соответствует точка фазового пространства (R, q). Прямые с левого рисунка образуют синусоид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Изображение и фазовое пространство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2" name=""/>
          <p:cNvSpPr/>
          <p:nvPr/>
        </p:nvSpPr>
        <p:spPr>
          <a:xfrm>
            <a:off x="31431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143160" y="2000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905120" y="5181480"/>
            <a:ext cx="2361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Изображение с пятью точками интер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5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715000" cy="3071880"/>
          </a:xfrm>
          <a:prstGeom prst="rect">
            <a:avLst/>
          </a:prstGeom>
          <a:ln w="0">
            <a:noFill/>
          </a:ln>
        </p:spPr>
      </p:pic>
      <p:sp>
        <p:nvSpPr>
          <p:cNvPr id="406" name=""/>
          <p:cNvSpPr/>
          <p:nvPr/>
        </p:nvSpPr>
        <p:spPr>
          <a:xfrm>
            <a:off x="4648320" y="5181480"/>
            <a:ext cx="2666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ривые в фазовом пространстве, соответствующие множеству прямых проходящих через каждую из точек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1600200" y="6019920"/>
            <a:ext cx="5791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очки пересечения кривых в фазовом пространстве соответствуют параметрам прямых, проходящих более чем через одну точку интерес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Дискретизация фазового пространств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09" name=""/>
          <p:cNvSpPr/>
          <p:nvPr/>
        </p:nvSpPr>
        <p:spPr>
          <a:xfrm>
            <a:off x="838080" y="2214720"/>
            <a:ext cx="7315200" cy="325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ереводим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непрерывное фазовое пространство в дискретное. Введем сетку на пространстве (R,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), одной ячейке которой соответствует набор прямых с близкими значениями R и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четчик ставится в соответствие каждой ячейке сетк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[R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R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]x[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]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, равный числу точек интереса на изображении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удовлетворяющих уравнению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x cos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+ y sin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= R, где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≤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≤ </a:t>
            </a:r>
            <a:r>
              <a:rPr b="0" lang="ru-RU" sz="20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, R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 ≤ R ≤ R</a:t>
            </a:r>
            <a:r>
              <a:rPr b="0" lang="ru-RU" sz="2000" spc="-1" strike="noStrike" baseline="-30000">
                <a:solidFill>
                  <a:srgbClr val="000000"/>
                </a:solidFill>
                <a:latin typeface="Arial"/>
                <a:ea typeface="Arial"/>
              </a:rPr>
              <a:t>i+1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лгоритм выделения прямы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1" name=""/>
          <p:cNvSpPr/>
          <p:nvPr/>
        </p:nvSpPr>
        <p:spPr>
          <a:xfrm>
            <a:off x="990720" y="3657600"/>
            <a:ext cx="6416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нулить счетчики всех ячее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каждой точки интереса на изображении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ля каждой прямой, проходящей через данную точку увеличить соответствующий счетчик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ыбрать ячейки со значением счетчика, превышающим заданный порог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838080" y="2362320"/>
            <a:ext cx="6416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В общем случае алгоритм поиска прямой на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изображении при помощи преобразования Хафа выглядит та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азмер ячеек стоит выбирать аккуратно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609480" y="2017800"/>
            <a:ext cx="7925040" cy="24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"/>
          <p:cNvSpPr/>
          <p:nvPr/>
        </p:nvSpPr>
        <p:spPr>
          <a:xfrm>
            <a:off x="533520" y="2286000"/>
            <a:ext cx="36576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ячейки будут очень большими, то за «прямую» может приниматься разрозненный набор точек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сли же наоборот, ячейки будут слишком малы, есть вероятность, что ни одной прямой не найдется – все счетчики будут иметь небольшое значени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076480" y="957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xy_and_RTheta" descr=""/>
          <p:cNvPicPr/>
          <p:nvPr/>
        </p:nvPicPr>
        <p:blipFill>
          <a:blip r:embed="rId1"/>
          <a:stretch/>
        </p:blipFill>
        <p:spPr>
          <a:xfrm>
            <a:off x="4343400" y="2209680"/>
            <a:ext cx="426708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ы работ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0" name="sqr1can1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21" name="sqr1hou2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22" name="sqr1hou3" descr=""/>
          <p:cNvPicPr/>
          <p:nvPr/>
        </p:nvPicPr>
        <p:blipFill>
          <a:blip r:embed="rId3"/>
          <a:stretch/>
        </p:blipFill>
        <p:spPr>
          <a:xfrm>
            <a:off x="5943600" y="227664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ы работы (с шумом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4" name="sqr1can2" descr=""/>
          <p:cNvPicPr/>
          <p:nvPr/>
        </p:nvPicPr>
        <p:blipFill>
          <a:blip r:embed="rId1"/>
          <a:stretch/>
        </p:blipFill>
        <p:spPr>
          <a:xfrm>
            <a:off x="380880" y="2286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25" name="sqr1hou4" descr=""/>
          <p:cNvPicPr/>
          <p:nvPr/>
        </p:nvPicPr>
        <p:blipFill>
          <a:blip r:embed="rId2"/>
          <a:stretch/>
        </p:blipFill>
        <p:spPr>
          <a:xfrm>
            <a:off x="3200400" y="2286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26" name="sqr1hou5" descr=""/>
          <p:cNvPicPr/>
          <p:nvPr/>
        </p:nvPicPr>
        <p:blipFill>
          <a:blip r:embed="rId3"/>
          <a:stretch/>
        </p:blipFill>
        <p:spPr>
          <a:xfrm>
            <a:off x="5943600" y="22860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Выделение связных областей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2209680"/>
            <a:ext cx="6781680" cy="239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пределение связной обла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ножество пикселей, у каждого пикселя которого есть хотя бы один сосед, принадлежащий данному множест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оседи пикселей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4connect" descr=""/>
          <p:cNvPicPr/>
          <p:nvPr/>
        </p:nvPicPr>
        <p:blipFill>
          <a:blip r:embed="rId1"/>
          <a:stretch/>
        </p:blipFill>
        <p:spPr>
          <a:xfrm>
            <a:off x="1828800" y="4648320"/>
            <a:ext cx="1041480" cy="761760"/>
          </a:xfrm>
          <a:prstGeom prst="rect">
            <a:avLst/>
          </a:prstGeom>
          <a:ln w="0">
            <a:noFill/>
          </a:ln>
        </p:spPr>
      </p:pic>
      <p:pic>
        <p:nvPicPr>
          <p:cNvPr id="119" name="8connect" descr=""/>
          <p:cNvPicPr/>
          <p:nvPr/>
        </p:nvPicPr>
        <p:blipFill>
          <a:blip r:embed="rId2"/>
          <a:stretch/>
        </p:blipFill>
        <p:spPr>
          <a:xfrm>
            <a:off x="5943600" y="4648320"/>
            <a:ext cx="1041480" cy="7617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643040" y="556272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4-связ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757840" y="5562720"/>
            <a:ext cx="135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8-связ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ы работы (фрагменты прямых)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28" name="sqr1hou6" descr=""/>
          <p:cNvPicPr/>
          <p:nvPr/>
        </p:nvPicPr>
        <p:blipFill>
          <a:blip r:embed="rId1"/>
          <a:stretch/>
        </p:blipFill>
        <p:spPr>
          <a:xfrm>
            <a:off x="3200400" y="2286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29" name="sqr1hou7" descr=""/>
          <p:cNvPicPr/>
          <p:nvPr/>
        </p:nvPicPr>
        <p:blipFill>
          <a:blip r:embed="rId2"/>
          <a:stretch/>
        </p:blipFill>
        <p:spPr>
          <a:xfrm>
            <a:off x="5943600" y="22860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430" name="sqr1can3" descr=""/>
          <p:cNvPicPr/>
          <p:nvPr/>
        </p:nvPicPr>
        <p:blipFill>
          <a:blip r:embed="rId3"/>
          <a:stretch/>
        </p:blipFill>
        <p:spPr>
          <a:xfrm>
            <a:off x="380880" y="22860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еревод изображения в бинарное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2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914400" y="2209680"/>
            <a:ext cx="7086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стейший случай – выделение областей, яркость которых выше/ниже некоторого порог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thresh_binary" descr=""/>
          <p:cNvPicPr/>
          <p:nvPr/>
        </p:nvPicPr>
        <p:blipFill>
          <a:blip r:embed="rId1"/>
          <a:stretch/>
        </p:blipFill>
        <p:spPr>
          <a:xfrm>
            <a:off x="5334120" y="3429000"/>
            <a:ext cx="3276360" cy="2422440"/>
          </a:xfrm>
          <a:prstGeom prst="rect">
            <a:avLst/>
          </a:prstGeom>
          <a:ln w="0">
            <a:noFill/>
          </a:ln>
        </p:spPr>
      </p:pic>
      <p:pic>
        <p:nvPicPr>
          <p:cNvPr id="435" name="thresh_example" descr=""/>
          <p:cNvPicPr/>
          <p:nvPr/>
        </p:nvPicPr>
        <p:blipFill>
          <a:blip r:embed="rId2"/>
          <a:stretch/>
        </p:blipFill>
        <p:spPr>
          <a:xfrm>
            <a:off x="609480" y="3429000"/>
            <a:ext cx="3200400" cy="236700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4038480" y="464832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ак автоматически вычислить порог?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38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914400" y="2209680"/>
            <a:ext cx="7086600" cy="344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гментация изображения на области однородной яркости методом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их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етод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их – метод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кластеризац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данных, строящий кластеры настолько различные, насколько это возмож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Целью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задачи кластеризаци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является разбиение множества объектов на классы (кластеры) на основе некоторой меры сходства объектов (в нашем случае мера сходства это близость яркостей пикселей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лгоритм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k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редни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1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914400" y="2209680"/>
            <a:ext cx="7086600" cy="325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Дано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бор векторо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=1,…,p;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 –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число кластеров, на которые нужно разбить набор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ahoma"/>
              </a:rPr>
              <a:t>Най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редних векторо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j=1,…,k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(центров кластеров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нести каждый из векторов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к одному из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ластеров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лгоритм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k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редних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4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914400" y="2209680"/>
            <a:ext cx="7086600" cy="33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лучайным образом выбрат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их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j=1,…,k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каждого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i=1,…,p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дсчитать расстояние до каждого из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j=1,…,k,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нести (приписать)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i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 кластеру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’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расстояние до центра которого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j’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инимально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считать средни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Tahoma"/>
              </a:rPr>
              <a:t>j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j=1,…,k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по всем кластерам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вторять шаги </a:t>
            </a:r>
            <a:r>
              <a:rPr b="0" lang="ru-RU" sz="2000" spc="-1" strike="noStrike">
                <a:solidFill>
                  <a:srgbClr val="3333cc"/>
                </a:solidFill>
                <a:latin typeface="Tahoma"/>
              </a:rPr>
              <a:t>2, 3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ка кластеры не перестанут изменяться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499"/>
              </a:spcBef>
              <a:buClr>
                <a:srgbClr val="3333cc"/>
              </a:buClr>
              <a:buSzPct val="9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кластеризации в 2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47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3429000" y="6248520"/>
            <a:ext cx="304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Исходные данные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600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кластеризации в 2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1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1600200" y="6248520"/>
            <a:ext cx="541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лучайная инициализация центров кластеров (шаг </a:t>
            </a:r>
            <a:r>
              <a:rPr b="0" lang="ru-RU" sz="1600" spc="-1" strike="noStrike">
                <a:solidFill>
                  <a:srgbClr val="3333cc"/>
                </a:solidFill>
                <a:latin typeface="Tahoma"/>
              </a:rPr>
              <a:t>1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3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600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кластеризации в 2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5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86000" y="6248520"/>
            <a:ext cx="434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ластеры после первой итерации (шаг </a:t>
            </a:r>
            <a:r>
              <a:rPr b="0" lang="ru-RU" sz="16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7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600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кластеризации в 2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59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1447920" y="6248520"/>
            <a:ext cx="594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ересчет центров кластеров после первой итерации (шаг </a:t>
            </a:r>
            <a:r>
              <a:rPr b="0" lang="ru-RU" sz="1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600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кластеризации в 2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3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286000" y="6302520"/>
            <a:ext cx="487692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ластеры после второй итерации (шаг </a:t>
            </a:r>
            <a:r>
              <a:rPr b="0" lang="ru-RU" sz="1600" spc="-1" strike="noStrike">
                <a:solidFill>
                  <a:srgbClr val="3333cc"/>
                </a:solidFill>
                <a:latin typeface="Tahoma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5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600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азметка связных областе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9144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2193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5238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288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1337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4382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743200" y="243828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048120" y="243828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526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6576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91440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219320" y="274320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523880" y="27432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828800" y="27432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2743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3828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27432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74320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35268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65760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91440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219320" y="3048120"/>
            <a:ext cx="30456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304812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133720" y="3048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4382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4320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3048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33526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65760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9144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335268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238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8288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337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24382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432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3526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6576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144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21932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5238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8288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33720" y="365760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382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7432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048120" y="365760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36576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14400" y="396252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219320" y="3962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38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8288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133720" y="3962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4382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743200" y="396252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048120" y="3962520"/>
            <a:ext cx="30456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3526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6576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144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12193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5238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8288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1337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4382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7432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048120" y="426708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3526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6576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9144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219320" y="4572000"/>
            <a:ext cx="30456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523880" y="457200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8288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337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4382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7432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0481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33526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576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219320" y="4876920"/>
            <a:ext cx="30456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23880" y="487692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800" y="4876920"/>
            <a:ext cx="304920" cy="30456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213372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4382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04812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3526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6576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9144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12193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5238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8288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1337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4382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743200" y="5181480"/>
            <a:ext cx="304920" cy="30492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81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6576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528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2578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55627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58672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17220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4771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781680" y="24382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086600" y="24382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7391520" y="24382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696080" y="24382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95288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257800" y="27432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562720" y="274320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867280" y="27432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477120" y="2743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781680" y="27432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086600" y="27432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391520" y="27432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696080" y="27432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9528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5257800" y="30481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562720" y="3048120"/>
            <a:ext cx="30456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8672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7220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6477120" y="3048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7816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08660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391520" y="30481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696080" y="30481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9528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257800" y="33526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5627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8672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61722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4771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7816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708660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391520" y="33526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696080" y="33526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25780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556272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58672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6172200" y="36576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477120" y="36576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7816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086600" y="36576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7391520" y="365760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696080" y="36576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4952880" y="39625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2578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562720" y="3962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58672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617220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6477120" y="3962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6781680" y="39625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7086600" y="39625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391520" y="39625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696080" y="39625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49528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52578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5627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8672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17220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4771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7816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7086600" y="4267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7391520" y="42670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696080" y="42670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49528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257800" y="457200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562720" y="4572000"/>
            <a:ext cx="30456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8672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61722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4771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7816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08660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7391520" y="457200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7696080" y="457200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9528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257800" y="48769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62720" y="4876920"/>
            <a:ext cx="30456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867280" y="4876920"/>
            <a:ext cx="304920" cy="30456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1722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7712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7816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708660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7391520" y="4876920"/>
            <a:ext cx="3045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96080" y="4876920"/>
            <a:ext cx="3049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9528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2578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5627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8672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61722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64771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781680" y="51814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08660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7391520" y="5181480"/>
            <a:ext cx="30456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7696080" y="5181480"/>
            <a:ext cx="304920" cy="30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280160" y="5715000"/>
            <a:ext cx="241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Бинарное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235480" y="5715000"/>
            <a:ext cx="275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азмеченное изображение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р кластеризации в 2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D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67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1828800" y="6302520"/>
            <a:ext cx="5334120" cy="8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табильная конфигурация после четвертой ит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9" name="" descr=""/>
          <p:cNvPicPr/>
          <p:nvPr/>
        </p:nvPicPr>
        <p:blipFill>
          <a:blip r:embed="rId1"/>
          <a:stretch/>
        </p:blipFill>
        <p:spPr>
          <a:xfrm>
            <a:off x="1600200" y="2057400"/>
            <a:ext cx="560088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менение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k-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средних для сегментации изображений по ярко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71" name=""/>
          <p:cNvSpPr/>
          <p:nvPr/>
        </p:nvSpPr>
        <p:spPr>
          <a:xfrm>
            <a:off x="822240" y="2216160"/>
            <a:ext cx="77122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сматриваем одномерное пространство яркостей пикселей и производим в нем кластеризацию с помощью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их. Это дает автоматическое вычисление яркостных порог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2" name="low_contr" descr=""/>
          <p:cNvPicPr/>
          <p:nvPr/>
        </p:nvPicPr>
        <p:blipFill>
          <a:blip r:embed="rId1"/>
          <a:stretch/>
        </p:blipFill>
        <p:spPr>
          <a:xfrm>
            <a:off x="838080" y="3581280"/>
            <a:ext cx="1905120" cy="1874880"/>
          </a:xfrm>
          <a:prstGeom prst="rect">
            <a:avLst/>
          </a:prstGeom>
          <a:ln w="0">
            <a:noFill/>
          </a:ln>
        </p:spPr>
      </p:pic>
      <p:sp>
        <p:nvSpPr>
          <p:cNvPr id="473" name=""/>
          <p:cNvSpPr/>
          <p:nvPr/>
        </p:nvSpPr>
        <p:spPr>
          <a:xfrm>
            <a:off x="1873440" y="5943600"/>
            <a:ext cx="4744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ля получения бинарного изображения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=2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4" name="rozha_bin" descr=""/>
          <p:cNvPicPr/>
          <p:nvPr/>
        </p:nvPicPr>
        <p:blipFill>
          <a:blip r:embed="rId2"/>
          <a:stretch/>
        </p:blipFill>
        <p:spPr>
          <a:xfrm>
            <a:off x="6477120" y="3581280"/>
            <a:ext cx="1753920" cy="1838520"/>
          </a:xfrm>
          <a:prstGeom prst="rect">
            <a:avLst/>
          </a:prstGeom>
          <a:ln w="0">
            <a:noFill/>
          </a:ln>
        </p:spPr>
      </p:pic>
      <p:pic>
        <p:nvPicPr>
          <p:cNvPr id="475" name="hist_seg" descr=""/>
          <p:cNvPicPr/>
          <p:nvPr/>
        </p:nvPicPr>
        <p:blipFill>
          <a:blip r:embed="rId3"/>
          <a:stretch/>
        </p:blipFill>
        <p:spPr>
          <a:xfrm>
            <a:off x="3124080" y="3581280"/>
            <a:ext cx="29718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имер сегментац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1"/>
          <a:stretch/>
        </p:blipFill>
        <p:spPr>
          <a:xfrm>
            <a:off x="2819520" y="213372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78" name="" descr=""/>
          <p:cNvPicPr/>
          <p:nvPr/>
        </p:nvPicPr>
        <p:blipFill>
          <a:blip r:embed="rId2"/>
          <a:stretch/>
        </p:blipFill>
        <p:spPr>
          <a:xfrm>
            <a:off x="685800" y="4267080"/>
            <a:ext cx="2743200" cy="20574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3"/>
          <a:stretch/>
        </p:blipFill>
        <p:spPr>
          <a:xfrm>
            <a:off x="5029200" y="428616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1698480" y="632448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 = 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041880" y="6400800"/>
            <a:ext cx="627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 = 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4572000" y="4191120"/>
            <a:ext cx="38088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H="1">
            <a:off x="3429000" y="4191120"/>
            <a:ext cx="457200" cy="106668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равнение </a:t>
            </a: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k-</a:t>
            </a:r>
            <a:r>
              <a:rPr b="0" lang="ru-RU" sz="2400" spc="-1" strike="noStrike">
                <a:solidFill>
                  <a:srgbClr val="333399"/>
                </a:solidFill>
                <a:latin typeface="Tahoma"/>
              </a:rPr>
              <a:t>средних с порогом по средней яркост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85" name=""/>
          <p:cNvSpPr/>
          <p:nvPr/>
        </p:nvSpPr>
        <p:spPr>
          <a:xfrm>
            <a:off x="669960" y="2368440"/>
            <a:ext cx="7864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осле лекции был задан вопрос: чем отличается сегментация с помощью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-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редних на 2 кластера от простейшей пороговой бинаризации по средней яркости изображения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мер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6" name="k_1" descr=""/>
          <p:cNvPicPr/>
          <p:nvPr/>
        </p:nvPicPr>
        <p:blipFill>
          <a:blip r:embed="rId1"/>
          <a:stretch/>
        </p:blipFill>
        <p:spPr>
          <a:xfrm>
            <a:off x="990720" y="4038480"/>
            <a:ext cx="1676160" cy="1408320"/>
          </a:xfrm>
          <a:prstGeom prst="rect">
            <a:avLst/>
          </a:prstGeom>
          <a:ln w="0">
            <a:noFill/>
          </a:ln>
        </p:spPr>
      </p:pic>
      <p:pic>
        <p:nvPicPr>
          <p:cNvPr id="487" name="thr_1" descr=""/>
          <p:cNvPicPr/>
          <p:nvPr/>
        </p:nvPicPr>
        <p:blipFill>
          <a:blip r:embed="rId2"/>
          <a:stretch/>
        </p:blipFill>
        <p:spPr>
          <a:xfrm>
            <a:off x="6400800" y="4038480"/>
            <a:ext cx="1676520" cy="140832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 flipH="1">
            <a:off x="2743200" y="4572000"/>
            <a:ext cx="83808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181480" y="4648320"/>
            <a:ext cx="1143000" cy="2286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69960" y="633096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350000" y="5486400"/>
            <a:ext cx="92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k-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редн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6184440" y="5486400"/>
            <a:ext cx="216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рог по средней ярк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828800" y="6019920"/>
            <a:ext cx="5867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причинах предлагается разобраться самостоятельно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4" name="" descr=""/>
          <p:cNvPicPr/>
          <p:nvPr/>
        </p:nvPicPr>
        <p:blipFill>
          <a:blip r:embed="rId3"/>
          <a:stretch/>
        </p:blipFill>
        <p:spPr>
          <a:xfrm>
            <a:off x="3657600" y="3962520"/>
            <a:ext cx="1447920" cy="108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екурсивная разметка связных областей 1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228600" y="2057400"/>
            <a:ext cx="82296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Labeling(BIT* img[], int* labels[]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// labels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должна быть обнулен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 = 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y = 0; y &lt; H; y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or(x = 0; x &lt; W; x++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(img, labels, x, y, L++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екурсивная разметка связных областей 2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0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28600" y="2057400"/>
            <a:ext cx="85345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oid Fill(BIT* img[], int* labels[], int x, int y, int 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(labels[x][y] = = 0) &amp;&amp; (img[x][y] = = 1)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abels[x][y] = 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gt; 0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(img, labels, x – 1, y, 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x &lt; W - 1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(img, labels, x + 1, y, 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y &gt; 0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(img, labels, x, y - 1, 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f( y &lt; H - 1 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 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ill(img, labels, x, y + 1, L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азметка связных областей путем последовательного сканирова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620640" y="1981080"/>
            <a:ext cx="7617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Последовательно, сканируем бинарное изображение сверху вниз,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слева направо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img1" descr=""/>
          <p:cNvPicPr/>
          <p:nvPr/>
        </p:nvPicPr>
        <p:blipFill>
          <a:blip r:embed="rId1"/>
          <a:stretch/>
        </p:blipFill>
        <p:spPr>
          <a:xfrm>
            <a:off x="685800" y="2819520"/>
            <a:ext cx="1384200" cy="1384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2509560" y="2590920"/>
            <a:ext cx="4980600" cy="329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= O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do n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else if (not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labeled) and (not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labeled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increment label numbering and label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else if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xor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labe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copy label to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else if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and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label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if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label =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lab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copy label to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copy either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B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label or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C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label to </a:t>
            </a:r>
            <a:r>
              <a:rPr b="1" lang="ru-RU" sz="1400" spc="-1" strike="noStrike">
                <a:solidFill>
                  <a:srgbClr val="000000"/>
                </a:solidFill>
                <a:latin typeface="Courier New"/>
              </a:rPr>
              <a:t>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          </a:t>
            </a:r>
            <a:r>
              <a:rPr b="0" lang="ru-RU" sz="1400" spc="-1" strike="noStrike">
                <a:solidFill>
                  <a:srgbClr val="000000"/>
                </a:solidFill>
                <a:latin typeface="Courier New"/>
              </a:rPr>
              <a:t>record equivalence of lab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621000" y="5943600"/>
            <a:ext cx="786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Постобработка - переразметка с учетом эквивалентностей обла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040" y="38052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Разметка связных областей путем последовательного сканирования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9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13800" y="2209680"/>
            <a:ext cx="225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Случай конфликта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621000" y="5943600"/>
            <a:ext cx="7861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urier New"/>
              </a:rPr>
              <a:t>Постобработка - переразметка с учетом эквивалентностей областе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2" name="img2_white" descr=""/>
          <p:cNvPicPr/>
          <p:nvPr/>
        </p:nvPicPr>
        <p:blipFill>
          <a:blip r:embed="rId1"/>
          <a:stretch/>
        </p:blipFill>
        <p:spPr>
          <a:xfrm>
            <a:off x="2209680" y="2743200"/>
            <a:ext cx="4114800" cy="29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150560" y="1066320"/>
            <a:ext cx="7792920" cy="69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Анализ формы связных областе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4" name=""/>
          <p:cNvSpPr/>
          <p:nvPr/>
        </p:nvSpPr>
        <p:spPr>
          <a:xfrm>
            <a:off x="762120" y="2133720"/>
            <a:ext cx="75438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747360" y="2139840"/>
            <a:ext cx="739080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ля каждой области можно подсчитать некий набор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стейших числовых характеристик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лощад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имет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акт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риентацию главной оси инерции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Удлиненность (эксцентриситет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 основе этих характеристик можно классифицировать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учаемые обла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06:35Z</dcterms:created>
  <dc:creator>vvp</dc:creator>
  <dc:description/>
  <dc:language>en-US</dc:language>
  <cp:lastModifiedBy>Admin</cp:lastModifiedBy>
  <dcterms:modified xsi:type="dcterms:W3CDTF">2003-03-11T14:45:55Z</dcterms:modified>
  <cp:revision>321</cp:revision>
  <dc:subject/>
  <dc:title>Обработка и анализ изображений</dc:title>
</cp:coreProperties>
</file>