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9.png" ContentType="image/png"/>
  <Override PartName="/ppt/media/image6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46.jpeg" ContentType="image/jpeg"/>
  <Override PartName="/ppt/media/image43.png" ContentType="image/png"/>
  <Override PartName="/ppt/media/image45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53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7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056-2E65-4B29-A8CB-62628BF1E1B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чем отличается от линей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и четко сформулировать, что гово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е отсечением по порогу с шумного из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еще – фурье, тра-ля-ля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ум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еще – фурье, тра-ля-ля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к размытия – размывает границы – медианный ему альтернат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,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толком про нелинейность, убрать д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356-56FB-4DEC-9350-C1DCF24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295-FC1A-4B3F-8E4B-052E3212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2F4-9F1B-4CF0-AB20-A9820D9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B01-7844-489B-B67D-94F4C13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9E02-CCF3-460D-943E-F4FDD250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A690-59D5-455A-AB7D-1A2B997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90B-6049-4625-B67C-7F29E7DB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2B2-CBFD-40B4-8937-ABCC7D1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77C2-4317-4879-98D7-255E925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EB16-6B9F-4183-B467-16E3DB0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17B-E975-44B3-843B-D0DD110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30A-2240-42CE-89F1-1CA39F5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C1BF-E266-41F0-87BE-0A811E5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C30-B2A5-4406-8F4E-3CF9F9F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2B6-E9B1-4542-8006-F93DE87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8320-AB52-49CA-BE9D-74DF2AB5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F22F-C342-48C5-AC7A-3284E3D4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8C3-FEA6-4F31-BE03-A8F8A87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033-EC53-47F1-918A-F6D8D7D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C67-D4F7-4B82-A524-4014F80E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554-0318-4216-9CF6-130BE8D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8A5-E2D9-4259-8DD7-CA478DB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E1F-FCAC-4354-A127-C82045C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101-79A7-4051-8DAB-352E1E6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1D0-3CE1-4688-978F-2B45118EF46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03DA-2B3F-40E6-818F-5C4C63167E4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работка и анализ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0010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ая графика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о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шинное) зрение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chine)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ботка изображений 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недостаточной контрастност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low_contr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149" name="high_contr" descr=""/>
          <p:cNvPicPr/>
          <p:nvPr/>
        </p:nvPicPr>
        <p:blipFill>
          <a:blip r:embed="rId2"/>
          <a:stretch/>
        </p:blipFill>
        <p:spPr>
          <a:xfrm>
            <a:off x="1371600" y="4645080"/>
            <a:ext cx="1905120" cy="1874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low_contr1" descr=""/>
          <p:cNvPicPr/>
          <p:nvPr/>
        </p:nvPicPr>
        <p:blipFill>
          <a:blip r:embed="rId3"/>
          <a:stretch/>
        </p:blipFill>
        <p:spPr>
          <a:xfrm>
            <a:off x="3505320" y="2146320"/>
            <a:ext cx="3124080" cy="1836720"/>
          </a:xfrm>
          <a:prstGeom prst="rect">
            <a:avLst/>
          </a:prstGeom>
          <a:ln w="0">
            <a:noFill/>
          </a:ln>
        </p:spPr>
      </p:pic>
      <p:pic>
        <p:nvPicPr>
          <p:cNvPr id="153" name="high_contr1" descr=""/>
          <p:cNvPicPr/>
          <p:nvPr/>
        </p:nvPicPr>
        <p:blipFill>
          <a:blip r:embed="rId4"/>
          <a:stretch/>
        </p:blipFill>
        <p:spPr>
          <a:xfrm>
            <a:off x="3505320" y="4648320"/>
            <a:ext cx="320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авнение линейной и нелинейной коррек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high_contr" descr=""/>
          <p:cNvPicPr/>
          <p:nvPr/>
        </p:nvPicPr>
        <p:blipFill>
          <a:blip r:embed="rId1"/>
          <a:stretch/>
        </p:blipFill>
        <p:spPr>
          <a:xfrm>
            <a:off x="1371600" y="464508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157" name="lin_stretch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1905120" cy="1873080"/>
          </a:xfrm>
          <a:prstGeom prst="rect">
            <a:avLst/>
          </a:prstGeom>
          <a:ln w="0">
            <a:noFill/>
          </a:ln>
        </p:spPr>
      </p:pic>
      <p:pic>
        <p:nvPicPr>
          <p:cNvPr id="158" name="high_contr1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3200400" cy="1873080"/>
          </a:xfrm>
          <a:prstGeom prst="rect">
            <a:avLst/>
          </a:prstGeom>
          <a:ln w="0">
            <a:noFill/>
          </a:ln>
        </p:spPr>
      </p:pic>
      <p:pic>
        <p:nvPicPr>
          <p:cNvPr id="159" name="lin_stretch_h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32004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«Улучшение» изображения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и устранение шу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возникновения шум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шенство измерительных приб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е и передача изображений с потерей данны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нформация содержащаяся в изображен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v_1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590920" cy="1387440"/>
          </a:xfrm>
          <a:prstGeom prst="rect">
            <a:avLst/>
          </a:prstGeom>
          <a:ln w="0">
            <a:noFill/>
          </a:ln>
        </p:spPr>
      </p:pic>
      <p:pic>
        <p:nvPicPr>
          <p:cNvPr id="164" name="v_2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9718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v_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166" name="vasya" descr=""/>
          <p:cNvPicPr/>
          <p:nvPr/>
        </p:nvPicPr>
        <p:blipFill>
          <a:blip r:embed="rId4"/>
          <a:stretch/>
        </p:blipFill>
        <p:spPr>
          <a:xfrm>
            <a:off x="6629400" y="2514600"/>
            <a:ext cx="1486080" cy="822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2280" y="617220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ез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33720" y="6230880"/>
            <a:ext cx="22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у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те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7800" y="205740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85640" y="396252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3962520"/>
            <a:ext cx="9144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6564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ранение шума в бинарных изображе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68580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ироко известный способ - устранение шума с помощью операций математической морф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жен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o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ширен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рыти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крыт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p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математической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+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 = {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t = a + b,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,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3886200"/>
            <a:ext cx="1828800" cy="1295280"/>
          </a:xfrm>
          <a:prstGeom prst="roundRect">
            <a:avLst>
              <a:gd name="adj" fmla="val 232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886200"/>
            <a:ext cx="60948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572000"/>
            <a:ext cx="609480" cy="609480"/>
          </a:xfrm>
          <a:prstGeom prst="ellipse">
            <a:avLst/>
          </a:prstGeom>
          <a:solidFill>
            <a:srgbClr val="ffcf01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4572000"/>
            <a:ext cx="60984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4040" y="4724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51055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82880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18280" y="3472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476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91120"/>
            <a:ext cx="1262160" cy="70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+)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3" idx="7"/>
            <a:endCxn id="181" idx="2"/>
          </p:cNvCxnSpPr>
          <p:nvPr/>
        </p:nvCxnSpPr>
        <p:spPr>
          <a:xfrm flipH="1" flipV="1" rot="5400000">
            <a:off x="3225600" y="3009600"/>
            <a:ext cx="1003680" cy="336600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3" idx="5"/>
            <a:endCxn id="180" idx="2"/>
          </p:cNvCxnSpPr>
          <p:nvPr/>
        </p:nvCxnSpPr>
        <p:spPr>
          <a:xfrm flipH="1" flipV="1" rot="5400000">
            <a:off x="3352680" y="3568320"/>
            <a:ext cx="749880" cy="3366000"/>
          </a:xfrm>
          <a:prstGeom prst="bentConnector4">
            <a:avLst>
              <a:gd name="adj1" fmla="val -42363"/>
              <a:gd name="adj2" fmla="val 65654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математической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2860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 = (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23040" y="4181400"/>
            <a:ext cx="762120" cy="695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37400" y="3693960"/>
            <a:ext cx="144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1640" y="51055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-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81920" y="4946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18080" y="5403960"/>
            <a:ext cx="457200" cy="463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60880" y="56386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46680" y="3698640"/>
            <a:ext cx="1440" cy="26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031760" y="3676320"/>
            <a:ext cx="792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360" y="5638680"/>
            <a:ext cx="259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886200"/>
            <a:ext cx="1262160" cy="1190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4440" y="3946680"/>
            <a:ext cx="1219320" cy="1158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94440" y="39560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4440" y="46418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56560" y="46418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56560" y="3956040"/>
            <a:ext cx="457200" cy="463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5638680"/>
            <a:ext cx="259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ойста морфологических операц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285640"/>
            <a:ext cx="7199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тативный зак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 &lt; &gt; 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оциативный зак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=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(+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) = (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искретные операции морф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3733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434340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46483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49528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146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9625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267080"/>
            <a:ext cx="304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4572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153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44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94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43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53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3429000"/>
            <a:ext cx="30492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343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153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458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7339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37339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43800" y="3733920"/>
            <a:ext cx="30492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848720" y="3733920"/>
            <a:ext cx="30456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532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40384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4038480"/>
            <a:ext cx="30492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40384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53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244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434340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888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48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53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4582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34320" y="4648320"/>
            <a:ext cx="304560" cy="30456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48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153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4582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50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244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4952880"/>
            <a:ext cx="304560" cy="304920"/>
          </a:xfrm>
          <a:prstGeom prst="rect">
            <a:avLst/>
          </a:prstGeom>
          <a:solidFill>
            <a:srgbClr val="bc9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43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848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53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4320" y="52578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43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848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53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458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199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8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43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848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53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458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37000" y="2243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23320" y="2209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6920" y="2209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(+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су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205740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id Eros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T min = MAX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f((mask[i][j]) &amp;&amp; (src[x + i][y + j] &lt; min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 = src[x + i][y + 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st[x][y] = m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мпьютерное зр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 – принятие решений о реальных физических объектах и сценах, основываясь на воспринимаемых изображени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информации из изображ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и интерпретация полученной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расшир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205740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id Dilat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T m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f((mask[i][j]) &amp;&amp; (src[x + i][y + j] &gt; max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 = src[x + i][y + 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st[x][y] = m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раскрытия и за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фологическое раскрыт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pen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n(A, B) = (A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фологическое закрыт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lo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ose(A, B) = (A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822240" y="5181480"/>
            <a:ext cx="530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тельные материалы по мат. морфолог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ступны по адрес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projects.graphicon.ru/publiclib/catalog/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ажное замеч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782280" y="2368440"/>
            <a:ext cx="846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жество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 является объектом обработки, а множество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назваемое структурным элементом) – инстр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морфологических операций во многом определяетс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няемым структурным элементом. Выбирая различ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уктурный элемент можно решать разные задачи обработ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а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умопо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границ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скелета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сломанных зубьев на изображении шест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бинар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22096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бинарного изображению с сильным ш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noise2_crop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222800" y="5181480"/>
                <a:ext cx="698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сужения к бинарному изображению с сильным шумо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54" name="3x3_erode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89200" cy="2730600"/>
          </a:xfrm>
          <a:prstGeom prst="rect">
            <a:avLst/>
          </a:prstGeom>
          <a:ln w="0">
            <a:noFill/>
          </a:ln>
        </p:spPr>
      </p:pic>
      <p:pic>
        <p:nvPicPr>
          <p:cNvPr id="455" name="3x3box_erode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797120" cy="2743200"/>
          </a:xfrm>
          <a:prstGeom prst="rect">
            <a:avLst/>
          </a:prstGeom>
          <a:ln w="0">
            <a:noFill/>
          </a:ln>
        </p:spPr>
      </p:pic>
      <p:pic>
        <p:nvPicPr>
          <p:cNvPr id="456" name="7x7_erode" descr=""/>
          <p:cNvPicPr/>
          <p:nvPr/>
        </p:nvPicPr>
        <p:blipFill>
          <a:blip r:embed="rId3"/>
          <a:stretch/>
        </p:blipFill>
        <p:spPr>
          <a:xfrm>
            <a:off x="6400800" y="2209680"/>
            <a:ext cx="1789200" cy="273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400040" y="5181480"/>
                <a:ext cx="72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748560" y="5029200"/>
                <a:ext cx="11779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267080" y="5181480"/>
                <a:ext cx="609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открытия к бинарному изображению с сильным шумо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442880" y="5181480"/>
                <a:ext cx="63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63" name="3x3_open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98920" cy="2743200"/>
          </a:xfrm>
          <a:prstGeom prst="rect">
            <a:avLst/>
          </a:prstGeom>
          <a:ln w="0">
            <a:noFill/>
          </a:ln>
        </p:spPr>
      </p:pic>
      <p:pic>
        <p:nvPicPr>
          <p:cNvPr id="464" name="3x3box_open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797120" cy="2743200"/>
          </a:xfrm>
          <a:prstGeom prst="rect">
            <a:avLst/>
          </a:prstGeom>
          <a:ln w="0">
            <a:noFill/>
          </a:ln>
        </p:spPr>
      </p:pic>
      <p:pic>
        <p:nvPicPr>
          <p:cNvPr id="465" name="7x7_open" descr=""/>
          <p:cNvPicPr/>
          <p:nvPr/>
        </p:nvPicPr>
        <p:blipFill>
          <a:blip r:embed="rId3"/>
          <a:stretch/>
        </p:blipFill>
        <p:spPr>
          <a:xfrm>
            <a:off x="6400800" y="2209680"/>
            <a:ext cx="179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бинар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2096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бинарного изображению с дефектами распознаваемы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noise4_crop_rot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21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447920" y="5181480"/>
                <a:ext cx="609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закрытия к бинарному изображению с дефектами объек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72" name="3x3box_close" descr=""/>
          <p:cNvPicPr/>
          <p:nvPr/>
        </p:nvPicPr>
        <p:blipFill>
          <a:blip r:embed="rId1"/>
          <a:stretch/>
        </p:blipFill>
        <p:spPr>
          <a:xfrm>
            <a:off x="789120" y="2133720"/>
            <a:ext cx="1896840" cy="2895480"/>
          </a:xfrm>
          <a:prstGeom prst="rect">
            <a:avLst/>
          </a:prstGeom>
          <a:ln w="0">
            <a:noFill/>
          </a:ln>
        </p:spPr>
      </p:pic>
      <p:pic>
        <p:nvPicPr>
          <p:cNvPr id="473" name="7x7_close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1847880" cy="2819160"/>
          </a:xfrm>
          <a:prstGeom prst="rect">
            <a:avLst/>
          </a:prstGeom>
          <a:ln w="0">
            <a:noFill/>
          </a:ln>
        </p:spPr>
      </p:pic>
      <p:pic>
        <p:nvPicPr>
          <p:cNvPr id="474" name="5x5_close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1849680" cy="281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114800" y="5105520"/>
                <a:ext cx="7858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 лучший пример для морф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19810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во всех случаях математическая морфология так легко убирает дефекты, как хотелось б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noise1_crop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267080" y="5181480"/>
                <a:ext cx="609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я операции от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442880" y="5181480"/>
                <a:ext cx="63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781680" y="5029200"/>
                <a:ext cx="1111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3" name="noise1_3x3c_open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325600" cy="2438640"/>
          </a:xfrm>
          <a:prstGeom prst="rect">
            <a:avLst/>
          </a:prstGeom>
          <a:ln w="0">
            <a:noFill/>
          </a:ln>
        </p:spPr>
      </p:pic>
      <p:pic>
        <p:nvPicPr>
          <p:cNvPr id="484" name="noise1_3x3_open" descr=""/>
          <p:cNvPicPr/>
          <p:nvPr/>
        </p:nvPicPr>
        <p:blipFill>
          <a:blip r:embed="rId2"/>
          <a:stretch/>
        </p:blipFill>
        <p:spPr>
          <a:xfrm>
            <a:off x="3429000" y="2438280"/>
            <a:ext cx="2325600" cy="2438640"/>
          </a:xfrm>
          <a:prstGeom prst="rect">
            <a:avLst/>
          </a:prstGeom>
          <a:ln w="0">
            <a:noFill/>
          </a:ln>
        </p:spPr>
      </p:pic>
      <p:pic>
        <p:nvPicPr>
          <p:cNvPr id="485" name="noise1_7x7_open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2325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работка изображ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ейство методов и задач, где входной и выходной информацией являются изображения. Примеры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жатие изображ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ранение шума в изображ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лучшение качества изображе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иления полезной и подавления нежелательной (в контексте конкретной задачи) информ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реднени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дианный фильт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льтр Гаусс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blur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9" name="checks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7619760" cy="23702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990720" y="2057400"/>
            <a:ext cx="693396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: изображение с равномерным шу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rr(i,j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рмально распределенная случай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143000" y="2514600"/>
                <a:ext cx="346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«свертка»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voluti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351480" cy="1835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219320" y="1981080"/>
            <a:ext cx="6629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двумерной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епрерывном и дискретном случа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487692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асто, свертка изображения по какой-либо функции называется применением фильтра к изображени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реднение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x filter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143000" y="2666880"/>
                <a:ext cx="45673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ация усреднения значения каждого пиксел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тка по констант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averaged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4648320" cy="2259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4300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2362320"/>
            <a:ext cx="6858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ранение шума в полутоновых, цветных и бинарных изображениях с помощью медианного фильтра - выбор медианы среди значений яркости пикселей в некоторой окр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меди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анный фильтр радиус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медианы среди пикселей в окрестност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-r,r]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143000" y="4191120"/>
                <a:ext cx="4713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-отсортированный набор чисел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 набор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анный фильт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205740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5 пикс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median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276720" cy="15321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143000" y="40384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в 7 пикселей к изображению с шумом и артефактами в виде тонких светлых окруж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illustr1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49532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чистка изображения с помощью медианного фильт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9810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льтр с окрестностью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noise1_crop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2616120" cy="2743200"/>
          </a:xfrm>
          <a:prstGeom prst="rect">
            <a:avLst/>
          </a:prstGeom>
          <a:ln w="0">
            <a:noFill/>
          </a:ln>
        </p:spPr>
      </p:pic>
      <p:pic>
        <p:nvPicPr>
          <p:cNvPr id="512" name="noise1_median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2616480" cy="2743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114800" y="39625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ыстрая реализация медианного фильт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981080"/>
            <a:ext cx="64771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анный фильтр считается дольше, чем операция свертки, поскольку требует частичной сортировки массива яркостей окрестных пик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ости уско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ать несколько шагов быстрой сортировки до получения меди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кретная реализация для каждого радиуса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x3, 5x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43000" y="2362320"/>
                <a:ext cx="4786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rad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914400" y="20574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по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fig1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990720" y="4038480"/>
            <a:ext cx="685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раметр    задает степен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графике функция 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2166840" y="4067280"/>
                <a:ext cx="338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066680" y="5105520"/>
                <a:ext cx="88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аленкая экскурсия к Фурь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high_detail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505320" cy="2058840"/>
          </a:xfrm>
          <a:prstGeom prst="rect">
            <a:avLst/>
          </a:prstGeom>
          <a:ln w="0">
            <a:noFill/>
          </a:ln>
        </p:spPr>
      </p:pic>
      <p:pic>
        <p:nvPicPr>
          <p:cNvPr id="525" name="low_detail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505320" cy="2060640"/>
          </a:xfrm>
          <a:prstGeom prst="rect">
            <a:avLst/>
          </a:prstGeom>
          <a:ln w="0">
            <a:noFill/>
          </a:ln>
        </p:spPr>
      </p:pic>
      <p:pic>
        <p:nvPicPr>
          <p:cNvPr id="526" name="low_contr11" descr=""/>
          <p:cNvPicPr/>
          <p:nvPr/>
        </p:nvPicPr>
        <p:blipFill>
          <a:blip r:embed="rId3"/>
          <a:stretch/>
        </p:blipFill>
        <p:spPr>
          <a:xfrm>
            <a:off x="2819520" y="4884840"/>
            <a:ext cx="3124080" cy="1836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306320" y="312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581280" y="43434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724280" y="434340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480" y="43498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ие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44320" y="441972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ие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зображ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209680"/>
            <a:ext cx="754380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зображени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оптическое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– картина, получаемая в результат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прохождения через оптическую систему лучей, распространяющихся от объекта, и воспроизводящая его контуры и д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Физ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энциклопед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словар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ое представление изоб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нкция интенсив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ярк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уется дискретное пред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5800" y="4800600"/>
                <a:ext cx="3881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5638680"/>
                <a:ext cx="296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ы свертки по функции Гаусса и по константной функции (усредн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fig3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fig4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36" name="fig5" descr=""/>
          <p:cNvPicPr/>
          <p:nvPr/>
        </p:nvPicPr>
        <p:blipFill>
          <a:blip r:embed="rId3"/>
          <a:stretch/>
        </p:blipFill>
        <p:spPr>
          <a:xfrm>
            <a:off x="5562720" y="2971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990720" y="51055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 Гаусса с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41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49 пикселям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x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07560" y="5568840"/>
            <a:ext cx="71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жное свойство фильтра Гаусса – он по сути являет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очастотным филь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онтуров объек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209680"/>
            <a:ext cx="77724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отрим подчеркивание краев (гра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dge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резкое изменение яркости на изображении, часто соответствует границам объектов на изобра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edge_ex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6910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209680"/>
            <a:ext cx="38862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 интересуют области резкого изменения яркости – нахождение таких областей можно организовать на основе анализа первой и второй производной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fig11" descr=""/>
          <p:cNvPicPr/>
          <p:nvPr/>
        </p:nvPicPr>
        <p:blipFill>
          <a:blip r:embed="rId1"/>
          <a:stretch/>
        </p:blipFill>
        <p:spPr>
          <a:xfrm>
            <a:off x="5938920" y="2071800"/>
            <a:ext cx="2274840" cy="925560"/>
          </a:xfrm>
          <a:prstGeom prst="rect">
            <a:avLst/>
          </a:prstGeom>
          <a:ln w="0">
            <a:noFill/>
          </a:ln>
        </p:spPr>
      </p:pic>
      <p:pic>
        <p:nvPicPr>
          <p:cNvPr id="549" name="fig21" descr=""/>
          <p:cNvPicPr/>
          <p:nvPr/>
        </p:nvPicPr>
        <p:blipFill>
          <a:blip r:embed="rId2"/>
          <a:stretch/>
        </p:blipFill>
        <p:spPr>
          <a:xfrm>
            <a:off x="5910120" y="3367080"/>
            <a:ext cx="2343240" cy="1463760"/>
          </a:xfrm>
          <a:prstGeom prst="rect">
            <a:avLst/>
          </a:prstGeom>
          <a:ln w="0">
            <a:noFill/>
          </a:ln>
        </p:spPr>
      </p:pic>
      <p:pic>
        <p:nvPicPr>
          <p:cNvPr id="550" name="fig31" descr=""/>
          <p:cNvPicPr/>
          <p:nvPr/>
        </p:nvPicPr>
        <p:blipFill>
          <a:blip r:embed="rId3"/>
          <a:stretch/>
        </p:blipFill>
        <p:spPr>
          <a:xfrm>
            <a:off x="5900760" y="4815000"/>
            <a:ext cx="2365200" cy="15778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724280" y="23623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3809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5181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2ой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21337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вестно, что наибольшее изменение функции происходит в направлении ее градиента. Величина изменения измеряется абсолютной величиной град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26920" y="3124080"/>
                <a:ext cx="459612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588240" y="5105520"/>
            <a:ext cx="76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асто используется приближенное вычисление гради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838080" y="5486400"/>
                <a:ext cx="4267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≃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28720" y="3352680"/>
                <a:ext cx="177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762120" y="48006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матический смысл – приближенное вычисление производных по напр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97120" y="3276720"/>
                <a:ext cx="2203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952880" y="3276720"/>
                <a:ext cx="2318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1143000" y="4038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1148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4114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20574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ство методов основано на приближенном вычисление градиента, анализе его направления и абсолютной величины. Свертка по функц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ы применения операторов подчеркивания кра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76520" y="4343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72200" y="44197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33920" y="632448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roberet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895840" cy="1486080"/>
          </a:xfrm>
          <a:prstGeom prst="rect">
            <a:avLst/>
          </a:prstGeom>
          <a:ln w="0">
            <a:noFill/>
          </a:ln>
        </p:spPr>
      </p:pic>
      <p:pic>
        <p:nvPicPr>
          <p:cNvPr id="577" name="prewitt_total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38400" cy="1558800"/>
          </a:xfrm>
          <a:prstGeom prst="rect">
            <a:avLst/>
          </a:prstGeom>
          <a:ln w="0">
            <a:noFill/>
          </a:ln>
        </p:spPr>
      </p:pic>
      <p:pic>
        <p:nvPicPr>
          <p:cNvPr id="578" name="sobel_total" descr=""/>
          <p:cNvPicPr/>
          <p:nvPr/>
        </p:nvPicPr>
        <p:blipFill>
          <a:blip r:embed="rId3"/>
          <a:stretch/>
        </p:blipFill>
        <p:spPr>
          <a:xfrm>
            <a:off x="2743200" y="4648320"/>
            <a:ext cx="304812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2133720"/>
            <a:ext cx="73152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 с помощью второй производной по напр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рица оператора вычисления второй производн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114800" y="3200400"/>
                <a:ext cx="838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3" name="2nd_deriv1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638520" cy="1866960"/>
          </a:xfrm>
          <a:prstGeom prst="rect">
            <a:avLst/>
          </a:prstGeom>
          <a:ln w="0">
            <a:noFill/>
          </a:ln>
        </p:spPr>
      </p:pic>
      <p:pic>
        <p:nvPicPr>
          <p:cNvPr id="584" name="2nd_deriv2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638520" cy="1866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6765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ртикальная ма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715000" y="6248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ризонтальная ма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62120" y="3200400"/>
                <a:ext cx="108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5029200" y="342900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горизон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вертик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2133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е процесса человеческого зрения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dreth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анализ нулей результатов свертки по оператору Лапласа от функции Гаус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LoG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838080" y="3352680"/>
                <a:ext cx="44197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4" name="g2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743200" cy="19969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5181480" y="5410080"/>
            <a:ext cx="35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афик второй производной одномерной функции Гаусса с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ки соответствующие оператор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различным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ma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914400" y="3048120"/>
                <a:ext cx="1481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276720" y="2895480"/>
                <a:ext cx="495288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2193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5791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1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черкивание крае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62120" y="2133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 оператор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49528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lap_3x3" descr=""/>
          <p:cNvPicPr/>
          <p:nvPr/>
        </p:nvPicPr>
        <p:blipFill>
          <a:blip r:embed="rId1"/>
          <a:stretch/>
        </p:blipFill>
        <p:spPr>
          <a:xfrm>
            <a:off x="914400" y="3014640"/>
            <a:ext cx="3581280" cy="1843200"/>
          </a:xfrm>
          <a:prstGeom prst="rect">
            <a:avLst/>
          </a:prstGeom>
          <a:ln w="0">
            <a:noFill/>
          </a:ln>
        </p:spPr>
      </p:pic>
      <p:pic>
        <p:nvPicPr>
          <p:cNvPr id="608" name="lap_5x5" descr=""/>
          <p:cNvPicPr/>
          <p:nvPr/>
        </p:nvPicPr>
        <p:blipFill>
          <a:blip r:embed="rId2"/>
          <a:stretch/>
        </p:blipFill>
        <p:spPr>
          <a:xfrm>
            <a:off x="5029200" y="3014640"/>
            <a:ext cx="3429000" cy="1763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6172200" y="4876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«Улучшение» изобра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контраста изоб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нсац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го диапазона яркостей датч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и передачи датч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ransform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876560" cy="168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5562720"/>
                <a:ext cx="1371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699000" y="5562720"/>
            <a:ext cx="43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стика яркости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изображ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работе с бинарными изображениями контуры объекта можно получить с помощью операций математической морф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утреннее оконтури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A – (A (-)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шнее оконтури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A (+) B) –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523880" y="2133720"/>
          <a:ext cx="2052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2052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73880" y="2085840"/>
            <a:ext cx="206532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менение контраста изображения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86640" y="2286000"/>
            <a:ext cx="8636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нас может не устраивать в полученном изображен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зкий или смещенный диапазон яркостей пикс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яркостей вокруг определенных значен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авномерное заполнение диапазона яр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 коррекции - к изображению применяется преобразова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ей, компенсирующий нежелательный эффект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на исходном изображени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кость пиксела после коррекц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9280" y="4998960"/>
                <a:ext cx="1609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узкого диапазона яркостей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07000" y="2209680"/>
            <a:ext cx="85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узкого диапазона яркостей – линейное растя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0600" y="594360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71960" y="2743200"/>
                <a:ext cx="3592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8" name="small_diap1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3048120" cy="1795320"/>
          </a:xfrm>
          <a:prstGeom prst="rect">
            <a:avLst/>
          </a:prstGeom>
          <a:ln w="0">
            <a:noFill/>
          </a:ln>
        </p:spPr>
      </p:pic>
      <p:pic>
        <p:nvPicPr>
          <p:cNvPr id="129" name="small_diap1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048120" cy="1712880"/>
          </a:xfrm>
          <a:prstGeom prst="rect">
            <a:avLst/>
          </a:prstGeom>
          <a:ln w="0">
            <a:noFill/>
          </a:ln>
        </p:spPr>
      </p:pic>
      <p:pic>
        <p:nvPicPr>
          <p:cNvPr id="130" name="diap_corr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24382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узкого диапазона яркостей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07000" y="2209680"/>
            <a:ext cx="85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узкого диапазона яркостей – линейное растя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mall_diap1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048120" cy="1712880"/>
          </a:xfrm>
          <a:prstGeom prst="rect">
            <a:avLst/>
          </a:prstGeom>
          <a:ln w="0">
            <a:noFill/>
          </a:ln>
        </p:spPr>
      </p:pic>
      <p:pic>
        <p:nvPicPr>
          <p:cNvPr id="134" name="good_diap1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3048120" cy="171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5720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small_diap1" descr=""/>
          <p:cNvPicPr/>
          <p:nvPr/>
        </p:nvPicPr>
        <p:blipFill>
          <a:blip r:embed="rId3"/>
          <a:stretch/>
        </p:blipFill>
        <p:spPr>
          <a:xfrm>
            <a:off x="4572000" y="2755800"/>
            <a:ext cx="2895480" cy="1704960"/>
          </a:xfrm>
          <a:prstGeom prst="rect">
            <a:avLst/>
          </a:prstGeom>
          <a:ln w="0">
            <a:noFill/>
          </a:ln>
        </p:spPr>
      </p:pic>
      <p:pic>
        <p:nvPicPr>
          <p:cNvPr id="138" name="good_diap1" descr=""/>
          <p:cNvPicPr/>
          <p:nvPr/>
        </p:nvPicPr>
        <p:blipFill>
          <a:blip r:embed="rId4"/>
          <a:stretch/>
        </p:blipFill>
        <p:spPr>
          <a:xfrm>
            <a:off x="4572000" y="4876920"/>
            <a:ext cx="29718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енсация недостаточной контрастност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73840" y="220968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инейн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енсация недостаточной контрас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low_contr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143" name="low_contr1" descr=""/>
          <p:cNvPicPr/>
          <p:nvPr/>
        </p:nvPicPr>
        <p:blipFill>
          <a:blip r:embed="rId2"/>
          <a:stretch/>
        </p:blipFill>
        <p:spPr>
          <a:xfrm>
            <a:off x="955800" y="4684680"/>
            <a:ext cx="3276360" cy="192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20600" y="594360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high_corr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2962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06:35Z</dcterms:created>
  <dc:creator>vvp</dc:creator>
  <dc:description/>
  <dc:language>en-US</dc:language>
  <cp:lastModifiedBy>Admin</cp:lastModifiedBy>
  <dcterms:modified xsi:type="dcterms:W3CDTF">2003-02-25T13:38:52Z</dcterms:modified>
  <cp:revision>230</cp:revision>
  <dc:subject/>
  <dc:title>Обработка и анализ изображений</dc:title>
</cp:coreProperties>
</file>