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920-D919-4407-ADEC-5F8F2CB7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C7D-1CF7-4F17-83A4-91713C96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E28-D625-4955-843F-31ACE709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16F-18E5-4B03-995F-51290738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BC5-1702-4321-B957-6FF60C02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F79-5BA2-4961-B651-A77A7209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E78-F0A8-4738-8330-24266987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B74-9C3C-4728-ABBA-DFAC03AA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7BE-5295-4673-89BA-20AE7588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46F-71A4-4096-A6AA-5A317A1B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B48-24B1-40F4-9BBE-9DA2C684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C11-9644-4303-839B-2888D88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0DA6-DCD3-4B03-ABEE-16039EA09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кции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ая визуализ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Visualiz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оповерхности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случа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sv3" descr=""/>
          <p:cNvPicPr/>
          <p:nvPr/>
        </p:nvPicPr>
        <p:blipFill>
          <a:blip r:embed="rId1"/>
          <a:stretch/>
        </p:blipFill>
        <p:spPr>
          <a:xfrm>
            <a:off x="685800" y="2085840"/>
            <a:ext cx="7696080" cy="414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FD2-E126-431F-B84D-4D75903C44A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оповерхности (6)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ение норма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v6" descr=""/>
          <p:cNvPicPr/>
          <p:nvPr/>
        </p:nvPicPr>
        <p:blipFill>
          <a:blip r:embed="rId1"/>
          <a:stretch/>
        </p:blipFill>
        <p:spPr>
          <a:xfrm>
            <a:off x="685800" y="2351160"/>
            <a:ext cx="7772400" cy="357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838-C20B-404D-874E-332AF62C81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горитм бегущего куб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ать четыре слоя в памя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ируется 2 слоя и создается куб из соседей в одном слое и 4 соседей в друг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ся индекс сравнением 8 значений в вершинах куб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онстантой поверх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я индекс, выбираем из таблицы заранее вычисленный список реб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им точки пересечения линейной интерполяци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м ед. нормали в вершинах куба и интерполируем нормали в вершины треуг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аем треугольники с нормалями (да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G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87B-B0D5-4C67-82F6-6F41EF05D8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тимизация алгорит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sv5" descr=""/>
          <p:cNvPicPr/>
          <p:nvPr/>
        </p:nvPicPr>
        <p:blipFill>
          <a:blip r:embed="rId1"/>
          <a:stretch/>
        </p:blipFill>
        <p:spPr>
          <a:xfrm>
            <a:off x="1905120" y="1849320"/>
            <a:ext cx="480060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B88-75FC-4CB1-A8E5-21D3C90B7A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по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хотим построить функцию, которая позволяет создавать произвольные формы при изображении изоповерхностей. Следовательно, эта функция должна зависеть от набора заданных ключевых точек. Мы хотим, чтобы в наших моделях поле было непрерывным. Каждая точка имеет конечный радиус влияния. Мы вычисляем значение поля в произвольной точке, как сумму сумму значений от нескольких ближайших ключевых точ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1CB-48C4-4BD0-9B74-FFB3F072DB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ункция ключевой точ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sv7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867280" cy="4395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638680" y="2438280"/>
            <a:ext cx="327672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ад каждой точки в поле распространя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екоторое расстояние от точки (радиус влия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(0.0) = 1.0   C’(0.0) =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(R) = 0.0      C’(R) =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B48-90CA-4F4B-845B-A0955F1498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ункция ключевой точ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2*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3*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услови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(R/2)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a*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b*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c *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-0.444444    b = 1.888889   c = -2.4444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0FF-8D31-4ABA-A0C2-CCD598A8DD9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ним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v10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48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ED9-F2E1-402B-8D20-05323D0FF9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sv9" descr=""/>
          <p:cNvPicPr/>
          <p:nvPr/>
        </p:nvPicPr>
        <p:blipFill>
          <a:blip r:embed="rId1"/>
          <a:stretch/>
        </p:blipFill>
        <p:spPr>
          <a:xfrm>
            <a:off x="1828800" y="1739880"/>
            <a:ext cx="4800600" cy="454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DDE-F0F7-40E6-B9E5-C90D08EBF77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учная визуализ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ntro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6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64E-D539-4238-8F67-0A6BBA7F26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553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E98-CC2B-4599-9EBB-73B996B63A1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олинии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38360" y="2362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38360" y="2362320"/>
            <a:ext cx="5410080" cy="2971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05240" y="2362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57680" y="2362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71880" y="2362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43480" y="2362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76840" y="2362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91040" y="2362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62640" y="2362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38098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38360" y="3048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38360" y="45720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28800" y="2695680"/>
            <a:ext cx="2729160" cy="2342880"/>
          </a:xfrm>
          <a:custGeom>
            <a:avLst/>
            <a:gdLst/>
            <a:ahLst/>
            <a:rect l="l" t="t" r="r" b="b"/>
            <a:pathLst>
              <a:path w="1719" h="1476">
                <a:moveTo>
                  <a:pt x="1611" y="0"/>
                </a:moveTo>
                <a:cubicBezTo>
                  <a:pt x="1592" y="6"/>
                  <a:pt x="1577" y="22"/>
                  <a:pt x="1557" y="27"/>
                </a:cubicBezTo>
                <a:cubicBezTo>
                  <a:pt x="1513" y="38"/>
                  <a:pt x="1466" y="34"/>
                  <a:pt x="1422" y="45"/>
                </a:cubicBezTo>
                <a:cubicBezTo>
                  <a:pt x="1391" y="53"/>
                  <a:pt x="1334" y="66"/>
                  <a:pt x="1305" y="81"/>
                </a:cubicBezTo>
                <a:cubicBezTo>
                  <a:pt x="1256" y="106"/>
                  <a:pt x="1301" y="94"/>
                  <a:pt x="1251" y="108"/>
                </a:cubicBezTo>
                <a:cubicBezTo>
                  <a:pt x="1209" y="119"/>
                  <a:pt x="1135" y="128"/>
                  <a:pt x="1098" y="153"/>
                </a:cubicBezTo>
                <a:cubicBezTo>
                  <a:pt x="1043" y="189"/>
                  <a:pt x="972" y="204"/>
                  <a:pt x="909" y="225"/>
                </a:cubicBezTo>
                <a:cubicBezTo>
                  <a:pt x="899" y="228"/>
                  <a:pt x="892" y="239"/>
                  <a:pt x="882" y="243"/>
                </a:cubicBezTo>
                <a:cubicBezTo>
                  <a:pt x="865" y="251"/>
                  <a:pt x="828" y="261"/>
                  <a:pt x="828" y="261"/>
                </a:cubicBezTo>
                <a:cubicBezTo>
                  <a:pt x="799" y="304"/>
                  <a:pt x="745" y="313"/>
                  <a:pt x="702" y="342"/>
                </a:cubicBezTo>
                <a:cubicBezTo>
                  <a:pt x="690" y="360"/>
                  <a:pt x="673" y="375"/>
                  <a:pt x="666" y="396"/>
                </a:cubicBezTo>
                <a:cubicBezTo>
                  <a:pt x="643" y="465"/>
                  <a:pt x="617" y="577"/>
                  <a:pt x="540" y="603"/>
                </a:cubicBezTo>
                <a:cubicBezTo>
                  <a:pt x="500" y="656"/>
                  <a:pt x="525" y="631"/>
                  <a:pt x="459" y="675"/>
                </a:cubicBezTo>
                <a:cubicBezTo>
                  <a:pt x="450" y="681"/>
                  <a:pt x="432" y="693"/>
                  <a:pt x="432" y="693"/>
                </a:cubicBezTo>
                <a:cubicBezTo>
                  <a:pt x="395" y="749"/>
                  <a:pt x="436" y="694"/>
                  <a:pt x="387" y="738"/>
                </a:cubicBezTo>
                <a:cubicBezTo>
                  <a:pt x="352" y="769"/>
                  <a:pt x="326" y="811"/>
                  <a:pt x="288" y="837"/>
                </a:cubicBezTo>
                <a:cubicBezTo>
                  <a:pt x="264" y="909"/>
                  <a:pt x="300" y="825"/>
                  <a:pt x="252" y="873"/>
                </a:cubicBezTo>
                <a:cubicBezTo>
                  <a:pt x="204" y="921"/>
                  <a:pt x="288" y="885"/>
                  <a:pt x="216" y="909"/>
                </a:cubicBezTo>
                <a:cubicBezTo>
                  <a:pt x="196" y="968"/>
                  <a:pt x="224" y="910"/>
                  <a:pt x="180" y="945"/>
                </a:cubicBezTo>
                <a:cubicBezTo>
                  <a:pt x="172" y="952"/>
                  <a:pt x="170" y="964"/>
                  <a:pt x="162" y="972"/>
                </a:cubicBezTo>
                <a:cubicBezTo>
                  <a:pt x="91" y="1043"/>
                  <a:pt x="182" y="929"/>
                  <a:pt x="108" y="1017"/>
                </a:cubicBezTo>
                <a:cubicBezTo>
                  <a:pt x="101" y="1025"/>
                  <a:pt x="97" y="1036"/>
                  <a:pt x="90" y="1044"/>
                </a:cubicBezTo>
                <a:cubicBezTo>
                  <a:pt x="73" y="1063"/>
                  <a:pt x="36" y="1098"/>
                  <a:pt x="36" y="1098"/>
                </a:cubicBezTo>
                <a:cubicBezTo>
                  <a:pt x="15" y="1162"/>
                  <a:pt x="29" y="1136"/>
                  <a:pt x="0" y="1179"/>
                </a:cubicBezTo>
                <a:cubicBezTo>
                  <a:pt x="3" y="1218"/>
                  <a:pt x="3" y="1257"/>
                  <a:pt x="9" y="1296"/>
                </a:cubicBezTo>
                <a:cubicBezTo>
                  <a:pt x="13" y="1323"/>
                  <a:pt x="31" y="1381"/>
                  <a:pt x="54" y="1404"/>
                </a:cubicBezTo>
                <a:cubicBezTo>
                  <a:pt x="104" y="1454"/>
                  <a:pt x="279" y="1470"/>
                  <a:pt x="342" y="1476"/>
                </a:cubicBezTo>
                <a:cubicBezTo>
                  <a:pt x="447" y="1466"/>
                  <a:pt x="543" y="1423"/>
                  <a:pt x="648" y="1413"/>
                </a:cubicBezTo>
                <a:cubicBezTo>
                  <a:pt x="699" y="1408"/>
                  <a:pt x="750" y="1407"/>
                  <a:pt x="801" y="1404"/>
                </a:cubicBezTo>
                <a:cubicBezTo>
                  <a:pt x="844" y="1390"/>
                  <a:pt x="854" y="1348"/>
                  <a:pt x="891" y="1323"/>
                </a:cubicBezTo>
                <a:cubicBezTo>
                  <a:pt x="903" y="1287"/>
                  <a:pt x="922" y="1263"/>
                  <a:pt x="945" y="1233"/>
                </a:cubicBezTo>
                <a:cubicBezTo>
                  <a:pt x="963" y="1180"/>
                  <a:pt x="991" y="1137"/>
                  <a:pt x="999" y="1080"/>
                </a:cubicBezTo>
                <a:cubicBezTo>
                  <a:pt x="1012" y="991"/>
                  <a:pt x="1011" y="878"/>
                  <a:pt x="1062" y="801"/>
                </a:cubicBezTo>
                <a:cubicBezTo>
                  <a:pt x="1071" y="765"/>
                  <a:pt x="1078" y="742"/>
                  <a:pt x="1098" y="711"/>
                </a:cubicBezTo>
                <a:cubicBezTo>
                  <a:pt x="1112" y="657"/>
                  <a:pt x="1116" y="602"/>
                  <a:pt x="1134" y="549"/>
                </a:cubicBezTo>
                <a:cubicBezTo>
                  <a:pt x="1136" y="533"/>
                  <a:pt x="1142" y="465"/>
                  <a:pt x="1152" y="441"/>
                </a:cubicBezTo>
                <a:cubicBezTo>
                  <a:pt x="1170" y="400"/>
                  <a:pt x="1165" y="423"/>
                  <a:pt x="1197" y="405"/>
                </a:cubicBezTo>
                <a:cubicBezTo>
                  <a:pt x="1235" y="384"/>
                  <a:pt x="1284" y="329"/>
                  <a:pt x="1332" y="324"/>
                </a:cubicBezTo>
                <a:cubicBezTo>
                  <a:pt x="1386" y="319"/>
                  <a:pt x="1440" y="318"/>
                  <a:pt x="1494" y="315"/>
                </a:cubicBezTo>
                <a:cubicBezTo>
                  <a:pt x="1604" y="293"/>
                  <a:pt x="1490" y="318"/>
                  <a:pt x="1566" y="297"/>
                </a:cubicBezTo>
                <a:cubicBezTo>
                  <a:pt x="1590" y="290"/>
                  <a:pt x="1638" y="279"/>
                  <a:pt x="1638" y="279"/>
                </a:cubicBezTo>
                <a:cubicBezTo>
                  <a:pt x="1719" y="225"/>
                  <a:pt x="1673" y="62"/>
                  <a:pt x="1611" y="0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7640" y="2424240"/>
            <a:ext cx="1986120" cy="2928960"/>
          </a:xfrm>
          <a:custGeom>
            <a:avLst/>
            <a:gdLst/>
            <a:ahLst/>
            <a:rect l="l" t="t" r="r" b="b"/>
            <a:pathLst>
              <a:path w="1251" h="1845">
                <a:moveTo>
                  <a:pt x="0" y="1845"/>
                </a:moveTo>
                <a:cubicBezTo>
                  <a:pt x="31" y="1835"/>
                  <a:pt x="59" y="1819"/>
                  <a:pt x="90" y="1809"/>
                </a:cubicBezTo>
                <a:cubicBezTo>
                  <a:pt x="173" y="1726"/>
                  <a:pt x="197" y="1588"/>
                  <a:pt x="297" y="1521"/>
                </a:cubicBezTo>
                <a:cubicBezTo>
                  <a:pt x="311" y="1478"/>
                  <a:pt x="342" y="1445"/>
                  <a:pt x="360" y="1404"/>
                </a:cubicBezTo>
                <a:cubicBezTo>
                  <a:pt x="378" y="1363"/>
                  <a:pt x="381" y="1332"/>
                  <a:pt x="405" y="1296"/>
                </a:cubicBezTo>
                <a:cubicBezTo>
                  <a:pt x="427" y="1208"/>
                  <a:pt x="474" y="1148"/>
                  <a:pt x="549" y="1098"/>
                </a:cubicBezTo>
                <a:cubicBezTo>
                  <a:pt x="647" y="1033"/>
                  <a:pt x="520" y="1081"/>
                  <a:pt x="603" y="1053"/>
                </a:cubicBezTo>
                <a:cubicBezTo>
                  <a:pt x="689" y="967"/>
                  <a:pt x="551" y="1095"/>
                  <a:pt x="684" y="1017"/>
                </a:cubicBezTo>
                <a:cubicBezTo>
                  <a:pt x="732" y="989"/>
                  <a:pt x="763" y="926"/>
                  <a:pt x="792" y="882"/>
                </a:cubicBezTo>
                <a:cubicBezTo>
                  <a:pt x="831" y="824"/>
                  <a:pt x="830" y="749"/>
                  <a:pt x="846" y="684"/>
                </a:cubicBezTo>
                <a:cubicBezTo>
                  <a:pt x="851" y="666"/>
                  <a:pt x="858" y="648"/>
                  <a:pt x="864" y="630"/>
                </a:cubicBezTo>
                <a:cubicBezTo>
                  <a:pt x="867" y="621"/>
                  <a:pt x="865" y="608"/>
                  <a:pt x="873" y="603"/>
                </a:cubicBezTo>
                <a:cubicBezTo>
                  <a:pt x="882" y="597"/>
                  <a:pt x="892" y="592"/>
                  <a:pt x="900" y="585"/>
                </a:cubicBezTo>
                <a:cubicBezTo>
                  <a:pt x="924" y="565"/>
                  <a:pt x="947" y="528"/>
                  <a:pt x="981" y="522"/>
                </a:cubicBezTo>
                <a:cubicBezTo>
                  <a:pt x="999" y="519"/>
                  <a:pt x="1017" y="516"/>
                  <a:pt x="1035" y="513"/>
                </a:cubicBezTo>
                <a:cubicBezTo>
                  <a:pt x="1052" y="496"/>
                  <a:pt x="1072" y="485"/>
                  <a:pt x="1089" y="468"/>
                </a:cubicBezTo>
                <a:cubicBezTo>
                  <a:pt x="1121" y="436"/>
                  <a:pt x="1101" y="424"/>
                  <a:pt x="1143" y="396"/>
                </a:cubicBezTo>
                <a:cubicBezTo>
                  <a:pt x="1154" y="363"/>
                  <a:pt x="1159" y="335"/>
                  <a:pt x="1179" y="306"/>
                </a:cubicBezTo>
                <a:cubicBezTo>
                  <a:pt x="1194" y="246"/>
                  <a:pt x="1209" y="186"/>
                  <a:pt x="1224" y="126"/>
                </a:cubicBezTo>
                <a:cubicBezTo>
                  <a:pt x="1235" y="83"/>
                  <a:pt x="1251" y="45"/>
                  <a:pt x="1251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71560" y="2560680"/>
            <a:ext cx="1543320" cy="1477800"/>
          </a:xfrm>
          <a:custGeom>
            <a:avLst/>
            <a:gdLst/>
            <a:ahLst/>
            <a:rect l="l" t="t" r="r" b="b"/>
            <a:pathLst>
              <a:path w="972" h="931">
                <a:moveTo>
                  <a:pt x="108" y="148"/>
                </a:moveTo>
                <a:cubicBezTo>
                  <a:pt x="151" y="83"/>
                  <a:pt x="90" y="163"/>
                  <a:pt x="180" y="103"/>
                </a:cubicBezTo>
                <a:cubicBezTo>
                  <a:pt x="250" y="56"/>
                  <a:pt x="359" y="50"/>
                  <a:pt x="441" y="40"/>
                </a:cubicBezTo>
                <a:cubicBezTo>
                  <a:pt x="527" y="42"/>
                  <a:pt x="750" y="0"/>
                  <a:pt x="864" y="76"/>
                </a:cubicBezTo>
                <a:cubicBezTo>
                  <a:pt x="870" y="85"/>
                  <a:pt x="874" y="95"/>
                  <a:pt x="882" y="103"/>
                </a:cubicBezTo>
                <a:cubicBezTo>
                  <a:pt x="890" y="111"/>
                  <a:pt x="902" y="113"/>
                  <a:pt x="909" y="121"/>
                </a:cubicBezTo>
                <a:cubicBezTo>
                  <a:pt x="938" y="154"/>
                  <a:pt x="958" y="197"/>
                  <a:pt x="972" y="238"/>
                </a:cubicBezTo>
                <a:cubicBezTo>
                  <a:pt x="969" y="277"/>
                  <a:pt x="970" y="317"/>
                  <a:pt x="963" y="355"/>
                </a:cubicBezTo>
                <a:cubicBezTo>
                  <a:pt x="954" y="404"/>
                  <a:pt x="857" y="424"/>
                  <a:pt x="819" y="445"/>
                </a:cubicBezTo>
                <a:cubicBezTo>
                  <a:pt x="791" y="461"/>
                  <a:pt x="765" y="481"/>
                  <a:pt x="738" y="499"/>
                </a:cubicBezTo>
                <a:cubicBezTo>
                  <a:pt x="729" y="505"/>
                  <a:pt x="711" y="517"/>
                  <a:pt x="711" y="517"/>
                </a:cubicBezTo>
                <a:cubicBezTo>
                  <a:pt x="690" y="548"/>
                  <a:pt x="670" y="568"/>
                  <a:pt x="639" y="589"/>
                </a:cubicBezTo>
                <a:cubicBezTo>
                  <a:pt x="600" y="648"/>
                  <a:pt x="580" y="684"/>
                  <a:pt x="558" y="751"/>
                </a:cubicBezTo>
                <a:cubicBezTo>
                  <a:pt x="548" y="782"/>
                  <a:pt x="541" y="837"/>
                  <a:pt x="513" y="859"/>
                </a:cubicBezTo>
                <a:cubicBezTo>
                  <a:pt x="506" y="865"/>
                  <a:pt x="494" y="864"/>
                  <a:pt x="486" y="868"/>
                </a:cubicBezTo>
                <a:cubicBezTo>
                  <a:pt x="425" y="899"/>
                  <a:pt x="365" y="917"/>
                  <a:pt x="297" y="931"/>
                </a:cubicBezTo>
                <a:cubicBezTo>
                  <a:pt x="258" y="928"/>
                  <a:pt x="219" y="928"/>
                  <a:pt x="180" y="922"/>
                </a:cubicBezTo>
                <a:cubicBezTo>
                  <a:pt x="161" y="919"/>
                  <a:pt x="126" y="904"/>
                  <a:pt x="126" y="904"/>
                </a:cubicBezTo>
                <a:cubicBezTo>
                  <a:pt x="120" y="895"/>
                  <a:pt x="116" y="884"/>
                  <a:pt x="108" y="877"/>
                </a:cubicBezTo>
                <a:cubicBezTo>
                  <a:pt x="101" y="871"/>
                  <a:pt x="87" y="876"/>
                  <a:pt x="81" y="868"/>
                </a:cubicBezTo>
                <a:cubicBezTo>
                  <a:pt x="70" y="853"/>
                  <a:pt x="69" y="832"/>
                  <a:pt x="63" y="814"/>
                </a:cubicBezTo>
                <a:cubicBezTo>
                  <a:pt x="60" y="804"/>
                  <a:pt x="49" y="797"/>
                  <a:pt x="45" y="787"/>
                </a:cubicBezTo>
                <a:cubicBezTo>
                  <a:pt x="22" y="736"/>
                  <a:pt x="9" y="680"/>
                  <a:pt x="0" y="625"/>
                </a:cubicBezTo>
                <a:cubicBezTo>
                  <a:pt x="8" y="546"/>
                  <a:pt x="24" y="405"/>
                  <a:pt x="99" y="355"/>
                </a:cubicBezTo>
                <a:cubicBezTo>
                  <a:pt x="137" y="242"/>
                  <a:pt x="142" y="274"/>
                  <a:pt x="108" y="148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23080" y="3510000"/>
            <a:ext cx="920520" cy="1619280"/>
          </a:xfrm>
          <a:custGeom>
            <a:avLst/>
            <a:gdLst/>
            <a:ahLst/>
            <a:rect l="l" t="t" r="r" b="b"/>
            <a:pathLst>
              <a:path w="580" h="1020">
                <a:moveTo>
                  <a:pt x="526" y="45"/>
                </a:moveTo>
                <a:cubicBezTo>
                  <a:pt x="523" y="36"/>
                  <a:pt x="525" y="24"/>
                  <a:pt x="517" y="18"/>
                </a:cubicBezTo>
                <a:cubicBezTo>
                  <a:pt x="502" y="7"/>
                  <a:pt x="463" y="0"/>
                  <a:pt x="463" y="0"/>
                </a:cubicBezTo>
                <a:cubicBezTo>
                  <a:pt x="427" y="3"/>
                  <a:pt x="391" y="3"/>
                  <a:pt x="355" y="9"/>
                </a:cubicBezTo>
                <a:cubicBezTo>
                  <a:pt x="336" y="12"/>
                  <a:pt x="319" y="21"/>
                  <a:pt x="301" y="27"/>
                </a:cubicBezTo>
                <a:cubicBezTo>
                  <a:pt x="292" y="30"/>
                  <a:pt x="274" y="36"/>
                  <a:pt x="274" y="36"/>
                </a:cubicBezTo>
                <a:cubicBezTo>
                  <a:pt x="260" y="77"/>
                  <a:pt x="246" y="90"/>
                  <a:pt x="211" y="117"/>
                </a:cubicBezTo>
                <a:cubicBezTo>
                  <a:pt x="196" y="161"/>
                  <a:pt x="171" y="193"/>
                  <a:pt x="139" y="225"/>
                </a:cubicBezTo>
                <a:cubicBezTo>
                  <a:pt x="116" y="293"/>
                  <a:pt x="150" y="212"/>
                  <a:pt x="103" y="270"/>
                </a:cubicBezTo>
                <a:cubicBezTo>
                  <a:pt x="53" y="332"/>
                  <a:pt x="144" y="263"/>
                  <a:pt x="67" y="315"/>
                </a:cubicBezTo>
                <a:cubicBezTo>
                  <a:pt x="48" y="372"/>
                  <a:pt x="28" y="428"/>
                  <a:pt x="13" y="486"/>
                </a:cubicBezTo>
                <a:cubicBezTo>
                  <a:pt x="17" y="642"/>
                  <a:pt x="0" y="801"/>
                  <a:pt x="31" y="954"/>
                </a:cubicBezTo>
                <a:cubicBezTo>
                  <a:pt x="36" y="978"/>
                  <a:pt x="67" y="984"/>
                  <a:pt x="85" y="990"/>
                </a:cubicBezTo>
                <a:cubicBezTo>
                  <a:pt x="196" y="987"/>
                  <a:pt x="377" y="1020"/>
                  <a:pt x="490" y="945"/>
                </a:cubicBezTo>
                <a:cubicBezTo>
                  <a:pt x="505" y="899"/>
                  <a:pt x="532" y="859"/>
                  <a:pt x="544" y="810"/>
                </a:cubicBezTo>
                <a:cubicBezTo>
                  <a:pt x="561" y="742"/>
                  <a:pt x="571" y="673"/>
                  <a:pt x="580" y="603"/>
                </a:cubicBezTo>
                <a:cubicBezTo>
                  <a:pt x="573" y="499"/>
                  <a:pt x="557" y="400"/>
                  <a:pt x="544" y="297"/>
                </a:cubicBezTo>
                <a:cubicBezTo>
                  <a:pt x="540" y="217"/>
                  <a:pt x="526" y="127"/>
                  <a:pt x="526" y="45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25146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,y)=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28954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,y)=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27432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312408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38360" y="2387520"/>
            <a:ext cx="2090520" cy="1757520"/>
          </a:xfrm>
          <a:custGeom>
            <a:avLst/>
            <a:gdLst/>
            <a:ahLst/>
            <a:rect l="l" t="t" r="r" b="b"/>
            <a:pathLst>
              <a:path w="1317" h="1107">
                <a:moveTo>
                  <a:pt x="1317" y="0"/>
                </a:moveTo>
                <a:cubicBezTo>
                  <a:pt x="1308" y="144"/>
                  <a:pt x="1314" y="214"/>
                  <a:pt x="1205" y="306"/>
                </a:cubicBezTo>
                <a:cubicBezTo>
                  <a:pt x="1167" y="338"/>
                  <a:pt x="1200" y="325"/>
                  <a:pt x="1152" y="336"/>
                </a:cubicBezTo>
                <a:cubicBezTo>
                  <a:pt x="1142" y="344"/>
                  <a:pt x="1130" y="349"/>
                  <a:pt x="1122" y="359"/>
                </a:cubicBezTo>
                <a:cubicBezTo>
                  <a:pt x="1106" y="378"/>
                  <a:pt x="1112" y="408"/>
                  <a:pt x="1107" y="433"/>
                </a:cubicBezTo>
                <a:cubicBezTo>
                  <a:pt x="1103" y="454"/>
                  <a:pt x="1088" y="509"/>
                  <a:pt x="1078" y="523"/>
                </a:cubicBezTo>
                <a:cubicBezTo>
                  <a:pt x="1059" y="551"/>
                  <a:pt x="1044" y="586"/>
                  <a:pt x="1025" y="613"/>
                </a:cubicBezTo>
                <a:cubicBezTo>
                  <a:pt x="1009" y="636"/>
                  <a:pt x="993" y="638"/>
                  <a:pt x="973" y="658"/>
                </a:cubicBezTo>
                <a:cubicBezTo>
                  <a:pt x="967" y="664"/>
                  <a:pt x="965" y="674"/>
                  <a:pt x="958" y="680"/>
                </a:cubicBezTo>
                <a:cubicBezTo>
                  <a:pt x="933" y="701"/>
                  <a:pt x="895" y="729"/>
                  <a:pt x="868" y="748"/>
                </a:cubicBezTo>
                <a:cubicBezTo>
                  <a:pt x="820" y="819"/>
                  <a:pt x="760" y="880"/>
                  <a:pt x="711" y="950"/>
                </a:cubicBezTo>
                <a:cubicBezTo>
                  <a:pt x="699" y="967"/>
                  <a:pt x="684" y="1017"/>
                  <a:pt x="666" y="1024"/>
                </a:cubicBezTo>
                <a:cubicBezTo>
                  <a:pt x="630" y="1037"/>
                  <a:pt x="591" y="1042"/>
                  <a:pt x="554" y="1054"/>
                </a:cubicBezTo>
                <a:cubicBezTo>
                  <a:pt x="512" y="1081"/>
                  <a:pt x="467" y="1094"/>
                  <a:pt x="419" y="1107"/>
                </a:cubicBezTo>
                <a:cubicBezTo>
                  <a:pt x="309" y="1104"/>
                  <a:pt x="133" y="1092"/>
                  <a:pt x="0" y="109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115-1354-443F-8C58-DB5F7B46F2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олинии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981080" y="3733560"/>
            <a:ext cx="4496040" cy="1447920"/>
            <a:chOff x="1981080" y="3733560"/>
            <a:chExt cx="4496040" cy="1447920"/>
          </a:xfrm>
        </p:grpSpPr>
        <p:sp>
          <p:nvSpPr>
            <p:cNvPr id="70" name=""/>
            <p:cNvSpPr/>
            <p:nvPr/>
          </p:nvSpPr>
          <p:spPr>
            <a:xfrm flipV="1">
              <a:off x="1981080" y="3733560"/>
              <a:ext cx="1981440" cy="1447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62520" y="3733920"/>
              <a:ext cx="2514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5181480"/>
              <a:ext cx="2895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876920" y="3733560"/>
              <a:ext cx="1600200" cy="1447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209680" y="2743200"/>
            <a:ext cx="4496040" cy="1447920"/>
            <a:chOff x="2209680" y="2743200"/>
            <a:chExt cx="4496040" cy="1447920"/>
          </a:xfrm>
        </p:grpSpPr>
        <p:sp>
          <p:nvSpPr>
            <p:cNvPr id="75" name=""/>
            <p:cNvSpPr/>
            <p:nvPr/>
          </p:nvSpPr>
          <p:spPr>
            <a:xfrm flipV="1">
              <a:off x="2209680" y="2743200"/>
              <a:ext cx="198144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2743200"/>
              <a:ext cx="2514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419112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105520" y="2743200"/>
              <a:ext cx="160020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057400" y="2057040"/>
            <a:ext cx="4495320" cy="1447920"/>
            <a:chOff x="2057400" y="2057040"/>
            <a:chExt cx="4495320" cy="1447920"/>
          </a:xfrm>
        </p:grpSpPr>
        <p:sp>
          <p:nvSpPr>
            <p:cNvPr id="80" name=""/>
            <p:cNvSpPr/>
            <p:nvPr/>
          </p:nvSpPr>
          <p:spPr>
            <a:xfrm flipV="1">
              <a:off x="2057400" y="2057040"/>
              <a:ext cx="19810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8480" y="2057400"/>
              <a:ext cx="251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57400" y="350496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952880" y="2057040"/>
              <a:ext cx="159984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93432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,y)=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1905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,y)=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266720" y="3733920"/>
            <a:ext cx="16002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4495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648320" y="36572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02920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3581280"/>
            <a:ext cx="304920" cy="79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2133720"/>
            <a:ext cx="304560" cy="125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648320" y="2133360"/>
            <a:ext cx="38088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2971800"/>
            <a:ext cx="13680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00680" y="2479680"/>
            <a:ext cx="1495080" cy="863640"/>
          </a:xfrm>
          <a:custGeom>
            <a:avLst/>
            <a:gdLst/>
            <a:ahLst/>
            <a:rect l="l" t="t" r="r" b="b"/>
            <a:pathLst>
              <a:path w="942" h="544">
                <a:moveTo>
                  <a:pt x="502" y="346"/>
                </a:moveTo>
                <a:cubicBezTo>
                  <a:pt x="507" y="345"/>
                  <a:pt x="590" y="341"/>
                  <a:pt x="614" y="331"/>
                </a:cubicBezTo>
                <a:cubicBezTo>
                  <a:pt x="655" y="314"/>
                  <a:pt x="621" y="314"/>
                  <a:pt x="667" y="286"/>
                </a:cubicBezTo>
                <a:cubicBezTo>
                  <a:pt x="681" y="278"/>
                  <a:pt x="697" y="277"/>
                  <a:pt x="712" y="271"/>
                </a:cubicBezTo>
                <a:cubicBezTo>
                  <a:pt x="722" y="267"/>
                  <a:pt x="733" y="262"/>
                  <a:pt x="742" y="256"/>
                </a:cubicBezTo>
                <a:cubicBezTo>
                  <a:pt x="804" y="216"/>
                  <a:pt x="795" y="201"/>
                  <a:pt x="876" y="181"/>
                </a:cubicBezTo>
                <a:cubicBezTo>
                  <a:pt x="891" y="136"/>
                  <a:pt x="909" y="94"/>
                  <a:pt x="936" y="54"/>
                </a:cubicBezTo>
                <a:cubicBezTo>
                  <a:pt x="928" y="0"/>
                  <a:pt x="942" y="1"/>
                  <a:pt x="876" y="1"/>
                </a:cubicBezTo>
                <a:cubicBezTo>
                  <a:pt x="711" y="1"/>
                  <a:pt x="547" y="6"/>
                  <a:pt x="382" y="9"/>
                </a:cubicBezTo>
                <a:cubicBezTo>
                  <a:pt x="375" y="14"/>
                  <a:pt x="368" y="21"/>
                  <a:pt x="360" y="24"/>
                </a:cubicBezTo>
                <a:cubicBezTo>
                  <a:pt x="346" y="29"/>
                  <a:pt x="328" y="23"/>
                  <a:pt x="315" y="31"/>
                </a:cubicBezTo>
                <a:cubicBezTo>
                  <a:pt x="291" y="46"/>
                  <a:pt x="255" y="91"/>
                  <a:pt x="255" y="91"/>
                </a:cubicBezTo>
                <a:cubicBezTo>
                  <a:pt x="232" y="167"/>
                  <a:pt x="230" y="237"/>
                  <a:pt x="188" y="308"/>
                </a:cubicBezTo>
                <a:cubicBezTo>
                  <a:pt x="159" y="357"/>
                  <a:pt x="90" y="380"/>
                  <a:pt x="46" y="413"/>
                </a:cubicBezTo>
                <a:cubicBezTo>
                  <a:pt x="22" y="462"/>
                  <a:pt x="0" y="515"/>
                  <a:pt x="68" y="533"/>
                </a:cubicBezTo>
                <a:cubicBezTo>
                  <a:pt x="147" y="530"/>
                  <a:pt x="243" y="538"/>
                  <a:pt x="323" y="510"/>
                </a:cubicBezTo>
                <a:cubicBezTo>
                  <a:pt x="422" y="516"/>
                  <a:pt x="510" y="529"/>
                  <a:pt x="607" y="540"/>
                </a:cubicBezTo>
                <a:cubicBezTo>
                  <a:pt x="619" y="538"/>
                  <a:pt x="638" y="544"/>
                  <a:pt x="644" y="533"/>
                </a:cubicBezTo>
                <a:cubicBezTo>
                  <a:pt x="647" y="527"/>
                  <a:pt x="632" y="440"/>
                  <a:pt x="622" y="428"/>
                </a:cubicBezTo>
                <a:cubicBezTo>
                  <a:pt x="615" y="419"/>
                  <a:pt x="533" y="406"/>
                  <a:pt x="525" y="405"/>
                </a:cubicBezTo>
                <a:cubicBezTo>
                  <a:pt x="503" y="373"/>
                  <a:pt x="512" y="392"/>
                  <a:pt x="502" y="346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28960" y="3557520"/>
            <a:ext cx="1628640" cy="620640"/>
          </a:xfrm>
          <a:custGeom>
            <a:avLst/>
            <a:gdLst/>
            <a:ahLst/>
            <a:rect l="l" t="t" r="r" b="b"/>
            <a:pathLst>
              <a:path w="1026" h="391">
                <a:moveTo>
                  <a:pt x="721" y="26"/>
                </a:moveTo>
                <a:cubicBezTo>
                  <a:pt x="578" y="7"/>
                  <a:pt x="702" y="0"/>
                  <a:pt x="474" y="11"/>
                </a:cubicBezTo>
                <a:cubicBezTo>
                  <a:pt x="458" y="35"/>
                  <a:pt x="448" y="70"/>
                  <a:pt x="422" y="85"/>
                </a:cubicBezTo>
                <a:cubicBezTo>
                  <a:pt x="406" y="94"/>
                  <a:pt x="338" y="99"/>
                  <a:pt x="332" y="100"/>
                </a:cubicBezTo>
                <a:cubicBezTo>
                  <a:pt x="201" y="116"/>
                  <a:pt x="327" y="106"/>
                  <a:pt x="92" y="115"/>
                </a:cubicBezTo>
                <a:cubicBezTo>
                  <a:pt x="67" y="118"/>
                  <a:pt x="33" y="103"/>
                  <a:pt x="18" y="123"/>
                </a:cubicBezTo>
                <a:cubicBezTo>
                  <a:pt x="0" y="147"/>
                  <a:pt x="33" y="239"/>
                  <a:pt x="70" y="243"/>
                </a:cubicBezTo>
                <a:cubicBezTo>
                  <a:pt x="162" y="252"/>
                  <a:pt x="255" y="248"/>
                  <a:pt x="347" y="250"/>
                </a:cubicBezTo>
                <a:cubicBezTo>
                  <a:pt x="391" y="260"/>
                  <a:pt x="436" y="265"/>
                  <a:pt x="481" y="272"/>
                </a:cubicBezTo>
                <a:cubicBezTo>
                  <a:pt x="659" y="391"/>
                  <a:pt x="508" y="303"/>
                  <a:pt x="1005" y="287"/>
                </a:cubicBezTo>
                <a:cubicBezTo>
                  <a:pt x="1026" y="229"/>
                  <a:pt x="989" y="204"/>
                  <a:pt x="945" y="175"/>
                </a:cubicBezTo>
                <a:cubicBezTo>
                  <a:pt x="936" y="169"/>
                  <a:pt x="931" y="159"/>
                  <a:pt x="923" y="153"/>
                </a:cubicBezTo>
                <a:cubicBezTo>
                  <a:pt x="914" y="147"/>
                  <a:pt x="903" y="143"/>
                  <a:pt x="893" y="138"/>
                </a:cubicBezTo>
                <a:cubicBezTo>
                  <a:pt x="879" y="99"/>
                  <a:pt x="835" y="85"/>
                  <a:pt x="796" y="78"/>
                </a:cubicBezTo>
                <a:cubicBezTo>
                  <a:pt x="786" y="73"/>
                  <a:pt x="775" y="69"/>
                  <a:pt x="766" y="63"/>
                </a:cubicBezTo>
                <a:cubicBezTo>
                  <a:pt x="750" y="52"/>
                  <a:pt x="721" y="26"/>
                  <a:pt x="721" y="2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B9A-86A6-4E14-977E-E1C1FA07A8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олинии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514600"/>
            <a:ext cx="990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191120"/>
            <a:ext cx="99036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2590920"/>
            <a:ext cx="99036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590920"/>
            <a:ext cx="99036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3120" y="3200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5840" y="3124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1320" y="3200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8000" y="3200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8000" y="228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9800" y="228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8120" y="4800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8840" y="4800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7432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066680" y="44197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657600" y="23619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191120"/>
            <a:ext cx="990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7640" y="4800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3886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724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432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962520" y="41148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495680" y="434304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5257800"/>
            <a:ext cx="990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3600" y="5867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30640" y="4952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56386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5181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58000" y="28195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2438280"/>
            <a:ext cx="5331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191120"/>
            <a:ext cx="990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9440" y="4800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886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24680" y="4724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2612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4191120"/>
            <a:ext cx="990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9440" y="4800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886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24680" y="4724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612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5334120"/>
            <a:ext cx="990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9440" y="594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46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26120" y="5029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5334120"/>
            <a:ext cx="990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9440" y="594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246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6120" y="5029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2600" y="4343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8200" y="4179960"/>
            <a:ext cx="604800" cy="357120"/>
          </a:xfrm>
          <a:custGeom>
            <a:avLst/>
            <a:gdLst/>
            <a:ahLst/>
            <a:rect l="l" t="t" r="r" b="b"/>
            <a:pathLst>
              <a:path w="381" h="225">
                <a:moveTo>
                  <a:pt x="0" y="225"/>
                </a:moveTo>
                <a:cubicBezTo>
                  <a:pt x="38" y="211"/>
                  <a:pt x="72" y="207"/>
                  <a:pt x="112" y="202"/>
                </a:cubicBezTo>
                <a:cubicBezTo>
                  <a:pt x="135" y="195"/>
                  <a:pt x="157" y="187"/>
                  <a:pt x="180" y="180"/>
                </a:cubicBezTo>
                <a:cubicBezTo>
                  <a:pt x="228" y="147"/>
                  <a:pt x="244" y="138"/>
                  <a:pt x="307" y="120"/>
                </a:cubicBezTo>
                <a:cubicBezTo>
                  <a:pt x="321" y="106"/>
                  <a:pt x="340" y="97"/>
                  <a:pt x="352" y="82"/>
                </a:cubicBezTo>
                <a:cubicBezTo>
                  <a:pt x="368" y="63"/>
                  <a:pt x="370" y="23"/>
                  <a:pt x="3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4952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26360" y="4702320"/>
            <a:ext cx="665280" cy="261720"/>
          </a:xfrm>
          <a:custGeom>
            <a:avLst/>
            <a:gdLst/>
            <a:ahLst/>
            <a:rect l="l" t="t" r="r" b="b"/>
            <a:pathLst>
              <a:path w="419" h="165">
                <a:moveTo>
                  <a:pt x="0" y="165"/>
                </a:moveTo>
                <a:cubicBezTo>
                  <a:pt x="40" y="152"/>
                  <a:pt x="73" y="132"/>
                  <a:pt x="113" y="120"/>
                </a:cubicBezTo>
                <a:cubicBezTo>
                  <a:pt x="168" y="65"/>
                  <a:pt x="233" y="36"/>
                  <a:pt x="307" y="15"/>
                </a:cubicBezTo>
                <a:cubicBezTo>
                  <a:pt x="343" y="5"/>
                  <a:pt x="419" y="0"/>
                  <a:pt x="41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18200" y="5734080"/>
            <a:ext cx="522360" cy="369720"/>
          </a:xfrm>
          <a:custGeom>
            <a:avLst/>
            <a:gdLst/>
            <a:ahLst/>
            <a:rect l="l" t="t" r="r" b="b"/>
            <a:pathLst>
              <a:path w="329" h="233">
                <a:moveTo>
                  <a:pt x="0" y="9"/>
                </a:moveTo>
                <a:cubicBezTo>
                  <a:pt x="164" y="17"/>
                  <a:pt x="124" y="0"/>
                  <a:pt x="217" y="61"/>
                </a:cubicBezTo>
                <a:cubicBezTo>
                  <a:pt x="253" y="115"/>
                  <a:pt x="234" y="93"/>
                  <a:pt x="269" y="128"/>
                </a:cubicBezTo>
                <a:cubicBezTo>
                  <a:pt x="275" y="146"/>
                  <a:pt x="293" y="201"/>
                  <a:pt x="307" y="218"/>
                </a:cubicBezTo>
                <a:cubicBezTo>
                  <a:pt x="313" y="225"/>
                  <a:pt x="329" y="233"/>
                  <a:pt x="329" y="2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93040" y="5356080"/>
            <a:ext cx="522360" cy="474840"/>
          </a:xfrm>
          <a:custGeom>
            <a:avLst/>
            <a:gdLst/>
            <a:ahLst/>
            <a:rect l="l" t="t" r="r" b="b"/>
            <a:pathLst>
              <a:path w="329" h="299">
                <a:moveTo>
                  <a:pt x="0" y="0"/>
                </a:moveTo>
                <a:cubicBezTo>
                  <a:pt x="36" y="54"/>
                  <a:pt x="17" y="33"/>
                  <a:pt x="53" y="67"/>
                </a:cubicBezTo>
                <a:cubicBezTo>
                  <a:pt x="69" y="116"/>
                  <a:pt x="47" y="60"/>
                  <a:pt x="82" y="112"/>
                </a:cubicBezTo>
                <a:cubicBezTo>
                  <a:pt x="86" y="118"/>
                  <a:pt x="86" y="127"/>
                  <a:pt x="90" y="134"/>
                </a:cubicBezTo>
                <a:cubicBezTo>
                  <a:pt x="99" y="150"/>
                  <a:pt x="120" y="179"/>
                  <a:pt x="120" y="179"/>
                </a:cubicBezTo>
                <a:cubicBezTo>
                  <a:pt x="125" y="194"/>
                  <a:pt x="126" y="211"/>
                  <a:pt x="135" y="224"/>
                </a:cubicBezTo>
                <a:cubicBezTo>
                  <a:pt x="139" y="230"/>
                  <a:pt x="198" y="243"/>
                  <a:pt x="210" y="247"/>
                </a:cubicBezTo>
                <a:cubicBezTo>
                  <a:pt x="254" y="289"/>
                  <a:pt x="223" y="270"/>
                  <a:pt x="284" y="284"/>
                </a:cubicBezTo>
                <a:cubicBezTo>
                  <a:pt x="299" y="287"/>
                  <a:pt x="329" y="299"/>
                  <a:pt x="329" y="2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5BA-C85A-42A0-8104-19D565549A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оповерхности (1)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гущий куб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arching cub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sv1" descr=""/>
          <p:cNvPicPr/>
          <p:nvPr/>
        </p:nvPicPr>
        <p:blipFill>
          <a:blip r:embed="rId1"/>
          <a:stretch/>
        </p:blipFill>
        <p:spPr>
          <a:xfrm>
            <a:off x="1143000" y="1836720"/>
            <a:ext cx="6629400" cy="43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703-48C1-4083-96B7-B77412D326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оповерхности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исление индек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v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953240" cy="4478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410080" y="2743200"/>
            <a:ext cx="350532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1,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если значение в вершине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=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0,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если значение в вершине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A75-86A4-4B7C-8757-57E40D1AB6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оповерхности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случа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sv2" descr=""/>
          <p:cNvPicPr/>
          <p:nvPr/>
        </p:nvPicPr>
        <p:blipFill>
          <a:blip r:embed="rId1"/>
          <a:stretch/>
        </p:blipFill>
        <p:spPr>
          <a:xfrm>
            <a:off x="1752480" y="1852560"/>
            <a:ext cx="5334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457-00F6-4162-925B-E8FB2A13F7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3:51:38Z</dcterms:created>
  <dc:creator>ymb</dc:creator>
  <dc:description/>
  <dc:language>en-US</dc:language>
  <cp:lastModifiedBy>ymb</cp:lastModifiedBy>
  <dcterms:modified xsi:type="dcterms:W3CDTF">2003-04-29T09:03:52Z</dcterms:modified>
  <cp:revision>3</cp:revision>
  <dc:subject/>
  <dc:title>Лекции 12</dc:title>
</cp:coreProperties>
</file>