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13.png" ContentType="image/png"/>
  <Override PartName="/ppt/media/image54.jpeg" ContentType="image/jpe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6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B90-7500-4C6F-9DAE-538908FB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AAD-4972-42A3-9AAF-7D028C5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102-3545-4720-BA60-CB161983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7D1-6991-4E48-BA7B-8DB03F39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F49-FAF3-4EB6-B203-191C9FFB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DE2-F114-439B-A91C-1C806F7F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1C7-29DC-460E-898C-CCA5A02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2CE-2D9E-406E-8C62-DB39D690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211-810F-4971-BA8F-1D09D7D9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E9C-4AA0-4B25-89F9-6551D71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209-A76E-474D-8A86-D8167CF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9C5-5082-4219-83A3-6EF0544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DB32-567B-4555-A010-4D968C7E2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11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 апреля 2003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ерх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ablogo_bold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6905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8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круж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иксела 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иксе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29080"/>
            <a:ext cx="3809880" cy="281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905120"/>
                <a:ext cx="3809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238880" y="2438280"/>
                <a:ext cx="99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83040" y="3048120"/>
                <a:ext cx="3187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19680" y="4145040"/>
                <a:ext cx="4227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Δd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5486400"/>
                <a:ext cx="3200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Δ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625-674C-4686-AC0E-617E9D1FCC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9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круж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ьной точ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пять нужно исключить вещественные оп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в заме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 = 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/4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1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необходимо сравнив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/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так как  приращ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лые числа, то сравнивать можно с ну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2362320"/>
                <a:ext cx="609768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F35-89BD-4BC1-AB9E-6FC566F322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наружение прямых ли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3AC-5228-43D0-9D13-7CB8C995B9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разование Хафа (1)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gh Trans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= a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+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b = -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a + y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509-9C24-460C-876F-A512659EA6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разование Хоха (2)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gh Trans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co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y s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885-E127-4D95-AE03-25BF5F8318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разование Хоха (3)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gh Trans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co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y s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 -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(y -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3A5-7D26-4388-8698-A64F5D2497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разование Хоха (4)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ugh Trans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881-9426-4CEA-BD9F-2E7BAA8996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пное кодирование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reeman’s chain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2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2A4-7798-40A5-A9A2-F94CE1881E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Resampling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зменение дискретизаци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D28-7B0D-43C6-9AC7-05CB35A611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-х и 8-ми связное код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40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A51-9C05-4E4B-925F-5875561133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трем задани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бовой Валентин    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пшин Виктор             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дуков Александр   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невец Александр  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иничев Кирилл      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ко Данила        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юков Максим          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ганов Виктор            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6C9-E9ED-448A-A0C2-715012201A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резаем уг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G1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844-F6E4-4CEF-B382-DDF633C67C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… 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…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х точек рассматриваются как новая управляющая лома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IMG8" descr=""/>
          <p:cNvPicPr/>
          <p:nvPr/>
        </p:nvPicPr>
        <p:blipFill>
          <a:blip r:embed="rId1"/>
          <a:stretch/>
        </p:blipFill>
        <p:spPr>
          <a:xfrm>
            <a:off x="685800" y="3357720"/>
            <a:ext cx="3809880" cy="1361880"/>
          </a:xfrm>
          <a:prstGeom prst="rect">
            <a:avLst/>
          </a:prstGeom>
          <a:ln w="0">
            <a:noFill/>
          </a:ln>
        </p:spPr>
      </p:pic>
      <p:pic>
        <p:nvPicPr>
          <p:cNvPr id="147" name="IMG11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1600200" cy="816120"/>
          </a:xfrm>
          <a:prstGeom prst="rect">
            <a:avLst/>
          </a:prstGeom>
          <a:ln w="0">
            <a:noFill/>
          </a:ln>
        </p:spPr>
      </p:pic>
      <p:pic>
        <p:nvPicPr>
          <p:cNvPr id="148" name="IMG14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1600200" cy="8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8CD-8E6F-4A25-B22E-919B0793AC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IMG16" descr=""/>
          <p:cNvPicPr/>
          <p:nvPr/>
        </p:nvPicPr>
        <p:blipFill>
          <a:blip r:embed="rId1"/>
          <a:stretch/>
        </p:blipFill>
        <p:spPr>
          <a:xfrm>
            <a:off x="685800" y="2655720"/>
            <a:ext cx="3809880" cy="2764080"/>
          </a:xfrm>
          <a:prstGeom prst="rect">
            <a:avLst/>
          </a:prstGeom>
          <a:ln w="0">
            <a:noFill/>
          </a:ln>
        </p:spPr>
      </p:pic>
      <p:pic>
        <p:nvPicPr>
          <p:cNvPr id="152" name="IMG19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714480" cy="25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5B0-7754-4D82-A43F-186F7D4354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IMG20" descr=""/>
          <p:cNvPicPr/>
          <p:nvPr/>
        </p:nvPicPr>
        <p:blipFill>
          <a:blip r:embed="rId1"/>
          <a:stretch/>
        </p:blipFill>
        <p:spPr>
          <a:xfrm>
            <a:off x="685800" y="2617920"/>
            <a:ext cx="3809880" cy="2841480"/>
          </a:xfrm>
          <a:prstGeom prst="rect">
            <a:avLst/>
          </a:prstGeom>
          <a:ln w="0">
            <a:noFill/>
          </a:ln>
        </p:spPr>
      </p:pic>
      <p:pic>
        <p:nvPicPr>
          <p:cNvPr id="156" name="IMG21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44808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C35-830C-4F9E-99AE-7C66741CE8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IMG22" descr=""/>
          <p:cNvPicPr/>
          <p:nvPr/>
        </p:nvPicPr>
        <p:blipFill>
          <a:blip r:embed="rId1"/>
          <a:stretch/>
        </p:blipFill>
        <p:spPr>
          <a:xfrm>
            <a:off x="685800" y="2174760"/>
            <a:ext cx="3809880" cy="3727440"/>
          </a:xfrm>
          <a:prstGeom prst="rect">
            <a:avLst/>
          </a:prstGeom>
          <a:ln w="0">
            <a:noFill/>
          </a:ln>
        </p:spPr>
      </p:pic>
      <p:pic>
        <p:nvPicPr>
          <p:cNvPr id="160" name="IMG24" descr=""/>
          <p:cNvPicPr/>
          <p:nvPr/>
        </p:nvPicPr>
        <p:blipFill>
          <a:blip r:embed="rId2"/>
          <a:stretch/>
        </p:blipFill>
        <p:spPr>
          <a:xfrm>
            <a:off x="4876920" y="2293920"/>
            <a:ext cx="3657600" cy="35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A27-0B3A-4B8D-AEB1-0F247D2E02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IMG2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64" name="IMG26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75E-C5CF-4737-B901-EBA0A14525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119-6A6C-42E6-B033-24AAA69BA1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и контрольные 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MG18" descr=""/>
          <p:cNvPicPr/>
          <p:nvPr/>
        </p:nvPicPr>
        <p:blipFill>
          <a:blip r:embed="rId1"/>
          <a:stretch/>
        </p:blipFill>
        <p:spPr>
          <a:xfrm>
            <a:off x="685800" y="2655720"/>
            <a:ext cx="3809880" cy="2764080"/>
          </a:xfrm>
          <a:prstGeom prst="rect">
            <a:avLst/>
          </a:prstGeom>
          <a:ln w="0">
            <a:noFill/>
          </a:ln>
        </p:spPr>
      </p:pic>
      <p:pic>
        <p:nvPicPr>
          <p:cNvPr id="170" name="IMG9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419720" cy="563400"/>
          </a:xfrm>
          <a:prstGeom prst="rect">
            <a:avLst/>
          </a:prstGeom>
          <a:ln w="0">
            <a:noFill/>
          </a:ln>
        </p:spPr>
      </p:pic>
      <p:pic>
        <p:nvPicPr>
          <p:cNvPr id="171" name="IMG13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743200" cy="658800"/>
          </a:xfrm>
          <a:prstGeom prst="rect">
            <a:avLst/>
          </a:prstGeom>
          <a:ln w="0">
            <a:noFill/>
          </a:ln>
        </p:spPr>
      </p:pic>
      <p:pic>
        <p:nvPicPr>
          <p:cNvPr id="172" name="IMG1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2971800" cy="642960"/>
          </a:xfrm>
          <a:prstGeom prst="rect">
            <a:avLst/>
          </a:prstGeom>
          <a:ln w="0">
            <a:noFill/>
          </a:ln>
        </p:spPr>
      </p:pic>
      <p:pic>
        <p:nvPicPr>
          <p:cNvPr id="173" name="IMG29" descr=""/>
          <p:cNvPicPr/>
          <p:nvPr/>
        </p:nvPicPr>
        <p:blipFill>
          <a:blip r:embed="rId5"/>
          <a:stretch/>
        </p:blipFill>
        <p:spPr>
          <a:xfrm>
            <a:off x="5257800" y="4114800"/>
            <a:ext cx="3352680" cy="912960"/>
          </a:xfrm>
          <a:prstGeom prst="rect">
            <a:avLst/>
          </a:prstGeom>
          <a:ln w="0">
            <a:noFill/>
          </a:ln>
        </p:spPr>
      </p:pic>
      <p:pic>
        <p:nvPicPr>
          <p:cNvPr id="174" name="IMG30" descr=""/>
          <p:cNvPicPr/>
          <p:nvPr/>
        </p:nvPicPr>
        <p:blipFill>
          <a:blip r:embed="rId6"/>
          <a:stretch/>
        </p:blipFill>
        <p:spPr>
          <a:xfrm>
            <a:off x="5257800" y="5105520"/>
            <a:ext cx="3505320" cy="95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859-91BE-48DE-BC53-2A47A46C74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IMG3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2288880"/>
          </a:xfrm>
          <a:prstGeom prst="rect">
            <a:avLst/>
          </a:prstGeom>
          <a:ln w="0">
            <a:noFill/>
          </a:ln>
        </p:spPr>
      </p:pic>
      <p:pic>
        <p:nvPicPr>
          <p:cNvPr id="177" name="IMG42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7840" cy="1408320"/>
          </a:xfrm>
          <a:prstGeom prst="rect">
            <a:avLst/>
          </a:prstGeom>
          <a:ln w="0">
            <a:noFill/>
          </a:ln>
        </p:spPr>
      </p:pic>
      <p:pic>
        <p:nvPicPr>
          <p:cNvPr id="178" name="IMG43" descr=""/>
          <p:cNvPicPr/>
          <p:nvPr/>
        </p:nvPicPr>
        <p:blipFill>
          <a:blip r:embed="rId3"/>
          <a:stretch/>
        </p:blipFill>
        <p:spPr>
          <a:xfrm>
            <a:off x="762120" y="5791320"/>
            <a:ext cx="3657600" cy="86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1BD-2085-498A-825F-FF0D0DB77B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ивые Без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IMG1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38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CDD-E090-41D9-B454-68407A046F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1)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ям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P(x1, y1) и Q(x2, 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4495680" cy="323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800600" y="2971800"/>
                <a:ext cx="4343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800600" y="3581280"/>
                <a:ext cx="4114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4E3-CD68-4704-AC6C-A1E93494E7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тыре контрольные 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C1B-51BA-4DD1-A3EE-6266211F950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IMG1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1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734-5030-44A9-BC91-E811AAAD9A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есть контрольных точ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de-casteljau" descr=""/>
          <p:cNvPicPr/>
          <p:nvPr/>
        </p:nvPicPr>
        <p:blipFill>
          <a:blip r:embed="rId1"/>
          <a:stretch/>
        </p:blipFill>
        <p:spPr>
          <a:xfrm>
            <a:off x="1600200" y="1847880"/>
            <a:ext cx="5867280" cy="43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382-E5C9-4436-A6C9-5ECFE49157F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а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аная Безье задана тремя точками (0, 0), (0, 9), (18, 0). Определите координаты точки на кривой Безье 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1/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EE0-9181-4509-AC96-4BC401404A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а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аная Безье задана тремя точками (0, 0), (0, 9), (18, 0). Определите координаты точки на кривой Безье 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1/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600200" y="3962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962520"/>
            <a:ext cx="33526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00200" y="46479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952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F60-3E60-4E80-B69D-D3E620C6C2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номы Бернштей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=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77B-6880-4158-9435-24DD5B99B5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ивые Эрми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x(t) = T 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T M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[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 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(0) = P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[ 0 0 0 1 ]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(1)  = P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[ 1 1 1 1 ]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'(0) = 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[ 0 0 1 0 ]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'(1) = 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[ 3 2 1 0 ]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herm" descr=""/>
          <p:cNvPicPr/>
          <p:nvPr/>
        </p:nvPicPr>
        <p:blipFill>
          <a:blip r:embed="rId1"/>
          <a:stretch/>
        </p:blipFill>
        <p:spPr>
          <a:xfrm>
            <a:off x="685800" y="2830680"/>
            <a:ext cx="38098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743-C5E0-41B5-BD03-6350D541F1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D0C-8160-4877-9BF9-0092A37CACE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(t) = T M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x(t) = T M 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y(t) = T M 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z(t) = T M 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t) = 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6B7-79A2-4E60-B78A-B83BE1C62EB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мешивающие функции Эрмита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Hermite blending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 2 -2  1 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[-3  3 -2 -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 0  0  1  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 1  0  0  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 =  2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- 3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 = -2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3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 =   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- 2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+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t) =   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-  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hermbas" descr=""/>
          <p:cNvPicPr/>
          <p:nvPr/>
        </p:nvPicPr>
        <p:blipFill>
          <a:blip r:embed="rId1"/>
          <a:stretch/>
        </p:blipFill>
        <p:spPr>
          <a:xfrm>
            <a:off x="228600" y="2359080"/>
            <a:ext cx="4572000" cy="32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914-BFF4-4697-BFB1-FB1DB4C1BB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2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ям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-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на отрез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 -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вы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-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ни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а, тогда координаты срединной 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значение функции в этой точ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4267080" cy="33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8320" y="1752480"/>
                <a:ext cx="39621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24280" y="4952880"/>
                <a:ext cx="2362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876920" y="5791320"/>
                <a:ext cx="3200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8C3-20F4-40F9-963B-015EBD9D7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52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52480" y="3733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62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ED9-3293-4ED6-B578-30EEA9562B0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) = T • 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• 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• 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3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(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3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2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23D-9095-48E1-A2FD-323E759F90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ческая непрерыв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3276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Two curve segments are said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geometric continuous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at the joining point if and only if all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th derivatives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less than or equal to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computed with arc length parameters agree at the joining point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884-7D23-4E97-BA2F-98DC3E68C2F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2417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664160" y="2057400"/>
            <a:ext cx="377496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5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Two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curve segments are said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geometric continuous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at the joining point if and only if vectors f'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 and g'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 are in the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direction at the joining point. Note that f'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 and g'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 are evaluated at the joining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567-8BB8-4C75-853C-4D49AAFC94C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ы два звена сплайна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= (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), 0 &lt;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ость в точке соединения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C80-5E2A-40E9-9A9B-BCF114A31CE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язь кривых Эрмита и Безь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4572000" cy="145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36576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A13-7E81-454B-8078-DBCFBDD44C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верхности Без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3840" y="2043000"/>
            <a:ext cx="8896320" cy="27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76520" y="4952880"/>
            <a:ext cx="5181480" cy="11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4A1-E6CE-4617-8DE6-B5A566A422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рерыв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atch" descr=""/>
          <p:cNvPicPr/>
          <p:nvPr/>
        </p:nvPicPr>
        <p:blipFill>
          <a:blip r:embed="rId1"/>
          <a:stretch/>
        </p:blipFill>
        <p:spPr>
          <a:xfrm>
            <a:off x="1676520" y="1706400"/>
            <a:ext cx="5943600" cy="451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D98-5840-4A01-9088-D4F04AE92FE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ик Юта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1735200"/>
            <a:ext cx="7315200" cy="45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E4A-3D54-427F-BEAA-0568BE8966A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айник Юта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48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FA2-A9C8-4BF6-9100-277A5291A8F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3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ям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&lt;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ыбир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ыбир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ьной точ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4267080" cy="33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73680" y="2328840"/>
                <a:ext cx="41209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745160" y="3976560"/>
                <a:ext cx="3846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5334120"/>
                <a:ext cx="320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D57-0F6F-4AE5-B1EF-6D2C7EE1BF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4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ям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неприятность -- деление 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избежать вещественной арифметики, сделаем пре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81080" y="3352680"/>
                <a:ext cx="3581640" cy="27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sSup>
                          <m:e>
                            <m:r>
                              <m:t xml:space="preserve">Δd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Δ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029-E8CF-4E14-B2E2-38B3200F4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5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имер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x = 7, dy =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181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800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9718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2971800"/>
            <a:ext cx="32004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22096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209680"/>
            <a:ext cx="39625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- 7 = 3 &gt; 0       (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3 - 4 = -1 &lt; 0      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-1 + 10 = 9           (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9 - 4 = 5               (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5 - 4 = 1               (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 - 4 = -3             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-3 + 10 = 7           (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914400" y="4800600"/>
            <a:ext cx="45720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800600"/>
            <a:ext cx="457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28800" y="4343400"/>
            <a:ext cx="45720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86000" y="3886200"/>
            <a:ext cx="45720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3429000"/>
            <a:ext cx="45720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429000"/>
            <a:ext cx="457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7600" y="2971800"/>
            <a:ext cx="45720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105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724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9051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1752480"/>
                <a:ext cx="5639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2BB-F4C2-4359-BD68-2E31D31421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6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круж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явное и явное предст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метрическое предст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2438280"/>
                <a:ext cx="26672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24280" y="4343400"/>
                <a:ext cx="22100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816-FB90-4965-A13B-E52514A9D4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Брезенхема (7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круж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2644920"/>
            <a:ext cx="3809880" cy="278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191120" cy="31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мпьютерная графика Лекция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E62-E707-4DD5-9F3D-BE5E0D6313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 апреля 2003 г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8:56:46Z</dcterms:created>
  <dc:creator>ymb</dc:creator>
  <dc:description/>
  <dc:language>en-US</dc:language>
  <cp:lastModifiedBy>ymb</cp:lastModifiedBy>
  <cp:lastPrinted>2002-04-17T15:07:35Z</cp:lastPrinted>
  <dcterms:modified xsi:type="dcterms:W3CDTF">2003-04-29T10:16:05Z</dcterms:modified>
  <cp:revision>33</cp:revision>
  <dc:subject/>
  <dc:title>Лекция 11</dc:title>
</cp:coreProperties>
</file>