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41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40.png" ContentType="image/png"/>
  <Override PartName="/ppt/media/image52.png" ContentType="image/png"/>
  <Override PartName="/ppt/media/image38.png" ContentType="image/png"/>
  <Override PartName="/ppt/media/image8.png" ContentType="image/png"/>
  <Override PartName="/ppt/media/image14.jpeg" ContentType="image/jpe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F936-DC15-48F9-A63B-E1581CF1E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92EA-382B-4E1C-AEAA-D0C367202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2B1C-A6FB-4744-8CD1-4CDBEC22E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E8C1-7290-40F2-8049-8851D8EFD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09CB-8397-404F-BFB0-DC317AF96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AFBA-B2FD-4678-AEAA-904E4E3EF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0727-D77D-4374-8A73-481CDF34F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0E26-22F6-46A0-8A75-310ACBC92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4AB6-BF77-4E0C-BE42-085C95E85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BC83-B6C8-481E-94D3-72FDA6292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7CB0-7130-4FBD-A9B1-75424C058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C610-AE0C-4E64-A88B-48C9D3246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3F067-4069-44CF-A562-FC46233882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image" Target="../media/image46.png"/><Relationship Id="rId5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Лекция 10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5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преля 2003 г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омпозит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Текстур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772400" cy="5607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мпьютерная графика. Лекция 1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5B3F-5B2F-42ED-8F88-F865F47AB403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 апреля 2003 г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219320" y="1752480"/>
            <a:ext cx="662940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мпьютерная графика. Лекция 1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E876-688C-4B2D-87FE-8132297B6005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 апреля 2003 г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705720" cy="4264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мпьютерная графика. Лекция 1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1449-0FE2-4884-A7B0-C0C455BD9CB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 апреля 2003 г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2 операций монтаж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мпьютерная графика. Лекция 1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B85A-53AF-45AC-B720-578B50C0B2F0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 апреля 2003 г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Композитная алгебр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6629400" cy="4389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мпьютерная графика. Лекция 1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09F7-9200-44E6-89E3-14BE557A0F0D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 апреля 2003 г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дноместные операци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rk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:=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 0=&lt;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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&lt;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a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:=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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     0=&lt;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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&lt;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paqu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:= (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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a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, t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lus fa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, 1 –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мпьютерная графика. Лекция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17E3-F29B-4E37-B9D6-FD26B4B305F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 апреля 2003 г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FFire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plus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BFire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held out by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Planet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over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darken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Planet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, 0.8)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over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Sta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600200" y="1981080"/>
            <a:ext cx="6543720" cy="4211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мпьютерная графика. Лекция 1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0273-8153-4D51-B212-65B2C666B2D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 апреля 2003 г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Текстурировани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82" name="GRLINE1" descr=""/>
          <p:cNvPicPr/>
          <p:nvPr/>
        </p:nvPicPr>
        <p:blipFill>
          <a:blip r:embed="rId2"/>
          <a:stretch/>
        </p:blipFill>
        <p:spPr>
          <a:xfrm>
            <a:off x="380880" y="1676520"/>
            <a:ext cx="5143680" cy="3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мпьютерная графика. Лекция 1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24D6-EAC0-4840-9022-D906C3BA78E3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 апреля 2003 г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интез изображений (экранизация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85" name="GRLINE1" descr=""/>
          <p:cNvPicPr/>
          <p:nvPr/>
        </p:nvPicPr>
        <p:blipFill>
          <a:blip r:embed="rId2"/>
          <a:stretch/>
        </p:blipFill>
        <p:spPr>
          <a:xfrm>
            <a:off x="533520" y="1752480"/>
            <a:ext cx="5143320" cy="3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мпьютерная графика. Лекция 1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6137-ABEF-461A-9C09-503A695A93D4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 апреля 2003 г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тображение текстуры</a:t>
            </a:r>
            <a:br>
              <a:rPr sz="40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Texture mapp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щее отображение текстуры. Узор, определенный в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D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ласти, «наклеивается» на объект как кусок обоев и, фактически становится частью объектной базы данных. Т.е., когда объект перемещается, текстурный узор перемещается вместе с ни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ew-dependent mapping techniqu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mp mapping techniqu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мпьютерная графика. Лекция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ECFF-E309-4F91-B1C0-B8FE837E350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 апреля 2003 г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Индивидуальное задани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Вербовой 2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Ионцева  2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Лапшин 2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Страбыкин 2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Шулятников 2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Кондуков 2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Вежневец 2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Корныхин 2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Мариничев 2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Федюков 2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мпьютерная графика. Лекция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0B2B-2F23-4DC8-8B6D-1ABCCB00A11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 апреля 2003 г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ой атрибут или параметр модулируется, чтобы получить желаемый эффект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 осуществляется отображение? Если текстура определена в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D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ласти, а объект существует в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D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странстве, нам необходимо определить отображение между этими областям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мпьютерная графика. Лекция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3B14-0AB1-4367-8F54-3DD96494BA0C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 апреля 2003 г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Функции отражен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SLIDE001" descr=""/>
          <p:cNvPicPr/>
          <p:nvPr/>
        </p:nvPicPr>
        <p:blipFill>
          <a:blip r:embed="rId1"/>
          <a:stretch/>
        </p:blipFill>
        <p:spPr>
          <a:xfrm>
            <a:off x="1676520" y="1712880"/>
            <a:ext cx="5943600" cy="4592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мпьютерная графика. Лекция 1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31D9-99EE-4EC6-B499-638B048BC67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 апреля 2003 г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Зеркальное отражени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219320" y="1752480"/>
            <a:ext cx="6781680" cy="4481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мпьютерная графика. Лекция 1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49F6-B179-4959-9FDF-8A0EA573A40F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 апреля 2003 г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Атрибуты (параметры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Courier New"/>
              </a:rPr>
              <a:t>r</a:t>
            </a:r>
            <a:r>
              <a:rPr b="1" lang="ru-RU" sz="3200" spc="-1" strike="noStrike">
                <a:solidFill>
                  <a:srgbClr val="000000"/>
                </a:solidFill>
                <a:latin typeface="Courier New"/>
              </a:rPr>
              <a:t> = k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Courier New"/>
              </a:rPr>
              <a:t>a</a:t>
            </a:r>
            <a:r>
              <a:rPr b="1" lang="ru-RU" sz="3200" spc="-1" strike="noStrike">
                <a:solidFill>
                  <a:srgbClr val="000000"/>
                </a:solidFill>
                <a:latin typeface="Courier New"/>
              </a:rPr>
              <a:t>*I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Courier New"/>
              </a:rPr>
              <a:t>a</a:t>
            </a:r>
            <a:r>
              <a:rPr b="1" lang="ru-RU" sz="3200" spc="-1" strike="noStrike">
                <a:solidFill>
                  <a:srgbClr val="000000"/>
                </a:solidFill>
                <a:latin typeface="Courier New"/>
              </a:rPr>
              <a:t> + I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Courier New"/>
              </a:rPr>
              <a:t>i</a:t>
            </a:r>
            <a:r>
              <a:rPr b="1" lang="ru-RU" sz="3200" spc="-1" strike="noStrike">
                <a:solidFill>
                  <a:srgbClr val="000000"/>
                </a:solidFill>
                <a:latin typeface="Courier New"/>
              </a:rPr>
              <a:t> (k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Courier New"/>
              </a:rPr>
              <a:t>d</a:t>
            </a:r>
            <a:r>
              <a:rPr b="1" lang="ru-RU" sz="3200" spc="-1" strike="noStrike">
                <a:solidFill>
                  <a:srgbClr val="000000"/>
                </a:solidFill>
                <a:latin typeface="Courier New"/>
              </a:rPr>
              <a:t>*(N.L) + k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Courier New"/>
              </a:rPr>
              <a:t>s</a:t>
            </a:r>
            <a:r>
              <a:rPr b="1" lang="ru-RU" sz="3200" spc="-1" strike="noStrike">
                <a:solidFill>
                  <a:srgbClr val="000000"/>
                </a:solidFill>
                <a:latin typeface="Courier New"/>
              </a:rPr>
              <a:t>*(R.V)</a:t>
            </a:r>
            <a:r>
              <a:rPr b="1" lang="ru-RU" sz="3200" spc="-1" strike="noStrike" baseline="30000">
                <a:solidFill>
                  <a:srgbClr val="000000"/>
                </a:solidFill>
                <a:latin typeface="Courier New"/>
                <a:ea typeface="Courier New"/>
              </a:rPr>
              <a:t>α</a:t>
            </a:r>
            <a:r>
              <a:rPr b="1" lang="ru-RU" sz="32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ражение от поверхности  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rface color tex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ктор нормал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                - bump map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эффициенты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ularity map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дающий свет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environment map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еометрия                              - displacement map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зрачность                         - transparency map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мпьютерная графика. Лекция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62A5-356B-4E38-A8A0-B3A2F7469C8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 апреля 2003 г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Цилиндр (1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762120" y="1905120"/>
            <a:ext cx="7696080" cy="3220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мпьютерная графика. Лекция 1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E394-B373-4201-BA33-D07EFAE253BA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 апреля 2003 г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Цилиндр (2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P - точка нанесения текстур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вест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параметрические координаты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,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4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гловая координата в радианах от оси Х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ордината высот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371600" y="3435480"/>
            <a:ext cx="6400800" cy="26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мпьютерная графика. Лекция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BBDD-9EAD-47B5-B278-1B09308242B1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 апреля 2003 г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араметрическое уравнение для цилиндр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648320" y="1981080"/>
            <a:ext cx="3879720" cy="21337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685800" y="1981080"/>
            <a:ext cx="3429000" cy="41148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4724280" y="4191120"/>
            <a:ext cx="3753000" cy="1638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мпьютерная графика. Лекция 1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A449-E7DA-459D-A4CE-6A0C542DEB78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 апреля 2003 г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огд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876920" y="2133720"/>
            <a:ext cx="3438360" cy="10033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4800600" y="3657600"/>
            <a:ext cx="3705120" cy="507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мпьютерная графика. Лекция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B556-5242-4764-94F0-34D1DFD9B48E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 апреля 2003 г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араметрическое уравнение для сфер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600200" y="1828800"/>
            <a:ext cx="6095880" cy="30909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295280" y="4952880"/>
            <a:ext cx="2438640" cy="1338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5257800" y="4867200"/>
            <a:ext cx="2857680" cy="1514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мпьютерная графика. Лекция 1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E40A-B77E-4D6C-A550-C3E6C79ACA53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 апреля 2003 г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фер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85800" y="2514600"/>
            <a:ext cx="3809880" cy="358128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4800600" y="2819520"/>
            <a:ext cx="3952800" cy="4791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4800600" y="3581280"/>
            <a:ext cx="3971880" cy="4492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4800600" y="4800600"/>
            <a:ext cx="3943440" cy="779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мпьютерная графика. Лекция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956C-AD4E-4B07-BC22-B6B12A706FE5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 апреля 2003 г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Compositing (blending) </a:t>
            </a:r>
            <a:br>
              <a:rPr sz="4000"/>
            </a:b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(Определение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osit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: The combining of two or more separately prepared images into one, usually through pixel-by-pixel transparency (o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lph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computation, and sometimes with z comparison. Also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osi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v.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: to perform compositing;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dj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: being composited;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: the result of composit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мпьютерная графика. Лекция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49ED-4068-4169-BA11-F52382D19EE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 апреля 2003 г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араметрическое уравнение для тор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572000" y="1905120"/>
            <a:ext cx="3905280" cy="15285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267080" y="4343400"/>
            <a:ext cx="4143600" cy="16923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685800" y="1752480"/>
            <a:ext cx="3486240" cy="4438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мпьютерная графика. Лекция 1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96E4-51BD-4E49-A0A2-5EA7909A26A5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 апреля 2003 г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447920" y="1828800"/>
            <a:ext cx="5943600" cy="430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мпьютерная графика. Лекция 1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1D0C-8F31-4FA0-A506-7FD050453828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 апреля 2003 г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Другие поверхност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араметрические (В-сплайн) поверхнос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лигональные поверхнос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явно заданные поверхнос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мпьютерная графика. Лекция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2E68-F69C-4A00-8E78-D831B73AB143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 апреля 2003 г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7562880" cy="23619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1676520" y="4267080"/>
            <a:ext cx="2457360" cy="2048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мпьютерная графика. Лекция 1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F750-C401-4BCD-9D6F-169A5392A379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 апреля 2003 г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4896000" cy="26672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6019920" y="2286000"/>
            <a:ext cx="2886120" cy="14860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1143000" y="4572000"/>
            <a:ext cx="6829560" cy="143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мпьютерная графика. Лекция 1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1202-17A9-4A0B-B001-4448775344FB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 апреля 2003 г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Bump mapp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57200" y="2057400"/>
            <a:ext cx="4048200" cy="27147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4572000" y="1981080"/>
            <a:ext cx="4371840" cy="2810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мпьютерная графика. Лекция 1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3767-CB67-4847-89B5-2BAAD5C7F323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 апреля 2003 г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Закраска Фонг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4267080" cy="39909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5181480" y="3962520"/>
            <a:ext cx="3562560" cy="208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мпьютерная графика. Лекция 1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FADD-39AD-42D7-83E4-31AA508BEEB7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 апреля 2003 г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5800" y="1905120"/>
            <a:ext cx="5791320" cy="34448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5486400" y="4876920"/>
            <a:ext cx="3086280" cy="3524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5486400" y="5334120"/>
            <a:ext cx="3009960" cy="3427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4"/>
          <a:stretch/>
        </p:blipFill>
        <p:spPr>
          <a:xfrm>
            <a:off x="5486400" y="5867280"/>
            <a:ext cx="3029040" cy="266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мпьютерная графика. Лекция 1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0D0B-626A-414F-B66D-CFB744A92E53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 апреля 2003 г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28600" y="2286000"/>
            <a:ext cx="8667720" cy="3371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мпьютерная графика. Лекция 1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9E4C-4F8E-47DD-9AFC-2BD7C29F3A79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 апреля 2003 г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828800" y="1905120"/>
            <a:ext cx="6581880" cy="28764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762120" y="3200400"/>
            <a:ext cx="3619440" cy="2952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мпьютерная графика. Лекция 1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F76E-1229-4A05-9790-E433B44F93EE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 апреля 2003 г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омпозирование </a:t>
            </a:r>
            <a:br>
              <a:rPr sz="4000"/>
            </a:b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(Определение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мешение, Монтаж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ъединение двух или более независимо подготовленных изображений в одно изображение, обычно с помощью попикселного вычисления полупрозрачности (альфа-канал), иногда с учетом глубины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координаты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мпьютерная графика. Лекция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4B1E-0FF6-4C88-B340-E08F9E9E36F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 апреля 2003 г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990720" y="2057400"/>
            <a:ext cx="7162560" cy="3875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мпьютерная графика. Лекция 1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30B6-6A42-4B2E-8ECF-AE7EF74D36DB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 апреля 2003 г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MIP - mapping</a:t>
            </a:r>
            <a:br>
              <a:rPr sz="40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ultum in parvo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4000680" cy="39909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00600" y="1981080"/>
            <a:ext cx="3733920" cy="4019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мпьютерная графика. Лекция 1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6455-2762-411D-8252-47A6836608D3}" type="slidenum">
              <a:t>4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 апреля 2003 г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Symbol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- канал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Compositing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он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ackgroun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едний план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regroun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e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= (1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ol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e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= 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ol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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- 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ol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8080" y="3124080"/>
            <a:ext cx="3124440" cy="28958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43200" y="3352680"/>
            <a:ext cx="838080" cy="1295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123720" y="2819520"/>
            <a:ext cx="20574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1295280" y="2438280"/>
            <a:ext cx="99072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мпьютерная графика. Лекция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425A-0CCC-4F87-839C-3E270DEAF1A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 апреля 2003 г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облемный пиксе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ложение красного и синего треугольнико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им будет цвет пиксела на границе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мпьютерная графика. Лекция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1783-1DE1-44AE-B4ED-FD4A57B91EF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 апреля 2003 г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омпозировани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newnew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= (1-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new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G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B&amp;F)&amp;G = B&amp;(F&amp;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1-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((1-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B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+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G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= (1-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B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1-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(1-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B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+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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1-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G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 = (1-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B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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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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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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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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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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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мпьютерная графика. Лекция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C90A-EFF4-4242-8C88-89B174EF6DB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 апреля 2003 г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пособы перекрыт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Два первых случая рассматриваются как особые. Третий случай - типичны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762120" y="3352680"/>
            <a:ext cx="7696080" cy="2559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мпьютерная графика. Лекция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611A-0AE8-463F-AD21-458DB3A3F92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 апреля 2003 г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7772400" cy="4422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мпьютерная графика. Лекция 1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DA3D-5F9D-42B7-9D0C-A9D0CE99EE66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 апреля 2003 г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2T12:59:37Z</dcterms:created>
  <dc:creator>ymb</dc:creator>
  <dc:description/>
  <dc:language>en-US</dc:language>
  <cp:lastModifiedBy>ymb</cp:lastModifiedBy>
  <cp:lastPrinted>2002-04-08T16:35:46Z</cp:lastPrinted>
  <dcterms:modified xsi:type="dcterms:W3CDTF">2003-04-15T10:09:07Z</dcterms:modified>
  <cp:revision>19</cp:revision>
  <dc:subject/>
  <dc:title>Лекция 9 9 апреля 2002 г.</dc:title>
</cp:coreProperties>
</file>