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89280"/>
            <a:ext cx="17082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5765760" y="89280"/>
            <a:ext cx="10922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5785920"/>
            <a:ext cx="300024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867160"/>
            <a:ext cx="16542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6487920" y="8867160"/>
            <a:ext cx="3697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8A6B-C229-4D9D-8A33-1FFF44B2B1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040" y="5452200"/>
            <a:ext cx="18370440" cy="18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базовая структура вашего при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аги следующ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рать тип окна, который нужен вашему приложению и инициализировать 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ициализировать состоя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G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ые вы не будете менять в процессе выполнения программы. (например, цвет фона, положение источников света, текстур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регистрировать функции обратного вызова, которые вам нужн. Функции обратного вызова  - это функции, котор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T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зывает в реакции на какое-либо событие. Например, если изменились размеры окна, или пользователь подвинул указатель мыши. Наиблее важная функция из функций обратного вызова – функция визуализации, которая вызывается, когда нужно перерисовать сце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устить главный цикл обработки событий. В этом цикле ваше приложение получает событий и обрабатывает их, вызывает функции обратного вызо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5422320"/>
            <a:ext cx="13531680" cy="19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есь вы видите пример главной части приложения, основанного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tInitDisplayMode( )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tCreateWindow()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олняют настройку окна, в котором будет все рисовать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тем мы вызывает функц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), которая содержит одноразовую инициализацию. В ней мы устанавливаем состоя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G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ые не будут подвергаться изменению в процессе работы програм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тем регистрируем функции обратного вызова, которые собираемя использать в работе програм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, наконец, запускам главный цикл обработки собы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040" y="6261120"/>
            <a:ext cx="90392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имер функции инициализации, в ней нужно установить те состояния, которые не будут меняться в процессе работы програм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040" y="5931000"/>
            <a:ext cx="1007604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T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ет механиз функция обратного вызова для обработки событий. Функции обратног вызова упрощают программисту обработку собы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T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держивает довольно много различные видов функций обраного вызова, их полный список вы найдете в нашем пособ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5662440"/>
            <a:ext cx="8524800" cy="14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 из наиболее важный функций обратного вызова – та, которая задаетс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tDisplayFunc(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функция вызывается, когда необходимо обновить содержимое окна и содержит весь код, выполняющий рендерин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дура на слайде просто очищает окно и выводит в него треугольник. Затем меняет местами буфера для гладкой ани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040" y="5361480"/>
            <a:ext cx="18245160" cy="20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й секции мы обсудим, что тако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GL API (Application program interface)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некоторые из его возможнос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G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латформо-независимая система, нам нужен некоторый путь для интеграц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G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 каждой оконной системой. Каждай оконная система, поддерживающа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G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имеет дополнительные системные вызовы для управления окна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G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цветами и другими возможностями. Эти дополнитель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чны для каждой платфо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упрощения мы будем использовать дополнительную свободно распространяемую библиотеку для упрощения взаимодействия с операционной системой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T (OpenGL Utility Library)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библиотека, разработанная для того, чтобы упростить написание независимых от системы программ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G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 практических заданиях будет предполагаться использование этой библиоте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же в этом разделе будут показаны некоторой шаблоны программ с использование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5811840"/>
            <a:ext cx="17846640" cy="11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GL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библиотека для компьютерной графики. С ее помощью вы можете создать интерактивное приложение, которое визуализирует высококачественные трехмерные геометрические объек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G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езависима от оконной и операционной системы. Таким образом, часть вашего приложения, выполняющая визуализация, независима от платформы. Однак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G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ребуется окно, в котором будет производиться рисование. Обычно этот вопрос котролируется системой, в которой выполняется прилож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5931000"/>
            <a:ext cx="1689408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диаграмме показан поток графической информации и тот путь, который он проходит о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PU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буфера кадра (экран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к данных разбивается на два конвейра. Верхний – для геометрических примитивом - базируется на информации о вершинах. Нижний конвейр – попиксельный, работает на уровне одного пикселя. Текстурирование объединяет эти два конвейра в од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040" y="5241600"/>
            <a:ext cx="1830564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уже говорилось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G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это библиотека для визуализации графики. В общем, есть только 2 операции, которые вы можете делать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G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овать что-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ять тем, как нужно рисова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G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меет 2 типа примитивов, которые он может визуализировать: геометрические примитивы и изображения. Геометрические примитивы – это точки, линии, полигоны. Изображения – в обыном понимании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G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вязывает геометрические примитивы и изображения с помощью текстурирования. Текстурирование сегодня мы обсуждать не будет – оно не понадобится для первого зад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ая наиболе часто выполняемая операция – установка состоя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G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Это процее инициализации внутрении дан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G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ые используются для визуализации ваших примитивов. Это может быть, например, установка размера точки на экране, цвета вершины,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5091840"/>
            <a:ext cx="16048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уже отмечалось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G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езависима от оконной и операционной системы. Чтобы интегрировать ее в различные операционные системы, используются дополнительные библиотеки. Каждая операционная система имеет сво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эт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L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 Macinto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LG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oft 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GL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же включает библиоку утилит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для упрощения наиболее часто используемых операций, таких как: визуализация сложных поверхностей, работа со сплайнами и кривыми,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конец, для упрощения программирования мы будем использовать библиотеку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ая предназначена для работы с окнами, обработки событий, ввода пользователя и ани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5571360"/>
            <a:ext cx="12885840" cy="16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аграмма показывает взаимосвязь между различными библиотеками и компонентами оконной (операционной)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ычно приложения, требующии  сложного интерфейса пользователя, используеют библиотеку, предназначенную для поддержки таких элементов, например,  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if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32AP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ложения, которым не требуются все «примочки» боль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огут выбра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отому что он исполует упрощенную модель программирования и не зависит от операционн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5781960"/>
            <a:ext cx="127094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языка С приложение должно удвлетворять следующим требованиям, чтобы работать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G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головочные файлы описывают все вызовы функций, параметры и константы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G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меет заголовочные файлы дл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библиотека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тилиты)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T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работа с окна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чание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t.h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а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.h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.h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При работе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Window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омендуется включать тольк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блиотеки  - это зависящее от операционной системы реализац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G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Каждая операционная системы имеет свой набор библиот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конец, перечислимые типы – это определения базовых типов. Для упрощение переноса программ на другие платформы,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G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пределены все базовые тип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103640"/>
            <a:ext cx="963756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70304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5320" y="1752480"/>
            <a:ext cx="470304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03640"/>
            <a:ext cx="470304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95320" y="4103640"/>
            <a:ext cx="470304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10320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5560" y="1752480"/>
            <a:ext cx="310320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74280" y="1752480"/>
            <a:ext cx="310320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103640"/>
            <a:ext cx="310320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5560" y="4103640"/>
            <a:ext cx="310320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74280" y="4103640"/>
            <a:ext cx="310320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70304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95320" y="1752480"/>
            <a:ext cx="470304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93400" y="304560"/>
            <a:ext cx="8240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70304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95320" y="1752480"/>
            <a:ext cx="470304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4103640"/>
            <a:ext cx="470304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70304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95320" y="1752480"/>
            <a:ext cx="470304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5320" y="4103640"/>
            <a:ext cx="470304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70304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95320" y="1752480"/>
            <a:ext cx="470304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3640"/>
            <a:ext cx="963756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4103640"/>
            <a:ext cx="963756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70304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95320" y="1752480"/>
            <a:ext cx="470304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103640"/>
            <a:ext cx="470304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95320" y="4103640"/>
            <a:ext cx="470304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10320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15560" y="1752480"/>
            <a:ext cx="310320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74280" y="1752480"/>
            <a:ext cx="310320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4103640"/>
            <a:ext cx="310320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15560" y="4103640"/>
            <a:ext cx="310320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974280" y="4103640"/>
            <a:ext cx="310320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70304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95320" y="1752480"/>
            <a:ext cx="470304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3400" y="304560"/>
            <a:ext cx="8240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70304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95320" y="1752480"/>
            <a:ext cx="470304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103640"/>
            <a:ext cx="470304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70304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95320" y="1752480"/>
            <a:ext cx="470304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5320" y="4103640"/>
            <a:ext cx="470304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70304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95320" y="1752480"/>
            <a:ext cx="470304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03640"/>
            <a:ext cx="9637560" cy="21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Click to edit the outline text format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43160" indent="-3322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Second Outline Level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2" marL="831240" indent="-276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Third Outline Level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3" marL="1330200" indent="-3322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Fourth Outline Level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4" marL="1773720" indent="-27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Book Antiqua"/>
              <a:buChar char="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Fifth Outline Level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5" marL="1773720" indent="-27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Book Antiqua"/>
              <a:buChar char="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Sixth Outline Level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6" marL="1773720" indent="-27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Book Antiqua"/>
              <a:buChar char="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Seventh Outline Level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19240" y="1527120"/>
            <a:ext cx="9872640" cy="0"/>
          </a:xfrm>
          <a:prstGeom prst="line">
            <a:avLst/>
          </a:prstGeom>
          <a:ln w="25560">
            <a:solidFill>
              <a:srgbClr val="ffb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Глаз6%20copy" descr=""/>
          <p:cNvPicPr/>
          <p:nvPr/>
        </p:nvPicPr>
        <p:blipFill>
          <a:blip r:embed="rId2"/>
          <a:stretch/>
        </p:blipFill>
        <p:spPr>
          <a:xfrm>
            <a:off x="8610480" y="304920"/>
            <a:ext cx="1447920" cy="104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Click to edit the outline text format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90360"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45144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81252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²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218600" algn="ctr">
              <a:lnSpc>
                <a:spcPct val="110000"/>
              </a:lnSpc>
              <a:spcBef>
                <a:spcPts val="4799"/>
              </a:spcBef>
              <a:spcAft>
                <a:spcPts val="4799"/>
              </a:spcAft>
              <a:buClr>
                <a:srgbClr val="60c900"/>
              </a:buClr>
              <a:buFont typeface="Book Antiqua"/>
              <a:buChar char="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218600">
              <a:spcBef>
                <a:spcPts val="649"/>
              </a:spcBef>
              <a:buClr>
                <a:srgbClr val="ffffff"/>
              </a:buClr>
              <a:buFont typeface="Book Antiqua"/>
              <a:buChar char="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218600">
              <a:spcBef>
                <a:spcPts val="649"/>
              </a:spcBef>
              <a:buClr>
                <a:srgbClr val="ffffff"/>
              </a:buClr>
              <a:buFont typeface="Book Antiqua"/>
              <a:buChar char="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Введение в </a:t>
            </a: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OpenGL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42600" y="3886200"/>
            <a:ext cx="7201080" cy="1752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Алексей Игнатенко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Основы работы с </a:t>
            </a: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GLUT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Структура приложения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строить и открыть окн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нициализировать состояние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enG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Зарегистрировать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llback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функц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85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изуализац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85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зменение размер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85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вод: клавиатура, мышь и т.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Запустить цикл обработки событ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Пример программы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9637560" cy="4800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oid  main (int argc, char ** argv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1" i="1" lang="en-US" sz="2400" spc="-1" strike="noStrike">
              <a:solidFill>
                <a:srgbClr val="fec524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nt mode = GLUT_RGB | GLUT_DOUBLE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glutInitDisplayMode ( mode 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glutCreateWindow( argv[0] 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init(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glutDisplayFunc ( display 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glutReshapeFunc ( resize 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glutKeyboadFunc ( key 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glutIdleFunc ( idle );</a:t>
            </a:r>
            <a:endParaRPr b="1" i="1" lang="en-US" sz="2400" spc="-1" strike="noStrike">
              <a:solidFill>
                <a:srgbClr val="fec524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glutMainLoop(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i="1" lang="en-US" sz="24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Инициализация </a:t>
            </a: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OpenGL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Установите нужные состояния для всего, что вы собираетесь использовать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oid init ( vo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glClearColor( 0.0, 0.0, 0.0, 1.0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glClearDepth( 1.0 )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glEnable( GL_LIGHT0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glEnable( GL_LIGHTING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glEnable( GL_DEPTH_TEST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1" i="1" lang="en-US" sz="24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Функции обратного вызова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ec524"/>
                </a:solidFill>
                <a:latin typeface="Arial"/>
              </a:rPr>
              <a:t>Процедуры, которые вызываются, когда что-нибудь происходит</a:t>
            </a:r>
            <a:endParaRPr b="1" i="1" lang="en-US" sz="24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размеров ок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ьзовательский вв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им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c524"/>
                </a:solidFill>
                <a:latin typeface="Arial"/>
              </a:rPr>
              <a:t>«Регистрация» функции обратного вызова в </a:t>
            </a:r>
            <a:r>
              <a:rPr b="1" i="1" lang="en-US" sz="2400" spc="-1" strike="noStrike">
                <a:solidFill>
                  <a:srgbClr val="fec524"/>
                </a:solidFill>
                <a:latin typeface="Arial"/>
              </a:rPr>
              <a:t>GLUTe</a:t>
            </a:r>
            <a:endParaRPr b="1" i="1" lang="en-US" sz="24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c524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lutDisplayFunc( display )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lutIdleFunc( idle )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lut KeyboardFund( keyboard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Callback-</a:t>
            </a: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функция визуализации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ec524"/>
                </a:solidFill>
                <a:latin typeface="Arial"/>
              </a:rPr>
              <a:t>Рисуйте все здесь:</a:t>
            </a:r>
            <a:endParaRPr b="1" i="1" lang="en-US" sz="2400" spc="-1" strike="noStrike">
              <a:solidFill>
                <a:srgbClr val="fec524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c524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lutDisplayFunc( display );</a:t>
            </a:r>
            <a:endParaRPr b="1" i="1" lang="en-US" sz="2000" spc="-1" strike="noStrike">
              <a:solidFill>
                <a:srgbClr val="fec524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oid display( void 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lClear (GL_COLOR_BUFFER_BIT)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lBegin( GL_TRIANGLES)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glVertex3fv( v[0] );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glVertex3fv( v[1] )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glVertex3fv( v[2] )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lEnd()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lutSwapBuffers();</a:t>
            </a:r>
            <a:br>
              <a:rPr sz="2000"/>
            </a:br>
            <a:r>
              <a:rPr b="1" lang="en-US" sz="2000" spc="-1" strike="noStrike">
                <a:solidFill>
                  <a:srgbClr val="fec524"/>
                </a:solidFill>
                <a:latin typeface="Courier New"/>
              </a:rPr>
              <a:t>}</a:t>
            </a:r>
            <a:endParaRPr b="1" i="1" lang="en-US" sz="20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Callback-</a:t>
            </a: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функция ожидания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Используйте для анимации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glutIdleFunc ( idle );</a:t>
            </a:r>
            <a:endParaRPr b="1" i="1" lang="en-US" sz="2400" spc="-1" strike="noStrike">
              <a:solidFill>
                <a:srgbClr val="fec524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oid idle ( void 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 + = d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glutPostRedisplay(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1" i="1" lang="en-US" sz="24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Callback-</a:t>
            </a: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функция пользовательского ввода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5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c524"/>
                </a:solidFill>
                <a:latin typeface="Arial"/>
              </a:rPr>
              <a:t>Обработка ввода пользователя</a:t>
            </a:r>
            <a:endParaRPr b="1" i="1" lang="en-US" sz="2400" spc="-1" strike="noStrike">
              <a:solidFill>
                <a:srgbClr val="fec524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c524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lutKeyboardFunc ( keyboard )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oid keyboard ( char key, int x, int y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1" i="1" lang="en-US" sz="2000" spc="-1" strike="noStrike">
              <a:solidFill>
                <a:srgbClr val="fec524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witch ( key ) {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case ‘q’: case ‘Q’ :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xit ( EXIT_SUCCESS )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reak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case ‘r’ : case ‘R’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otate = GL_TRUE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reak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br>
              <a:rPr sz="2000"/>
            </a:br>
            <a:endParaRPr b="1" i="1" lang="en-US" sz="20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2895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Основы рендеринга с помощью </a:t>
            </a: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OpenGL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Основы рендеринга с помощью </a:t>
            </a: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OpenGL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Геометрические примитивы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 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Управление состоянием 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OpenGL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Буферы 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OpenGL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Геометрические примитивы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2057400"/>
            <a:ext cx="75960" cy="7632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2209680"/>
            <a:ext cx="76320" cy="7632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1905120"/>
            <a:ext cx="75960" cy="7596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2209680"/>
            <a:ext cx="76320" cy="7632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514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_PO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124080" y="1676520"/>
            <a:ext cx="60984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3505320" y="198072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2514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_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105520" y="1676520"/>
            <a:ext cx="53316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105520" y="2361960"/>
            <a:ext cx="83808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4952880" y="1752480"/>
            <a:ext cx="99072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1752480"/>
            <a:ext cx="45720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410080" y="2057040"/>
            <a:ext cx="914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514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_LINE_STR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772040" y="1752480"/>
            <a:ext cx="76212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72400" y="2133720"/>
            <a:ext cx="53352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7543440" y="2590920"/>
            <a:ext cx="76212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543800" y="2133720"/>
            <a:ext cx="18288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8152920" y="2133720"/>
            <a:ext cx="121932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8153280" y="1752480"/>
            <a:ext cx="38124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91520" y="29718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_LINE_LO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3920" y="3505320"/>
            <a:ext cx="1066680" cy="761760"/>
          </a:xfrm>
          <a:custGeom>
            <a:avLst/>
            <a:gdLst/>
            <a:ahLst/>
            <a:rect l="l" t="t" r="r" b="b"/>
            <a:pathLst>
              <a:path w="864" h="624">
                <a:moveTo>
                  <a:pt x="144" y="96"/>
                </a:moveTo>
                <a:lnTo>
                  <a:pt x="0" y="576"/>
                </a:lnTo>
                <a:lnTo>
                  <a:pt x="384" y="624"/>
                </a:lnTo>
                <a:lnTo>
                  <a:pt x="864" y="384"/>
                </a:lnTo>
                <a:lnTo>
                  <a:pt x="480" y="0"/>
                </a:lnTo>
                <a:lnTo>
                  <a:pt x="144" y="96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43434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_POLIG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144" y="0"/>
                </a:moveTo>
                <a:lnTo>
                  <a:pt x="0" y="192"/>
                </a:lnTo>
                <a:lnTo>
                  <a:pt x="336" y="288"/>
                </a:lnTo>
                <a:lnTo>
                  <a:pt x="144" y="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3581280"/>
            <a:ext cx="228600" cy="45720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0"/>
                </a:moveTo>
                <a:lnTo>
                  <a:pt x="144" y="288"/>
                </a:lnTo>
                <a:lnTo>
                  <a:pt x="0" y="96"/>
                </a:lnTo>
                <a:lnTo>
                  <a:pt x="144" y="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380988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92" y="192"/>
                </a:moveTo>
                <a:lnTo>
                  <a:pt x="96" y="0"/>
                </a:lnTo>
                <a:lnTo>
                  <a:pt x="0" y="288"/>
                </a:lnTo>
                <a:lnTo>
                  <a:pt x="192" y="192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43434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_TRIANG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886200"/>
            <a:ext cx="380880" cy="38088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192" y="0"/>
                </a:moveTo>
                <a:lnTo>
                  <a:pt x="0" y="192"/>
                </a:lnTo>
                <a:lnTo>
                  <a:pt x="288" y="288"/>
                </a:lnTo>
                <a:lnTo>
                  <a:pt x="336" y="96"/>
                </a:lnTo>
                <a:lnTo>
                  <a:pt x="192" y="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9400" y="3429000"/>
            <a:ext cx="457200" cy="457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lnTo>
                  <a:pt x="0" y="192"/>
                </a:lnTo>
                <a:lnTo>
                  <a:pt x="240" y="288"/>
                </a:lnTo>
                <a:lnTo>
                  <a:pt x="288" y="144"/>
                </a:lnTo>
                <a:lnTo>
                  <a:pt x="144" y="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_QUA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4952880"/>
            <a:ext cx="1066680" cy="533520"/>
          </a:xfrm>
          <a:custGeom>
            <a:avLst/>
            <a:gdLst/>
            <a:ahLst/>
            <a:rect l="l" t="t" r="r" b="b"/>
            <a:pathLst>
              <a:path w="672" h="336">
                <a:moveTo>
                  <a:pt x="0" y="336"/>
                </a:moveTo>
                <a:lnTo>
                  <a:pt x="192" y="0"/>
                </a:lnTo>
                <a:lnTo>
                  <a:pt x="672" y="240"/>
                </a:lnTo>
                <a:lnTo>
                  <a:pt x="0" y="336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5334120"/>
            <a:ext cx="1066680" cy="609480"/>
          </a:xfrm>
          <a:custGeom>
            <a:avLst/>
            <a:gdLst/>
            <a:ahLst/>
            <a:rect l="l" t="t" r="r" b="b"/>
            <a:pathLst>
              <a:path w="672" h="384">
                <a:moveTo>
                  <a:pt x="0" y="96"/>
                </a:moveTo>
                <a:lnTo>
                  <a:pt x="288" y="384"/>
                </a:lnTo>
                <a:lnTo>
                  <a:pt x="672" y="0"/>
                </a:lnTo>
                <a:lnTo>
                  <a:pt x="0" y="96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5334120"/>
            <a:ext cx="68580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384" y="0"/>
                </a:moveTo>
                <a:lnTo>
                  <a:pt x="432" y="528"/>
                </a:lnTo>
                <a:lnTo>
                  <a:pt x="0" y="384"/>
                </a:lnTo>
                <a:lnTo>
                  <a:pt x="384" y="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5943600"/>
            <a:ext cx="685800" cy="533520"/>
          </a:xfrm>
          <a:custGeom>
            <a:avLst/>
            <a:gdLst/>
            <a:ahLst/>
            <a:rect l="l" t="t" r="r" b="b"/>
            <a:pathLst>
              <a:path w="432" h="336">
                <a:moveTo>
                  <a:pt x="0" y="0"/>
                </a:moveTo>
                <a:lnTo>
                  <a:pt x="48" y="336"/>
                </a:lnTo>
                <a:lnTo>
                  <a:pt x="432" y="14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64008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_TRIANGLE_STR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1120" y="4876920"/>
            <a:ext cx="914400" cy="761760"/>
          </a:xfrm>
          <a:custGeom>
            <a:avLst/>
            <a:gdLst/>
            <a:ahLst/>
            <a:rect l="l" t="t" r="r" b="b"/>
            <a:pathLst>
              <a:path w="576" h="480">
                <a:moveTo>
                  <a:pt x="0" y="480"/>
                </a:moveTo>
                <a:lnTo>
                  <a:pt x="432" y="0"/>
                </a:lnTo>
                <a:lnTo>
                  <a:pt x="576" y="144"/>
                </a:lnTo>
                <a:lnTo>
                  <a:pt x="0" y="48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5105520"/>
            <a:ext cx="990360" cy="53316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336"/>
                </a:moveTo>
                <a:lnTo>
                  <a:pt x="624" y="240"/>
                </a:lnTo>
                <a:lnTo>
                  <a:pt x="576" y="0"/>
                </a:lnTo>
                <a:lnTo>
                  <a:pt x="0" y="336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5486400"/>
            <a:ext cx="990360" cy="457200"/>
          </a:xfrm>
          <a:custGeom>
            <a:avLst/>
            <a:gdLst/>
            <a:ahLst/>
            <a:rect l="l" t="t" r="r" b="b"/>
            <a:pathLst>
              <a:path w="624" h="288">
                <a:moveTo>
                  <a:pt x="0" y="96"/>
                </a:moveTo>
                <a:lnTo>
                  <a:pt x="576" y="288"/>
                </a:lnTo>
                <a:lnTo>
                  <a:pt x="624" y="0"/>
                </a:lnTo>
                <a:lnTo>
                  <a:pt x="0" y="96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5638680"/>
            <a:ext cx="914400" cy="457200"/>
          </a:xfrm>
          <a:custGeom>
            <a:avLst/>
            <a:gdLst/>
            <a:ahLst/>
            <a:rect l="l" t="t" r="r" b="b"/>
            <a:pathLst>
              <a:path w="576" h="288">
                <a:moveTo>
                  <a:pt x="0" y="0"/>
                </a:moveTo>
                <a:lnTo>
                  <a:pt x="384" y="288"/>
                </a:lnTo>
                <a:lnTo>
                  <a:pt x="576" y="19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6248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_TRIANGLE_F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24680" y="3733920"/>
            <a:ext cx="1067040" cy="609480"/>
          </a:xfrm>
          <a:custGeom>
            <a:avLst/>
            <a:gdLst/>
            <a:ahLst/>
            <a:rect l="l" t="t" r="r" b="b"/>
            <a:pathLst>
              <a:path w="672" h="384">
                <a:moveTo>
                  <a:pt x="0" y="96"/>
                </a:moveTo>
                <a:lnTo>
                  <a:pt x="672" y="0"/>
                </a:lnTo>
                <a:lnTo>
                  <a:pt x="672" y="384"/>
                </a:lnTo>
                <a:lnTo>
                  <a:pt x="144" y="384"/>
                </a:lnTo>
                <a:lnTo>
                  <a:pt x="0" y="96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343400"/>
            <a:ext cx="838440" cy="533520"/>
          </a:xfrm>
          <a:custGeom>
            <a:avLst/>
            <a:gdLst/>
            <a:ahLst/>
            <a:rect l="l" t="t" r="r" b="b"/>
            <a:pathLst>
              <a:path w="528" h="336">
                <a:moveTo>
                  <a:pt x="0" y="0"/>
                </a:moveTo>
                <a:lnTo>
                  <a:pt x="48" y="288"/>
                </a:lnTo>
                <a:lnTo>
                  <a:pt x="432" y="336"/>
                </a:lnTo>
                <a:lnTo>
                  <a:pt x="52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4800600"/>
            <a:ext cx="838080" cy="4572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144" y="0"/>
                </a:moveTo>
                <a:lnTo>
                  <a:pt x="0" y="192"/>
                </a:lnTo>
                <a:lnTo>
                  <a:pt x="528" y="288"/>
                </a:lnTo>
                <a:lnTo>
                  <a:pt x="528" y="48"/>
                </a:lnTo>
                <a:lnTo>
                  <a:pt x="144" y="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5562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_QUAD_STRI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Обзор </a:t>
            </a: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OpenGL </a:t>
            </a: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и </a:t>
            </a: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GLUT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Простой пример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oid drawRhombus ( Glfloat color[]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glBegin( GL_QUADS 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glColor3f( color 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glVertex2f( 0.0, 0.0 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glVertex2f( 1.0, 0.0 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glVertex2f( 1.5, 1.118 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glVertex2f( 0.5, 1.118 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glEnd(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br>
              <a:rPr sz="2400"/>
            </a:br>
            <a:endParaRPr b="1" i="1" lang="en-US" sz="24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Формат команд </a:t>
            </a: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OpenGL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17524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lVertex3f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 v 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4209480"/>
            <a:ext cx="2133720" cy="119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– (x, y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– (x, y, z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– (x, y, z, 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3657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сло компоне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2362320"/>
            <a:ext cx="3276360" cy="1371600"/>
          </a:xfrm>
          <a:custGeom>
            <a:avLst/>
            <a:gdLst/>
            <a:ahLst/>
            <a:rect l="l" t="t" r="r" b="b"/>
            <a:pathLst>
              <a:path w="2064" h="816">
                <a:moveTo>
                  <a:pt x="0" y="816"/>
                </a:moveTo>
                <a:lnTo>
                  <a:pt x="0" y="624"/>
                </a:lnTo>
                <a:lnTo>
                  <a:pt x="2064" y="240"/>
                </a:lnTo>
                <a:lnTo>
                  <a:pt x="2064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3584160"/>
            <a:ext cx="3429000" cy="302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by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b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unsigned by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shor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unsigned shor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i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unsigned i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flo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dou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3124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ип данны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362320"/>
            <a:ext cx="38088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0" y="528"/>
                </a:moveTo>
                <a:lnTo>
                  <a:pt x="240" y="288"/>
                </a:lnTo>
                <a:lnTo>
                  <a:pt x="24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86600" y="4267080"/>
            <a:ext cx="2819520" cy="1747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 отсутствует для скалярных фор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Vertex2f(x,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3719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10080" y="2362320"/>
            <a:ext cx="2895840" cy="1295280"/>
          </a:xfrm>
          <a:custGeom>
            <a:avLst/>
            <a:gdLst/>
            <a:ahLst/>
            <a:rect l="l" t="t" r="r" b="b"/>
            <a:pathLst>
              <a:path w="1824" h="816">
                <a:moveTo>
                  <a:pt x="1824" y="816"/>
                </a:moveTo>
                <a:lnTo>
                  <a:pt x="1824" y="432"/>
                </a:ln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Определение примитивов </a:t>
            </a: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OpenGL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Примитивы определяются, используя: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lBegin( prim_type );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lEnd(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prim_type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определяет, каким образом будут комбинироваться вершины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OpenGL </a:t>
            </a: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как конечный автомат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Все атрибутот, используемые для рендеринга, составляют текущее </a:t>
            </a:r>
            <a:r>
              <a:rPr b="1" i="1" lang="ru-RU" sz="3100" spc="-1" strike="noStrike">
                <a:solidFill>
                  <a:srgbClr val="d93192"/>
                </a:solidFill>
                <a:latin typeface="Arial"/>
              </a:rPr>
              <a:t>состояние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OpenGL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тили рендеринг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Затене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свеще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ложение тексту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Управление состоянием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9000"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c524"/>
                </a:solidFill>
                <a:latin typeface="Arial"/>
              </a:rPr>
              <a:t>Внешний вид определяется состоянием</a:t>
            </a:r>
            <a:endParaRPr b="1" i="1" lang="en-US" sz="2800" spc="-1" strike="noStrike">
              <a:solidFill>
                <a:srgbClr val="fec524"/>
              </a:solidFill>
              <a:latin typeface="Arial"/>
            </a:endParaRPr>
          </a:p>
          <a:p>
            <a:pPr lvl="1" marL="45252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 each (primitive to render) {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update OpenGL stat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render primitiv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c524"/>
                </a:solidFill>
                <a:latin typeface="Arial"/>
              </a:rPr>
              <a:t>Манипулирование атрибутами вершин –наиболее общий способ изменения состояния</a:t>
            </a:r>
            <a:endParaRPr b="1" i="1" lang="en-US" sz="2800" spc="-1" strike="noStrike">
              <a:solidFill>
                <a:srgbClr val="fec524"/>
              </a:solidFill>
              <a:latin typeface="Arial"/>
            </a:endParaRPr>
          </a:p>
          <a:p>
            <a:pPr lvl="1" marL="452520" indent="-3391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lColor* ()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lNormal* ()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lTexCoord* (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Управление состоянием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Установка состояния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lPointSize( size );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lShadeModel ( GL_SMOOTH );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lColor3fv ( color 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Включение и выключение функциональности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lEnable( GL_LIGHTING );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lDisable( GL_DEPTH_TEST 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28191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Преобразования в </a:t>
            </a: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OpenGL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Преобразования в </a:t>
            </a: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OpenGL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Модельное преобразования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Видовые преобразования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риентация каме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Проекция на плоскость камеры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Перевод в систему координат устройства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Виртуальная камера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3200400"/>
            <a:ext cx="1143000" cy="76212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3048120"/>
            <a:ext cx="666720" cy="156960"/>
          </a:xfrm>
          <a:custGeom>
            <a:avLst/>
            <a:gdLst/>
            <a:ahLst/>
            <a:rect l="l" t="t" r="r" b="b"/>
            <a:pathLst>
              <a:path w="420" h="99">
                <a:moveTo>
                  <a:pt x="0" y="96"/>
                </a:moveTo>
                <a:lnTo>
                  <a:pt x="110" y="0"/>
                </a:lnTo>
                <a:lnTo>
                  <a:pt x="329" y="0"/>
                </a:lnTo>
                <a:lnTo>
                  <a:pt x="420" y="99"/>
                </a:lnTo>
                <a:lnTo>
                  <a:pt x="0" y="96"/>
                </a:lnTo>
                <a:close/>
              </a:path>
            </a:pathLst>
          </a:custGeom>
          <a:solidFill>
            <a:srgbClr val="80008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38640" y="3357720"/>
            <a:ext cx="457200" cy="457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43400" y="3471840"/>
            <a:ext cx="228600" cy="2286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3048120"/>
            <a:ext cx="75960" cy="152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3962520"/>
            <a:ext cx="533160" cy="7596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124080"/>
            <a:ext cx="75960" cy="76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9905600">
            <a:off x="4033800" y="3846600"/>
            <a:ext cx="88920" cy="236196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58600">
            <a:off x="2898360" y="3928680"/>
            <a:ext cx="76320" cy="198108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8621000">
            <a:off x="4404960" y="3627720"/>
            <a:ext cx="76320" cy="198108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3352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ме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724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тати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2362320"/>
            <a:ext cx="3657600" cy="2209680"/>
          </a:xfrm>
          <a:custGeom>
            <a:avLst/>
            <a:gdLst/>
            <a:ahLst/>
            <a:rect l="l" t="t" r="r" b="b"/>
            <a:pathLst>
              <a:path w="1920" h="1392">
                <a:moveTo>
                  <a:pt x="0" y="528"/>
                </a:moveTo>
                <a:lnTo>
                  <a:pt x="1920" y="0"/>
                </a:lnTo>
                <a:lnTo>
                  <a:pt x="1920" y="1392"/>
                </a:lnTo>
                <a:lnTo>
                  <a:pt x="0" y="1008"/>
                </a:lnTo>
                <a:lnTo>
                  <a:pt x="0" y="528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TN00686_" descr=""/>
          <p:cNvPicPr/>
          <p:nvPr/>
        </p:nvPicPr>
        <p:blipFill>
          <a:blip r:embed="rId1"/>
          <a:stretch/>
        </p:blipFill>
        <p:spPr>
          <a:xfrm>
            <a:off x="7772400" y="2438280"/>
            <a:ext cx="1442880" cy="16765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467480" y="45720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1752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димый объ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Виртуальная камера и преобразования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ec524"/>
                </a:solidFill>
                <a:latin typeface="Arial"/>
              </a:rPr>
              <a:t>Преобразование проекции</a:t>
            </a:r>
            <a:endParaRPr b="1" i="1" lang="en-US" sz="28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стройка линз камер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ec524"/>
                </a:solidFill>
                <a:latin typeface="Arial"/>
              </a:rPr>
              <a:t>Видовое преобразование</a:t>
            </a:r>
            <a:endParaRPr b="1" i="1" lang="en-US" sz="28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зменение положения камеры в пространств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ec524"/>
                </a:solidFill>
                <a:latin typeface="Arial"/>
              </a:rPr>
              <a:t>Модельное преобразование</a:t>
            </a:r>
            <a:endParaRPr b="1" i="1" lang="en-US" sz="28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зменение положения модели в пространств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ec524"/>
                </a:solidFill>
                <a:latin typeface="Arial"/>
              </a:rPr>
              <a:t>Оконные (</a:t>
            </a:r>
            <a:r>
              <a:rPr b="1" i="1" lang="en-US" sz="2800" spc="-1" strike="noStrike">
                <a:solidFill>
                  <a:srgbClr val="fec524"/>
                </a:solidFill>
                <a:latin typeface="Arial"/>
              </a:rPr>
              <a:t>viewport) </a:t>
            </a:r>
            <a:r>
              <a:rPr b="1" i="1" lang="ru-RU" sz="2800" spc="-1" strike="noStrike">
                <a:solidFill>
                  <a:srgbClr val="fec524"/>
                </a:solidFill>
                <a:latin typeface="Arial"/>
              </a:rPr>
              <a:t>преобразования</a:t>
            </a:r>
            <a:endParaRPr b="1" i="1" lang="en-US" sz="28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зменение размеров готовой фотограф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Обзор </a:t>
            </a: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OpenGL </a:t>
            </a: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и </a:t>
            </a: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GLUT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Что такое 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OpenGL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и что он дает мне?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OpenGL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в оконных средах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Почему 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GLUT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Шаблон 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GLUT-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программы 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Координатные системы и преобразования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ec524"/>
                </a:solidFill>
                <a:latin typeface="Arial"/>
              </a:rPr>
              <a:t>Шаги для формирования изображения</a:t>
            </a:r>
            <a:endParaRPr b="1" i="1" lang="en-US" sz="28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ределение геометрии (мировая системы координа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ределение камеры (видовая система координа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ецирование (оконная система координа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еревод в экранные координаты (экранная система координа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ec524"/>
                </a:solidFill>
                <a:latin typeface="Arial"/>
              </a:rPr>
              <a:t>Каждый шаг использует преобразования</a:t>
            </a:r>
            <a:endParaRPr b="1" i="1" lang="en-US" sz="2800" spc="-1" strike="noStrike">
              <a:solidFill>
                <a:srgbClr val="fec524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ec524"/>
                </a:solidFill>
                <a:latin typeface="Arial"/>
              </a:rPr>
              <a:t>Каждая трансформация эквивалентна изменению системы координат</a:t>
            </a:r>
            <a:endParaRPr b="1" i="1" lang="en-US" sz="28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Афинные преобразования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Преобразования, сохраняющие геометрию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Линии, полигоны, 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Аффинное = сохраняющее линии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ворот, смещение, изменение масштаб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екц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онкатенация ( композиция 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Однородные координаты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Каждый вектор – столбец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w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обычно 1.0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Все операции – матричные умножения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Направления могут быть представлены с 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w = 0.0 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D </a:t>
            </a: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преобразования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Каждая вершина транформируется с помощью матриц 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4x4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се аффиные операции – умножения матриц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се матрицы хранятся построчно в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enG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Определение преобразований в </a:t>
            </a: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OpenGL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Программист имеет два стиля определения преобразований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пределяя матрицы  (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lLoadMatrix, glMultMatrix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пределяя операции (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lRotate, glOrtho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Программист не обязан помнить точные формулы для вычисления матриц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Конвейер преобразований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391160" y="4723920"/>
            <a:ext cx="2703240" cy="1528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1680" y="2929320"/>
            <a:ext cx="546120" cy="92484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2514600"/>
            <a:ext cx="1295280" cy="281952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2514600"/>
            <a:ext cx="1219320" cy="220968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2514600"/>
            <a:ext cx="1143000" cy="167652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238880" y="2550960"/>
            <a:ext cx="1143000" cy="167652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3818160"/>
            <a:ext cx="1676520" cy="45972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971800" y="2711520"/>
            <a:ext cx="1676520" cy="82548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ion matr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2711520"/>
            <a:ext cx="1981080" cy="82548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pective di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2728800"/>
            <a:ext cx="1676160" cy="82548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port trans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2711520"/>
            <a:ext cx="1676520" cy="82548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view matr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43000" y="4500720"/>
            <a:ext cx="1676520" cy="45972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5486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71800" y="3845160"/>
            <a:ext cx="1676520" cy="45972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1600200"/>
            <a:ext cx="97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                     eye                        clip                      normalized               wind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Модельные преобразования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Перемещение объекта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lTranslate{fd} (x, y, z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Поворот объекта вокруг произвольных осей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lRotate{fd} (angle, x, y, z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Изменение масштаба объекта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lScale{fd} (x, y, z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Проекции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Форма пирамиды зрения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Перспективная проекция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luPerspective ( fovx, aspect, zNear, zFa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Ортогональная проекция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lOrtho(left, right, bottom, top, zNear, zFa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Применение преобразований проекции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Типичное использование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lMatrixMode ( GL_PROJECTION 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lLoadIdentity (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lOrtho ( left, right, bottom, top, zNear, zFa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Видовые преобразования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Установка «штатива» камеры, настройка объектива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Чтобы «летать» по сцене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Задать видовое преобразование и перерисовать сцен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gluLookAt( eye</a:t>
            </a:r>
            <a:r>
              <a:rPr b="1" i="1" lang="en-US" sz="3100" spc="-1" strike="noStrike" baseline="-25000">
                <a:solidFill>
                  <a:srgbClr val="fec524"/>
                </a:solidFill>
                <a:latin typeface="Arial"/>
              </a:rPr>
              <a:t>x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, eye</a:t>
            </a:r>
            <a:r>
              <a:rPr b="1" i="1" lang="en-US" sz="3100" spc="-1" strike="noStrike" baseline="-25000">
                <a:solidFill>
                  <a:srgbClr val="fec524"/>
                </a:solidFill>
                <a:latin typeface="Arial"/>
              </a:rPr>
              <a:t>y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, eye</a:t>
            </a:r>
            <a:r>
              <a:rPr b="1" i="1" lang="en-US" sz="3100" spc="-1" strike="noStrike" baseline="-25000">
                <a:solidFill>
                  <a:srgbClr val="fec524"/>
                </a:solidFill>
                <a:latin typeface="Arial"/>
              </a:rPr>
              <a:t>z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, </a:t>
            </a:r>
            <a:br>
              <a:rPr sz="3100"/>
            </a:b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                      aim</a:t>
            </a:r>
            <a:r>
              <a:rPr b="1" i="1" lang="en-US" sz="3100" spc="-1" strike="noStrike" baseline="-25000">
                <a:solidFill>
                  <a:srgbClr val="fec524"/>
                </a:solidFill>
                <a:latin typeface="Arial"/>
              </a:rPr>
              <a:t>x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, aim</a:t>
            </a:r>
            <a:r>
              <a:rPr b="1" i="1" lang="en-US" sz="3100" spc="-1" strike="noStrike" baseline="-25000">
                <a:solidFill>
                  <a:srgbClr val="fec524"/>
                </a:solidFill>
                <a:latin typeface="Arial"/>
              </a:rPr>
              <a:t>y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, aim</a:t>
            </a:r>
            <a:r>
              <a:rPr b="1" i="1" lang="en-US" sz="3100" spc="-1" strike="noStrike" baseline="-25000">
                <a:solidFill>
                  <a:srgbClr val="fec524"/>
                </a:solidFill>
                <a:latin typeface="Arial"/>
              </a:rPr>
              <a:t>z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,</a:t>
            </a:r>
            <a:br>
              <a:rPr sz="3100"/>
            </a:b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                      up</a:t>
            </a:r>
            <a:r>
              <a:rPr b="1" i="1" lang="en-US" sz="3100" spc="-1" strike="noStrike" baseline="-25000">
                <a:solidFill>
                  <a:srgbClr val="fec524"/>
                </a:solidFill>
                <a:latin typeface="Arial"/>
              </a:rPr>
              <a:t>x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, up</a:t>
            </a:r>
            <a:r>
              <a:rPr b="1" i="1" lang="en-US" sz="3100" spc="-1" strike="noStrike" baseline="-25000">
                <a:solidFill>
                  <a:srgbClr val="fec524"/>
                </a:solidFill>
                <a:latin typeface="Arial"/>
              </a:rPr>
              <a:t>y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, up</a:t>
            </a:r>
            <a:r>
              <a:rPr b="1" i="1" lang="en-US" sz="3100" spc="-1" strike="noStrike" baseline="-25000">
                <a:solidFill>
                  <a:srgbClr val="fec524"/>
                </a:solidFill>
                <a:latin typeface="Arial"/>
              </a:rPr>
              <a:t>z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)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Что такое </a:t>
            </a: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OpenGL?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API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для визуализации графики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ывод цветных изображений высокого качества, составленных из геометрических и других примитив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езависимость от оконной систем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езависимость от операционной систем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Связь между модельным и видовыми преобразованиями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Перемещение камеры = перемещение каждого объекта по отношению  к фиксированной камере.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Видовое преобразование эквивалентно нескольким модельным преобразованиям.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Левая и правая системы координат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2895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Преобразования проекции используют </a:t>
            </a:r>
            <a:r>
              <a:rPr b="1" i="1" lang="ru-RU" sz="3100" spc="-1" strike="noStrike">
                <a:solidFill>
                  <a:srgbClr val="d93192"/>
                </a:solidFill>
                <a:latin typeface="Arial"/>
              </a:rPr>
              <a:t>левую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систему координат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Znear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Zfar –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сто расстояния от точки зр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Во всех остальных случаях 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OpenGL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использует </a:t>
            </a:r>
            <a:r>
              <a:rPr b="1" i="1" lang="ru-RU" sz="3100" spc="-1" strike="noStrike">
                <a:solidFill>
                  <a:srgbClr val="d93192"/>
                </a:solidFill>
                <a:latin typeface="Arial"/>
              </a:rPr>
              <a:t>правую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систему координат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514600" y="49528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514600" y="5181120"/>
            <a:ext cx="76212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4600" y="594360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696080" y="49528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009920" y="5943600"/>
            <a:ext cx="6858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96080" y="5943600"/>
            <a:ext cx="838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5410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в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62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290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33720" y="4572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7672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6104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388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00800" y="640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Resize() : Perspective &amp; LookAt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oid Resize( int w, int h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glViewport ( 0, 0, (sizei) w, (sizei) h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glMatrixMode( GL_PROJECTION 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glLoadIdentity (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gluPerspective ( 65.0, (Glfloat) (w / h), 1.0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    100.0)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glMatrixMode(GL_MODELVIEW);</a:t>
            </a:r>
            <a:endParaRPr b="1" i="1" lang="en-US" sz="2400" spc="-1" strike="noStrike">
              <a:solidFill>
                <a:srgbClr val="fec524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gluLookAt( 0.0, 0.0, 5.0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       0.0, 0.0, 0.0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            0.0, 1.0, 0.0 );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}</a:t>
            </a:r>
            <a:endParaRPr b="1" i="1" lang="en-US" sz="24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040" y="2666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Освещение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Принципы освещения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Составляющие модели освещение 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OpenGL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атериал объекта определяет его своейста его поверхно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Цвет и положение источника све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лобальные параметры освещ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854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ассеянный све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Модель Фонга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3733920"/>
            <a:ext cx="8229600" cy="3124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c524"/>
                </a:solidFill>
                <a:latin typeface="Arial"/>
                <a:ea typeface="Arial"/>
              </a:rPr>
              <a:t>ambient = Ka,</a:t>
            </a:r>
            <a:br>
              <a:rPr sz="2800"/>
            </a:br>
            <a:r>
              <a:rPr b="1" i="1" lang="ru-RU" sz="2800" spc="-1" strike="noStrike">
                <a:solidFill>
                  <a:srgbClr val="fec524"/>
                </a:solidFill>
                <a:latin typeface="Arial"/>
                <a:ea typeface="Arial"/>
              </a:rPr>
              <a:t>diffuse = Kd * cos(N, L),</a:t>
            </a:r>
            <a:br>
              <a:rPr sz="2800"/>
            </a:br>
            <a:r>
              <a:rPr b="1" i="1" lang="ru-RU" sz="2800" spc="-1" strike="noStrike">
                <a:solidFill>
                  <a:srgbClr val="fec524"/>
                </a:solidFill>
                <a:latin typeface="Arial"/>
                <a:ea typeface="Arial"/>
              </a:rPr>
              <a:t>specular = Ks * </a:t>
            </a:r>
            <a:r>
              <a:rPr b="1" i="1" lang="en-US" sz="2800" spc="-1" strike="noStrike">
                <a:solidFill>
                  <a:srgbClr val="fec524"/>
                </a:solidFill>
                <a:latin typeface="Arial"/>
                <a:ea typeface="Arial"/>
              </a:rPr>
              <a:t>(</a:t>
            </a:r>
            <a:r>
              <a:rPr b="1" i="1" lang="ru-RU" sz="2800" spc="-1" strike="noStrike">
                <a:solidFill>
                  <a:srgbClr val="fec524"/>
                </a:solidFill>
                <a:latin typeface="Arial"/>
                <a:ea typeface="Arial"/>
              </a:rPr>
              <a:t>cos</a:t>
            </a:r>
            <a:r>
              <a:rPr b="1" i="1" lang="en-US" sz="2800" spc="-1" strike="noStrike" baseline="30000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ec524"/>
                </a:solidFill>
                <a:latin typeface="Arial"/>
                <a:ea typeface="Arial"/>
              </a:rPr>
              <a:t>(R, V)</a:t>
            </a:r>
            <a:r>
              <a:rPr b="1" i="1" lang="en-US" sz="2800" spc="-1" strike="noStrike">
                <a:solidFill>
                  <a:srgbClr val="fec524"/>
                </a:solidFill>
                <a:latin typeface="Arial"/>
                <a:ea typeface="Arial"/>
              </a:rPr>
              <a:t>) </a:t>
            </a:r>
            <a:r>
              <a:rPr b="1" i="1" lang="en-US" sz="2800" spc="-1" strike="noStrike" baseline="30000">
                <a:solidFill>
                  <a:srgbClr val="fec524"/>
                </a:solidFill>
                <a:latin typeface="Arial"/>
              </a:rPr>
              <a:t>Ns</a:t>
            </a:r>
            <a:br>
              <a:rPr sz="2800"/>
            </a:br>
            <a:endParaRPr b="1" i="1" lang="en-US" sz="2800" spc="-1" strike="noStrike">
              <a:solidFill>
                <a:srgbClr val="fec524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intensity = ambient + amp * (diffuse + specular).</a:t>
            </a:r>
            <a:r>
              <a:rPr b="1" i="1" lang="ru-RU" sz="2800" spc="-1" strike="noStrike">
                <a:solidFill>
                  <a:srgbClr val="d93192"/>
                </a:solidFill>
                <a:latin typeface="Arial"/>
                <a:ea typeface="Arial"/>
              </a:rPr>
              <a:t> </a:t>
            </a:r>
            <a:endParaRPr b="1" i="1" lang="en-US" sz="2800" spc="-1" strike="noStrike">
              <a:solidFill>
                <a:srgbClr val="fec524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ec524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9520" y="235440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illu51a" descr="рисунок (illu/illu51a.gif)"/>
          <p:cNvPicPr/>
          <p:nvPr/>
        </p:nvPicPr>
        <p:blipFill>
          <a:blip r:embed="rId1"/>
          <a:stretch/>
        </p:blipFill>
        <p:spPr>
          <a:xfrm>
            <a:off x="5638680" y="1752480"/>
            <a:ext cx="411480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Как устроено освещение в </a:t>
            </a: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OpenGL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Модель Фонга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ычисляется на вершина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Составляющие модели освещения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войства материала поверхно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войства источника све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войства модели освещ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Свойства материала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ec524"/>
                </a:solidFill>
                <a:latin typeface="Arial"/>
              </a:rPr>
              <a:t>Определение свойств материала для примитива</a:t>
            </a:r>
            <a:endParaRPr b="1" i="1" lang="en-US" sz="27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lMaterialfv (face, property, valu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L_DIFFU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L_SPECUL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L_AMBI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L_EMIS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L_SHIN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Свойства источника света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glLightfv ( light, property, value )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цвет источник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ложе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затуха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Типы источников света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OpenGL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поддерживает два типа источников света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Локальные (точечные) источник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есконечно удаленные (параллельные) источник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Тип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ec524"/>
                </a:solidFill>
                <a:latin typeface="Arial"/>
              </a:rPr>
              <a:t>определяется координатой </a:t>
            </a:r>
            <a:r>
              <a:rPr b="1" i="1" lang="en-US" sz="3100" spc="-1" strike="noStrike">
                <a:solidFill>
                  <a:srgbClr val="fec524"/>
                </a:solidFill>
                <a:latin typeface="Arial"/>
              </a:rPr>
              <a:t>w</a:t>
            </a: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 = 0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араллельный источни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0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очечный источник (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 / w, y / w, z /w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100" spc="-1" strike="noStrike">
              <a:solidFill>
                <a:srgbClr val="fec52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Архитектура </a:t>
            </a: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OpenGL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87520" y="3568680"/>
            <a:ext cx="1604880" cy="82548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lay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61480" y="5414760"/>
            <a:ext cx="1671120" cy="82548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xe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59080" y="2163600"/>
            <a:ext cx="1668240" cy="82548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nomi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1680" y="1985400"/>
            <a:ext cx="2753280" cy="119124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 Vertex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ons &amp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itive Assemb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3814920"/>
            <a:ext cx="2054520" cy="45972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ste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31480" y="4957560"/>
            <a:ext cx="1368000" cy="82548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xtu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51480" y="3620880"/>
            <a:ext cx="2044440" cy="82548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 Frag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47360" y="3636720"/>
            <a:ext cx="1061640" cy="82548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6840" y="3762720"/>
            <a:ext cx="82224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3" idx="0"/>
            <a:endCxn id="95" idx="2"/>
          </p:cNvCxnSpPr>
          <p:nvPr/>
        </p:nvCxnSpPr>
        <p:spPr>
          <a:xfrm flipH="1" flipV="1" rot="5400000">
            <a:off x="2007000" y="3276720"/>
            <a:ext cx="570600" cy="3960"/>
          </a:xfrm>
          <a:prstGeom prst="bentConnector3">
            <a:avLst>
              <a:gd name="adj1" fmla="val 49810"/>
            </a:avLst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101" idx="3"/>
            <a:endCxn id="93" idx="1"/>
          </p:cNvCxnSpPr>
          <p:nvPr/>
        </p:nvCxnSpPr>
        <p:spPr>
          <a:xfrm flipV="1">
            <a:off x="928800" y="3981240"/>
            <a:ext cx="559080" cy="1152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endCxn id="94" idx="1"/>
          </p:cNvCxnSpPr>
          <p:nvPr/>
        </p:nvCxnSpPr>
        <p:spPr>
          <a:xfrm flipH="1" rot="16200000">
            <a:off x="590400" y="4666320"/>
            <a:ext cx="1789920" cy="53388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3" idx="2"/>
          </p:cNvCxnSpPr>
          <p:nvPr/>
        </p:nvCxnSpPr>
        <p:spPr>
          <a:xfrm rot="5400000">
            <a:off x="1181880" y="4665240"/>
            <a:ext cx="1375560" cy="84204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100" idx="2"/>
            <a:endCxn id="94" idx="2"/>
          </p:cNvCxnSpPr>
          <p:nvPr/>
        </p:nvCxnSpPr>
        <p:spPr>
          <a:xfrm rot="5400000">
            <a:off x="5098320" y="1964880"/>
            <a:ext cx="1778760" cy="6782760"/>
          </a:xfrm>
          <a:prstGeom prst="bentConnector3">
            <a:avLst>
              <a:gd name="adj1" fmla="val 112854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4" idx="3"/>
            <a:endCxn id="98" idx="1"/>
          </p:cNvCxnSpPr>
          <p:nvPr/>
        </p:nvCxnSpPr>
        <p:spPr>
          <a:xfrm flipV="1">
            <a:off x="3441240" y="5370120"/>
            <a:ext cx="1283400" cy="45792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4" idx="3"/>
            <a:endCxn id="97" idx="1"/>
          </p:cNvCxnSpPr>
          <p:nvPr/>
        </p:nvCxnSpPr>
        <p:spPr>
          <a:xfrm flipV="1">
            <a:off x="3441240" y="4044600"/>
            <a:ext cx="369000" cy="178344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8" idx="0"/>
            <a:endCxn id="97" idx="2"/>
          </p:cNvCxnSpPr>
          <p:nvPr/>
        </p:nvCxnSpPr>
        <p:spPr>
          <a:xfrm flipV="1" rot="16200000">
            <a:off x="4790160" y="4325760"/>
            <a:ext cx="673200" cy="580320"/>
          </a:xfrm>
          <a:prstGeom prst="bentConnector3">
            <a:avLst>
              <a:gd name="adj1" fmla="val 49973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7" idx="3"/>
            <a:endCxn id="99" idx="1"/>
          </p:cNvCxnSpPr>
          <p:nvPr/>
        </p:nvCxnSpPr>
        <p:spPr>
          <a:xfrm flipV="1">
            <a:off x="5864040" y="4033080"/>
            <a:ext cx="479880" cy="1188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6" idx="2"/>
            <a:endCxn id="97" idx="0"/>
          </p:cNvCxnSpPr>
          <p:nvPr/>
        </p:nvCxnSpPr>
        <p:spPr>
          <a:xfrm flipH="1" rot="16200000">
            <a:off x="4518720" y="3491280"/>
            <a:ext cx="629280" cy="8640"/>
          </a:xfrm>
          <a:prstGeom prst="bentConnector3">
            <a:avLst>
              <a:gd name="adj1" fmla="val 49971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5" idx="3"/>
            <a:endCxn id="96" idx="1"/>
          </p:cNvCxnSpPr>
          <p:nvPr/>
        </p:nvCxnSpPr>
        <p:spPr>
          <a:xfrm>
            <a:off x="3138480" y="2576160"/>
            <a:ext cx="303840" cy="5400"/>
          </a:xfrm>
          <a:prstGeom prst="bentConnector3">
            <a:avLst>
              <a:gd name="adj1" fmla="val 49703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6" idx="0"/>
            <a:endCxn id="101" idx="0"/>
          </p:cNvCxnSpPr>
          <p:nvPr/>
        </p:nvCxnSpPr>
        <p:spPr>
          <a:xfrm rot="5400000">
            <a:off x="1779480" y="707760"/>
            <a:ext cx="1777320" cy="4321800"/>
          </a:xfrm>
          <a:prstGeom prst="bentConnector3">
            <a:avLst>
              <a:gd name="adj1" fmla="val -12864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99" idx="3"/>
            <a:endCxn id="100" idx="1"/>
          </p:cNvCxnSpPr>
          <p:nvPr/>
        </p:nvCxnSpPr>
        <p:spPr>
          <a:xfrm>
            <a:off x="8404200" y="4033800"/>
            <a:ext cx="435600" cy="16560"/>
          </a:xfrm>
          <a:prstGeom prst="bentConnector3">
            <a:avLst>
              <a:gd name="adj1" fmla="val 49958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endCxn id="95" idx="1"/>
          </p:cNvCxnSpPr>
          <p:nvPr/>
        </p:nvCxnSpPr>
        <p:spPr>
          <a:xfrm flipH="1" flipV="1" rot="5400000">
            <a:off x="601920" y="3116520"/>
            <a:ext cx="1386720" cy="30564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OpenGL </a:t>
            </a: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как Визуализатор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c524"/>
                </a:solidFill>
                <a:latin typeface="Arial"/>
              </a:rPr>
              <a:t>Геометрические примитивы</a:t>
            </a:r>
            <a:endParaRPr b="1" i="1" lang="en-US" sz="28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Точки, линии, полигон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c524"/>
                </a:solidFill>
                <a:latin typeface="Arial"/>
              </a:rPr>
              <a:t>Изображения как примитивы</a:t>
            </a:r>
            <a:endParaRPr b="1" i="1" lang="en-US" sz="28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зображения и битовые карт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зделенные конвейеры для изображений и геометр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854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вязанные через текстурир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c524"/>
                </a:solidFill>
                <a:latin typeface="Arial"/>
              </a:rPr>
              <a:t>Визуализация зависит от состояния (</a:t>
            </a:r>
            <a:r>
              <a:rPr b="1" i="1" lang="en-US" sz="2800" spc="-1" strike="noStrike">
                <a:solidFill>
                  <a:srgbClr val="fec524"/>
                </a:solidFill>
                <a:latin typeface="Arial"/>
              </a:rPr>
              <a:t>state)</a:t>
            </a:r>
            <a:endParaRPr b="1" i="1" lang="en-US" sz="28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Цвета, материалы, источники света и т.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Сопутствующие </a:t>
            </a: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API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c524"/>
                </a:solidFill>
                <a:latin typeface="Arial"/>
              </a:rPr>
              <a:t>AGL, GLX, WGL</a:t>
            </a:r>
            <a:endParaRPr b="1" i="1" lang="en-US" sz="28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вязь между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enGL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 оконной системо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c524"/>
                </a:solidFill>
                <a:latin typeface="Arial"/>
              </a:rPr>
              <a:t>GLU (OpenGL Utility Library)</a:t>
            </a:r>
            <a:endParaRPr b="1" i="1" lang="en-US" sz="28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Часть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enG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URBS, tessellators, quadric shapes, et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c524"/>
                </a:solidFill>
                <a:latin typeface="Arial"/>
              </a:rPr>
              <a:t>GLUT (OpenGL Utility Tookkit)</a:t>
            </a:r>
            <a:endParaRPr b="1" i="1" lang="en-US" sz="28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ереносимый оконный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P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еофициальная часть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enG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OpenGL </a:t>
            </a: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и сопутствующие </a:t>
            </a: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API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833840"/>
            <a:ext cx="9524880" cy="45972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590920"/>
            <a:ext cx="9524880" cy="259056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, Win32, Mac OS                                           G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5567760"/>
            <a:ext cx="9524880" cy="45972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and/or hard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2590920"/>
            <a:ext cx="0" cy="259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2590920"/>
            <a:ext cx="2209680" cy="182880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590920"/>
            <a:ext cx="2362320" cy="182880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X, AGL or WG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2590920"/>
            <a:ext cx="3047760" cy="99036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1120" y="2596320"/>
            <a:ext cx="2324880" cy="642600"/>
          </a:xfrm>
          <a:prstGeom prst="rect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GL motif widge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 simil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28600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228600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228600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228600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228600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839080" y="228600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6748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7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Начальные </a:t>
            </a:r>
            <a:r>
              <a:rPr b="1" lang="en-US" sz="37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lang="ru-RU" sz="3700" spc="-1" strike="noStrike">
                <a:solidFill>
                  <a:srgbClr val="fafd00"/>
                </a:solidFill>
                <a:latin typeface="Arial"/>
              </a:rPr>
              <a:t>ведения</a:t>
            </a:r>
            <a:endParaRPr b="1" lang="en-US" sz="3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637560" cy="45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ec524"/>
                </a:solidFill>
                <a:latin typeface="Arial"/>
              </a:rPr>
              <a:t>Заголовочные файлы</a:t>
            </a:r>
            <a:endParaRPr b="1" i="1" lang="en-US" sz="28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#include &lt;GL/gl.h&gt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#include &lt;GL/glu.h&gt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#include &lt;GL/glut.h&gt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ec524"/>
                </a:solidFill>
                <a:latin typeface="Arial"/>
              </a:rPr>
              <a:t>Библиотеки</a:t>
            </a:r>
            <a:endParaRPr b="1" i="1" lang="en-US" sz="2800" spc="-1" strike="noStrike">
              <a:solidFill>
                <a:srgbClr val="fec524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ec5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c524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ec524"/>
                </a:solidFill>
                <a:latin typeface="Arial"/>
              </a:rPr>
              <a:t>Перенумерованные типы</a:t>
            </a:r>
            <a:endParaRPr b="1" i="1" lang="en-US" sz="2800" spc="-1" strike="noStrike">
              <a:solidFill>
                <a:srgbClr val="fec524"/>
              </a:solidFill>
              <a:latin typeface="Arial"/>
            </a:endParaRPr>
          </a:p>
          <a:p>
            <a:pPr lvl="1" marL="457200" indent="-3427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enGL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ределяет перенумерованные типы для совместимо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854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0c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Lfloat, GLint, GLenum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 т.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8:12:06Z</dcterms:created>
  <dc:creator>Mark Kilgard</dc:creator>
  <dc:description/>
  <dc:language>en-US</dc:language>
  <cp:lastModifiedBy>02a_ign</cp:lastModifiedBy>
  <cp:lastPrinted>2000-02-18T23:37:15Z</cp:lastPrinted>
  <dcterms:modified xsi:type="dcterms:W3CDTF">2001-03-16T10:45:58Z</dcterms:modified>
  <cp:revision>217</cp:revision>
  <dc:subject/>
  <dc:title>Lighting and Shading Techniques for Interactive Applications</dc:title>
</cp:coreProperties>
</file>