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6.wmf" ContentType="image/x-wmf"/>
  <Override PartName="/ppt/media/image15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3.png" ContentType="image/png"/>
  <Override PartName="/ppt/media/image8.wmf" ContentType="image/x-wmf"/>
  <Override PartName="/ppt/media/image9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5781-F9C0-43A3-9A8E-C4A5DBE0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C13A-9B93-45A6-9B7A-4580BDB6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D49-60BC-46BE-B0F2-4D1ADD36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9E9B-BE57-4313-92A3-E74FAAA8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8CB0-C19F-43F0-8F7C-C4EA30FA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2F1C-197B-42BD-AFFD-DB7FC8B7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A90A-F3AE-40B6-9431-6F99F465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737F-FEB9-4666-811C-6B306681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A059-FF84-4DDA-9FBA-4EA0C6F7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EED7-C2A6-4380-8D28-61572F39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09CF-6150-428F-B2F3-AEB8A919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CD49-9B43-4110-8E01-56233D8E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E795-74CC-4B4D-8EA6-7092BCB1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741A-A3EB-4AF1-A44D-32F6857E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7994-5A71-401A-81F6-DDE7F2B3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984E-84BC-4FA1-94EA-3D922161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892C-1DA8-4663-AE96-92E1F8B5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16E-A0AE-48B7-9C44-E7DD4C81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641-62B7-4BCE-A72E-56DD97AA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19A3-C0B0-449B-BC5A-A8BE75DF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53E2-A864-41F5-8267-0DB112BC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8C5-BA39-4EAC-A99C-E47BA028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9097-5CDB-42AA-80DB-6CBCF69E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296-52DC-4723-B8BC-A9FEBE4A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2929-90BC-4EC1-A048-2692B7126B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C69F-F220-44F2-AD9B-7DFF1A9C2B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ВЕДЕНИЕ В МАТЕМАТИЧЕСКУЮ МОРФОЛОГИ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анализ изображ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Ы ПОРОГОВОЙ БИНАРИЗАЦ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429000" y="39625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095880" y="2362320"/>
            <a:ext cx="2497320" cy="249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НЕДОСТАТКИ ПОРОГОВОГО МЕТОД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438280"/>
            <a:ext cx="7772400" cy="36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достаточная гибк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ловие стационарности изображ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однозначность выбора порог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увствительность к шум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БИНАРНАЯ МОРФОЛОГИЧЕСКАЯ ФИЛЬТРАЦ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ОРФОЛОГИЧЕСКИЕ ФИЛЬТР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742840"/>
            <a:ext cx="77724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жение (Эрозия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o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ширение (Дилатация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lat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рытие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os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крыти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pen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ЛОЖЕНИЕ И ВЫЧИТАНИЕ МИНКОВСКОГО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438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+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B = {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t = a + b,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, 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B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B = 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B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полнени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СЛОЖЕНИЯ МИНКОВСКОГО 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0555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455616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87440" y="3292560"/>
            <a:ext cx="1262160" cy="701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909960" y="26665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45766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38680" y="4030560"/>
            <a:ext cx="141120" cy="136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42080" y="37576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29560" y="26665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4576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62920" y="3276720"/>
            <a:ext cx="1261800" cy="701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62920" y="2819520"/>
            <a:ext cx="1261800" cy="7016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(+)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3505320"/>
            <a:ext cx="228600" cy="457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4114800"/>
            <a:ext cx="152280" cy="457200"/>
          </a:xfrm>
          <a:custGeom>
            <a:avLst/>
            <a:gdLst>
              <a:gd name="textAreaLeft" fmla="*/ 0 w 152280"/>
              <a:gd name="textAreaRight" fmla="*/ 55080 w 152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59" idx="1"/>
            <a:endCxn id="158" idx="1"/>
          </p:cNvCxnSpPr>
          <p:nvPr/>
        </p:nvCxnSpPr>
        <p:spPr>
          <a:xfrm flipV="1">
            <a:off x="4114800" y="3733200"/>
            <a:ext cx="2820240" cy="610200"/>
          </a:xfrm>
          <a:prstGeom prst="bentConnector3">
            <a:avLst>
              <a:gd name="adj1" fmla="val 49993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257800" y="2971800"/>
            <a:ext cx="1262160" cy="1295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(+)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СЛОЖЕНИЯ МИНКОВСКОГО 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004840" y="26665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45766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33560" y="4191120"/>
            <a:ext cx="141480" cy="136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16320" y="39625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924440" y="26665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4576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3276720"/>
            <a:ext cx="1262160" cy="701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22400" y="4800600"/>
            <a:ext cx="141480" cy="136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297180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3962520"/>
            <a:ext cx="75960" cy="30456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426708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457200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3" idx="1"/>
            <a:endCxn id="171" idx="1"/>
          </p:cNvCxnSpPr>
          <p:nvPr/>
        </p:nvCxnSpPr>
        <p:spPr>
          <a:xfrm flipV="1">
            <a:off x="2286000" y="3123360"/>
            <a:ext cx="2820240" cy="1296360"/>
          </a:xfrm>
          <a:prstGeom prst="bentConnector3">
            <a:avLst>
              <a:gd name="adj1" fmla="val 49993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176" name=""/>
          <p:cNvCxnSpPr>
            <a:stCxn id="174" idx="1"/>
          </p:cNvCxnSpPr>
          <p:nvPr/>
        </p:nvCxnSpPr>
        <p:spPr>
          <a:xfrm flipV="1">
            <a:off x="2286000" y="4114080"/>
            <a:ext cx="2820240" cy="610200"/>
          </a:xfrm>
          <a:prstGeom prst="bentConnector3">
            <a:avLst>
              <a:gd name="adj1" fmla="val 66653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730840" y="3156120"/>
            <a:ext cx="1828800" cy="1295280"/>
          </a:xfrm>
          <a:prstGeom prst="roundRect">
            <a:avLst>
              <a:gd name="adj" fmla="val 2328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3156120"/>
            <a:ext cx="609480" cy="6094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50160" y="3841920"/>
            <a:ext cx="609480" cy="609480"/>
          </a:xfrm>
          <a:prstGeom prst="ellipse">
            <a:avLst/>
          </a:prstGeom>
          <a:solidFill>
            <a:srgbClr val="ffcf01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30840" y="3841920"/>
            <a:ext cx="609480" cy="6094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30840" y="3156120"/>
            <a:ext cx="609480" cy="6094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СЛОЖЕНИЯ МИНКОВСКОГО 3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1684800" y="39942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44640" y="4375080"/>
            <a:ext cx="609480" cy="60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63760" y="4680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149560" y="27745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638680" y="274284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47242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35760" y="3460680"/>
            <a:ext cx="1261800" cy="701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(+)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4" idx="7"/>
            <a:endCxn id="181" idx="2"/>
          </p:cNvCxnSpPr>
          <p:nvPr/>
        </p:nvCxnSpPr>
        <p:spPr>
          <a:xfrm flipH="1" flipV="1" rot="5400000">
            <a:off x="3546000" y="2278800"/>
            <a:ext cx="1003680" cy="3366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191" name=""/>
          <p:cNvCxnSpPr>
            <a:stCxn id="184" idx="5"/>
            <a:endCxn id="180" idx="2"/>
          </p:cNvCxnSpPr>
          <p:nvPr/>
        </p:nvCxnSpPr>
        <p:spPr>
          <a:xfrm flipH="1" flipV="1" rot="5400000">
            <a:off x="3672000" y="2837880"/>
            <a:ext cx="750240" cy="3366360"/>
          </a:xfrm>
          <a:prstGeom prst="bentConnector4">
            <a:avLst>
              <a:gd name="adj1" fmla="val -42342"/>
              <a:gd name="adj2" fmla="val 6564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ВЫЧИТАНИЯ МИНКОВСКОГО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505320"/>
            <a:ext cx="1262160" cy="2286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004840" y="26665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45766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33560" y="4191120"/>
            <a:ext cx="141480" cy="136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16320" y="39625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924440" y="26665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43400" y="4576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3200400"/>
            <a:ext cx="126216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22400" y="4800600"/>
            <a:ext cx="141480" cy="136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05520" y="320040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3733920"/>
            <a:ext cx="75960" cy="30456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426708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457200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/>
          <p:nvPr/>
        </p:nvCxnSpPr>
        <p:spPr>
          <a:xfrm flipV="1">
            <a:off x="2286000" y="3351960"/>
            <a:ext cx="2820240" cy="1296360"/>
          </a:xfrm>
          <a:prstGeom prst="bentConnector3">
            <a:avLst>
              <a:gd name="adj1" fmla="val 49993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207" name=""/>
          <p:cNvCxnSpPr>
            <a:endCxn id="203" idx="1"/>
          </p:cNvCxnSpPr>
          <p:nvPr/>
        </p:nvCxnSpPr>
        <p:spPr>
          <a:xfrm flipV="1">
            <a:off x="2209680" y="3885480"/>
            <a:ext cx="2896560" cy="610200"/>
          </a:xfrm>
          <a:prstGeom prst="bentConnector3">
            <a:avLst>
              <a:gd name="adj1" fmla="val 49993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5413320" y="262404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(-)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238880" y="3352680"/>
            <a:ext cx="762120" cy="6858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ВЫЧИТАНИЯ МИНКОВСКОГО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753240" y="289044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48006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57960" y="236232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(-)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7760" y="4114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45720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4800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962520" y="28951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055520" y="283536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8006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87440" y="3063960"/>
            <a:ext cx="1262160" cy="1174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10280" y="3124080"/>
            <a:ext cx="1219320" cy="1143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3124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10280" y="3809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3809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72400" y="3124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ЕДМЕТ МАТЕМАТИЧЕСКОЙ МОРФОЛОГИИ 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133720"/>
            <a:ext cx="8610480" cy="4267080"/>
          </a:xfrm>
          <a:prstGeom prst="rect">
            <a:avLst/>
          </a:prstGeom>
          <a:solidFill>
            <a:srgbClr val="c5ff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2209680"/>
            <a:ext cx="4876920" cy="609840"/>
          </a:xfrm>
          <a:prstGeom prst="rect">
            <a:avLst/>
          </a:prstGeom>
          <a:solidFill>
            <a:srgbClr val="c5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ШИННОЕ ЗР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62120" y="2895480"/>
            <a:ext cx="7924320" cy="2286000"/>
            <a:chOff x="762120" y="2895480"/>
            <a:chExt cx="7924320" cy="2286000"/>
          </a:xfrm>
        </p:grpSpPr>
        <p:sp>
          <p:nvSpPr>
            <p:cNvPr id="105" name=""/>
            <p:cNvSpPr/>
            <p:nvPr/>
          </p:nvSpPr>
          <p:spPr>
            <a:xfrm>
              <a:off x="762120" y="358128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Объек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81080" y="3657600"/>
              <a:ext cx="1294920" cy="762120"/>
            </a:xfrm>
            <a:prstGeom prst="foldedCorner">
              <a:avLst>
                <a:gd name="adj" fmla="val 19712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Изображ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81280" y="3276720"/>
              <a:ext cx="1142640" cy="1523880"/>
            </a:xfrm>
            <a:prstGeom prst="can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ahoma"/>
                </a:rPr>
                <a:t>Обработ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3809880"/>
              <a:ext cx="304560" cy="533520"/>
            </a:xfrm>
            <a:prstGeom prst="rightArrow">
              <a:avLst>
                <a:gd name="adj1" fmla="val 39287"/>
                <a:gd name="adj2" fmla="val 48435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10280" y="3200400"/>
              <a:ext cx="1676160" cy="1905120"/>
            </a:xfrm>
            <a:custGeom>
              <a:avLst/>
              <a:gdLst>
                <a:gd name="textAreaLeft" fmla="*/ 382680 w 1676160"/>
                <a:gd name="textAreaRight" fmla="*/ 1293480 w 1676160"/>
                <a:gd name="textAreaTop" fmla="*/ 434880 h 1905120"/>
                <a:gd name="textAreaBottom" fmla="*/ 14702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Результа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29200" y="2895480"/>
              <a:ext cx="1523520" cy="2286000"/>
            </a:xfrm>
            <a:prstGeom prst="can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ahoma"/>
                </a:rPr>
                <a:t>Анали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53080" y="3886200"/>
              <a:ext cx="4568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76360" y="3809880"/>
              <a:ext cx="304560" cy="533520"/>
            </a:xfrm>
            <a:prstGeom prst="rightArrow">
              <a:avLst>
                <a:gd name="adj1" fmla="val 39287"/>
                <a:gd name="adj2" fmla="val 48435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76160" y="3809880"/>
              <a:ext cx="304560" cy="533520"/>
            </a:xfrm>
            <a:prstGeom prst="rightArrow">
              <a:avLst>
                <a:gd name="adj1" fmla="val 39287"/>
                <a:gd name="adj2" fmla="val 48435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362320" y="4952880"/>
            <a:ext cx="2895480" cy="1295640"/>
          </a:xfrm>
          <a:prstGeom prst="wedgeEllipseCallout">
            <a:avLst>
              <a:gd name="adj1" fmla="val 61347"/>
              <a:gd name="adj2" fmla="val -528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4520" y="5410080"/>
            <a:ext cx="236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т. морфоло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ВОЙСТВА ОПЕРАЦИЙ МИНКОВСКОГО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285640"/>
            <a:ext cx="71992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мутативный зако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+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+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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оциативный зако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+)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+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+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+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) = (A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ВОЙСТВА ОПЕРАЦИЙ МИНКОВСКОГО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590920"/>
            <a:ext cx="77724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ределительный зако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+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+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+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) B = (A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ВОЙСТВА ОПЕРАЦИЙ МИНКОВСКОГО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590920"/>
            <a:ext cx="77724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бивка структурного множеств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 = 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…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+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ширение композицией структурных множест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 = ((…(A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…. 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жение композицией структурных множест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 = ((…(A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…. 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ДИСКРЕТНЫЕ ОПЕРАЦИИ МИНКОВСКОГО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2819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05120" y="2819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1460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19520" y="2819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3124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5120" y="3124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146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19520" y="3124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3429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05120" y="3429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096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19520" y="3429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3733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3733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3733920"/>
            <a:ext cx="304560" cy="30456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3733920"/>
            <a:ext cx="304920" cy="30456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3733920"/>
            <a:ext cx="304920" cy="30456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3733920"/>
            <a:ext cx="304560" cy="30456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733920"/>
            <a:ext cx="304920" cy="30456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3733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19520" y="3733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3733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4038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528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00200" y="4038480"/>
            <a:ext cx="304920" cy="30492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4038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0968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4038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2408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4343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9528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4343400"/>
            <a:ext cx="304920" cy="30492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05120" y="4343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0968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460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19520" y="4343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4648320"/>
            <a:ext cx="304920" cy="30456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096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1460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195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907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00200" y="4952880"/>
            <a:ext cx="304920" cy="304920"/>
          </a:xfrm>
          <a:prstGeom prst="rect">
            <a:avLst/>
          </a:prstGeom>
          <a:solidFill>
            <a:srgbClr val="00ba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09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146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2578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9528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0020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05120" y="52578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19520" y="52578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90720" y="55627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9528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0020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05120" y="55627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1460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19520" y="55627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19720" y="36576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72428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02920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988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14800" y="39625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19720" y="3962520"/>
            <a:ext cx="30456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24280" y="39625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0988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14800" y="4267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19720" y="42670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24280" y="4267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2920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98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14800" y="4572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57200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24280" y="4572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0292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1480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19720" y="4876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2428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1500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19920" y="2819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32448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2940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34320" y="2819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3888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48720" y="2819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15328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458200" y="2819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150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19920" y="3124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244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6294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34320" y="3124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2388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5438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48720" y="3124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1532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4582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1500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19920" y="3429000"/>
            <a:ext cx="30456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4480" y="34290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629400" y="34290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3429000"/>
            <a:ext cx="30456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38880" y="34290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34290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848720" y="3429000"/>
            <a:ext cx="30456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1532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45820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715000" y="3733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19920" y="3733920"/>
            <a:ext cx="304560" cy="3045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24480" y="3733920"/>
            <a:ext cx="304920" cy="3045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3733920"/>
            <a:ext cx="304920" cy="3045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3733920"/>
            <a:ext cx="304560" cy="3045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238880" y="3733920"/>
            <a:ext cx="304920" cy="3045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3733920"/>
            <a:ext cx="304920" cy="3045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848720" y="3733920"/>
            <a:ext cx="304560" cy="3045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153280" y="3733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458200" y="3733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1500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19920" y="4038480"/>
            <a:ext cx="30456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324480" y="403848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629400" y="403848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934320" y="4038480"/>
            <a:ext cx="304560" cy="304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403848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543800" y="403848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4038480"/>
            <a:ext cx="30456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15328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458200" y="4038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71500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19920" y="4343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2448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629400" y="43434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343400"/>
            <a:ext cx="304560" cy="304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38880" y="43434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54380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848720" y="4343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15328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458200" y="4343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1500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199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3244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629400" y="4648320"/>
            <a:ext cx="304920" cy="3045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934320" y="4648320"/>
            <a:ext cx="304560" cy="3045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648320"/>
            <a:ext cx="304920" cy="3045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54380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8487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1532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45820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150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199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244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29400" y="495288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34320" y="4952880"/>
            <a:ext cx="304560" cy="304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238880" y="495288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5438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8487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1532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4582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71500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19920" y="52578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2448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629400" y="52578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934320" y="5257800"/>
            <a:ext cx="30456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238880" y="52578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54380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848720" y="52578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15328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458200" y="5257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1500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19920" y="55627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2448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62940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55627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23888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54380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848720" y="55627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58200" y="5562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37000" y="22431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23320" y="22096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6920" y="22096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(+)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ЛГОРИТМ МОРФОЛОГИЧЕСКОГО СУЖ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2057400"/>
            <a:ext cx="82296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Erosion(BIT* src[], bool* mask[], BIT* dst[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змеры исходного и результирующего изображе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W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змеры структурного множе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(y = MH/2; y &lt; H – MH/2; y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(x = MW/2; x &lt; W – MW/2; x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min = MAXBI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(j = -MH/2; j &lt;= MH/2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(i = -MW/2; i &lt;= MW/2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(mask[i][j]) &amp;&amp; (src[x + i][y + j] &lt; min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 = src[x + i][y + 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t[x][y] = mi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ЛГОРИТМ МОРФОЛОГИЧЕСКОГО РАСШИР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057400"/>
            <a:ext cx="82296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Dilation(BIT* src[], bool* mask[], BIT* dst[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змеры исходного и результирующего изображе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W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змеры структурного множе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(y = MH/2; y &lt; H – MH/2; y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(x = MW/2; x &lt; W – MW/2; x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max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(j = -MH/2; j &lt;= MH/2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(i = -MW/2; i &lt;= MW/2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(mask[i][j]) &amp;&amp; (src[x + i][y + j] &gt; max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= src[x + i][y + 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t[x][y] = ma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ПЕРАЦИИ РАСКРЫТИЯ И ЗАКРЫТ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рфологическое раскрыти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open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(A, B) = (A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B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бирает выступы на границах объек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рфологическое закрыти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clo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ose(A, B) = (A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B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полняет отверстия внутри и на граница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МОРФОЛОГИЧЕСКОГО РАСКРЫТ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68" name="OpCloseSample" descr=""/>
          <p:cNvPicPr/>
          <p:nvPr/>
        </p:nvPicPr>
        <p:blipFill>
          <a:blip r:embed="rId1"/>
          <a:stretch/>
        </p:blipFill>
        <p:spPr>
          <a:xfrm>
            <a:off x="1295280" y="304812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4419720" y="2819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86360" y="24382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671080" y="24382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МОРФОЛОГИЧЕСКОГО ЗАКРЫТ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74" name="OpCloseSample" descr=""/>
          <p:cNvPicPr/>
          <p:nvPr/>
        </p:nvPicPr>
        <p:blipFill>
          <a:blip r:embed="rId1"/>
          <a:stretch/>
        </p:blipFill>
        <p:spPr>
          <a:xfrm>
            <a:off x="1295280" y="304812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360" y="24382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678640" y="24382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ose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4419720" y="2819520"/>
            <a:ext cx="3840120" cy="291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ЫДЕЛЕНИЕ И МОРФОЛОГИЧЕСКИЙ АНАЛИЗ ОБЪЕКТ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ЕДМЕТ МАТЕМАТИЧЕСКОЙ МОРФОЛОГИИ 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361960"/>
            <a:ext cx="77724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рфология – от греч. «форма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еометрические параметры объек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намические характерист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позна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мант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ПЕРАЦИЯ РАЗМЕТКИ ОБЪЕКТОВ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(LABELING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106668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37160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76520" y="2438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8108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8600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90920" y="2438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95480" y="243828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00400" y="243828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505320" y="2438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988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66680" y="2743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71600" y="274320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76520" y="2743200"/>
            <a:ext cx="30456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981080" y="274320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0" y="2743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90920" y="27432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895480" y="274320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00400" y="274320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05320" y="27432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09880" y="2743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06668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3048120"/>
            <a:ext cx="30492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048120"/>
            <a:ext cx="30456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28600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590920" y="3048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9548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0040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505320" y="3048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0988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0666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371600" y="335268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3352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810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3352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954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05320" y="3352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06668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37160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676520" y="36576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98108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86000" y="365760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90920" y="36576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9548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200400" y="365760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505320" y="3657600"/>
            <a:ext cx="30456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0988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066680" y="3962520"/>
            <a:ext cx="30492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7160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76520" y="3962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8108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28600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590920" y="3962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895480" y="3962520"/>
            <a:ext cx="30492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200400" y="3962520"/>
            <a:ext cx="30492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505320" y="3962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0988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06668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37160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676520" y="4267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98108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8600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90920" y="4267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9548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00400" y="426708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4267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80988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666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71600" y="457200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4572000"/>
            <a:ext cx="30456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9092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8954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0532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8098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6668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371600" y="4876920"/>
            <a:ext cx="30492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76520" y="4876920"/>
            <a:ext cx="30456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4876920"/>
            <a:ext cx="30492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28600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0920" y="4876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89548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0040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505320" y="4876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0988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06668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3716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76520" y="5181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98108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860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90920" y="5181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5480" y="518148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004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05320" y="5181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0988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105520" y="2438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1008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1500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19920" y="2438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32448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62940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934320" y="24382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238880" y="24382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54380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848720" y="2438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105520" y="27432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410080" y="274320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15000" y="274320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19920" y="274320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24480" y="2743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629400" y="2743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934320" y="274320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238880" y="274320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43800" y="2743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27432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105520" y="3048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10080" y="304812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15000" y="304812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19920" y="3048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32448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2940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934320" y="3048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23888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54380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848720" y="3048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105520" y="3352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10080" y="33526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1500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019920" y="3352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3244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62940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934320" y="3352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54380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848720" y="3352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105520" y="36576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41008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71500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19920" y="36576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324480" y="365760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62940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934320" y="36576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238880" y="365760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543800" y="365760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848720" y="36576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3962520"/>
            <a:ext cx="30456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71500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19920" y="3962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32448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62940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934320" y="3962520"/>
            <a:ext cx="30456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238880" y="396252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54380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848720" y="3962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05520" y="4267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41008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1500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019920" y="4267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32448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2940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4267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38880" y="4267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848720" y="4267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10552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10080" y="457200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715000" y="457200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3244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6294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93432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2388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5438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84872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105520" y="4876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410080" y="487692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715000" y="487692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19920" y="4876920"/>
            <a:ext cx="30456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32448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2940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934320" y="4876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23888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54380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848720" y="4876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105520" y="5181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41008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150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19920" y="5181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32448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6294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934320" y="51814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23888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848720" y="5181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ЛГОРИТМ РАЗМЕТКИ ОБЪЕКТОВ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3" name=""/>
          <p:cNvSpPr/>
          <p:nvPr/>
        </p:nvSpPr>
        <p:spPr>
          <a:xfrm>
            <a:off x="762120" y="1828800"/>
            <a:ext cx="769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Labeling(BIT* img[], int* labels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лжна быть обнул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(y = 0; y &lt; H; y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(x = 0; x &lt; W; x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 (img[x][y] = = 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&amp; (labes[x][y] = = 0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l(img, labels, x, y, L++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ЛГОРИТМ РАЗМЕТКИ ОБЪЕКТОВ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838080" y="22860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Fill(BIT* img[], int* labels[], int x, int y, int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 (labels[x][y] = = 0) &amp;&amp; (img[x][y] = = 1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s[x][y] = 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 x &gt; 0 ) Fill(img, labels, x – 1, y, 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 x &lt; W - 1 ) Fill(img, labels, x + 1, y, 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 y &gt; 0 ) Fill(img, labels, x, y - 1, 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( y &lt; H - 1 ) Fill(img, labels, x, y + 1, 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ПЕРАЦИЯ ОКОНТУРИВАНИЯ ОБЪЕК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182600" y="2666520"/>
            <a:ext cx="777240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нутреннее оконтури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= A – (A (-) 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нешнее оконтури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= (A (+) B) –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ОКОНТУРИВАНИЯ ОБЪЕК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1523880" y="2133720"/>
          <a:ext cx="20527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33720"/>
                    <a:ext cx="20527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3124080" y="1592280"/>
            <a:ext cx="7020000" cy="526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ОРФОЛОГИЧЕСКАЯ СКЕЛЕТИЗАЦ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3886200" y="2133720"/>
            <a:ext cx="5562720" cy="4171680"/>
          </a:xfrm>
          <a:prstGeom prst="rect">
            <a:avLst/>
          </a:prstGeom>
          <a:ln w="0">
            <a:noFill/>
          </a:ln>
        </p:spPr>
      </p:pic>
      <p:pic>
        <p:nvPicPr>
          <p:cNvPr id="694" name="R" descr=""/>
          <p:cNvPicPr/>
          <p:nvPr/>
        </p:nvPicPr>
        <p:blipFill>
          <a:blip r:embed="rId2"/>
          <a:stretch/>
        </p:blipFill>
        <p:spPr>
          <a:xfrm>
            <a:off x="838080" y="25146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ЕОБРАЗОВАНИЕ СЕРЕДИННОЙ ОС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 сужение объект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руктурным множество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) = A (-) n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n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меет ви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аково, чт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N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-1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а E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kel(A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K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), n = 0…N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4191120" y="3505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95680" y="3505320"/>
            <a:ext cx="30492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00600" y="3505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191120" y="3809880"/>
            <a:ext cx="3045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95680" y="380988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800600" y="380988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191120" y="41148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495680" y="41148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800600" y="4114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ЛГОРИТМ СКЕЛЕТИЗАЦ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>
            <a:off x="762120" y="1905120"/>
            <a:ext cx="83818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Skeleton(BIT* img[], BIT* skel[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eimg[W][H], oimg[W][H];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l EMsk[3][3], OMsk[3][3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(m = 0; m &lt; 3; m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(n = 0; n &lt; 3; n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sk[m][n] = OMask[m][n]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sk[0][0] = OMsk[0][2] = OMsk[2][0] = OMsk[2][2]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( !empty(img)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(img, OMsk, oim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(y = 0; y &lt; H; y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(x = 0; x &lt; W; x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xel = img[x][y] – oimg[x][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[x][y] = skel[x][y] | pixe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osion(img, EMask, eimg);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(img, eim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Ы МОРФОЛОГИЧЕСКОЙ СКЕЛЕТИЗАЦИИ 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09" name="plane1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3598920" cy="359892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2"/>
          <a:stretch/>
        </p:blipFill>
        <p:spPr>
          <a:xfrm>
            <a:off x="3602160" y="188280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Ы МОРФОЛОГИЧЕСКОЙ СКЕЛЕТИЗАЦИИ 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12" name="plane2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3598920" cy="359892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2"/>
          <a:stretch/>
        </p:blipFill>
        <p:spPr>
          <a:xfrm>
            <a:off x="3581280" y="1884240"/>
            <a:ext cx="5867640" cy="440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БИНАРИЗАЦИЯ ИЗОБРАЖЕН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ПРЕДЕЛЕНИЕ ИЗОБРАЖ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3200400"/>
            <a:ext cx="81169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ирина изображ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сота изображ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элемента изображе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олбц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о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990720" y="2743200"/>
                <a:ext cx="74674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&lt;</m:t>
                        </m:r>
                        <m:r>
                          <m:t xml:space="preserve">H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БИНАРИЗАЦИЯ ИЗОБРАЖЕНИЯ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876920" y="22860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БИНАРИЗАЦИЯ ИЗОБРАЖЕНИЯ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4190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G, x, y)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, определяющая способ бинариз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G, x, y) = TRU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точек интереса изображен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85800" y="2438280"/>
                <a:ext cx="787068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БИНАРИЗАЦИЯ ИЗОБРАЖЕНИЯ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3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void Binarization(BYTE* g[], BIT* b[]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(y = 0; y &lt; H; y++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(x = 0; x &lt; W; x++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(F(g, x, y)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b[x][y] =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b[x][y]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ТОД ПОРОГОВОЙ БИНАРИЗАЦИИ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THRESHOLDING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838080" y="2362320"/>
                <a:ext cx="7696440" cy="15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ue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</m:t>
                            </m:r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t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914400" y="451944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рог бинар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Graphics &amp; Media Lab. http://graphics.cs.msu.s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09:39:56Z</dcterms:created>
  <dc:creator>Lordo Brutto</dc:creator>
  <dc:description/>
  <dc:language>en-US</dc:language>
  <cp:lastModifiedBy>ydi</cp:lastModifiedBy>
  <dcterms:modified xsi:type="dcterms:W3CDTF">2001-04-02T15:12:37Z</dcterms:modified>
  <cp:revision>26</cp:revision>
  <dc:subject/>
  <dc:title>ВВЕДЕНИЕ В МАТЕМАТИЧЕСКУЮ МОРФОЛОГИЮ </dc:title>
</cp:coreProperties>
</file>