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A72-C36C-4D78-8728-23AA073834D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астую мелкие фигульки – ш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еще – фурье, тра-ля-ля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ум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 чуть-чуть про фурье – объяснить почему гаусс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к размытия – размывает границы – медианный ему альтернати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к размытия – размывает границы – медианный ему альтернати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я бывают разные – бинарные, полутоновые и цве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гладить – потом анализ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– линии, области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– буквы, лицо, дере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зать, что частный случай морф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B9D-701C-4AC3-B0A4-5500B51A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2FE-6FBF-40B8-81D0-E233C67C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345-98DB-4D98-A833-70823080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428-067D-4109-90C5-1DBCEBCE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EC7D-21E7-4E87-8452-E6AC47FA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B59C-9F83-4ABC-9009-29D1808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DC6-B55C-4E9C-81B2-7D8AB5C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2A07-EC24-424C-BF7A-405E8E01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EAC1-9EFD-4BF2-A857-DF8936EC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6CDE-0B1F-4E03-9CDA-B3ED40BA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7E9-D4A9-4E8D-AC4C-AE06937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799-ED01-47FE-8E12-248FFCC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6EF5-567C-4BB3-A57E-BBD3753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2153-F930-446B-A0AA-61131FC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380C-B787-4F80-BA09-57A17C84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0522-C2BF-47CF-86AA-F7490809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7DC6-AB4F-4F55-9957-88DCAD2A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021-AFA2-466A-93C0-61D2892B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A52-0704-421D-867A-4C43236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582-D930-4B65-ADDD-A47A50E6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335-E982-4A73-B740-134960B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AA0-D5B5-4226-B47D-881FBB2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93C-34F4-415C-94F3-075D106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0ED-D71B-4E4D-AC40-4560D6B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284-8DEF-4881-8E65-588BFFD6F1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53C-474B-4F05-839F-047380CBF86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работка и анализ изображе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362320"/>
            <a:ext cx="800100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ботка изображений 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ьютерно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шинное) зрение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uter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chine)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ьютерная графика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uter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типа «соль и перец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bacteria3" descr=""/>
          <p:cNvPicPr/>
          <p:nvPr/>
        </p:nvPicPr>
        <p:blipFill>
          <a:blip r:embed="rId1"/>
          <a:stretch/>
        </p:blipFill>
        <p:spPr>
          <a:xfrm>
            <a:off x="1128600" y="2181240"/>
            <a:ext cx="6886800" cy="249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4876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4876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ранение шума с учетом 8-ми сосе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876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ранение шума с учетом 4-х сосе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мал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981080"/>
            <a:ext cx="655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имеем представление о размерах интересующих нас объектов, пусть даже очень приблиз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ем возможность выделив связные компоненты на изображении, отбросить по размеру неподходя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acteria4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809880" cy="208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715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79132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ображение без компонент размером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4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икс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ранение шума в полутоновых и цветных изображени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реднени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fil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мытие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ur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льтр Гаусс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blur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дианный филь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в полутоновых и цветных изображен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checks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7619760" cy="2370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90720" y="2057400"/>
            <a:ext cx="693396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: изображение с равномерным шу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rr(i,j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рмально распределенная случай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43000" y="2514600"/>
                <a:ext cx="346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«свертка»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voluti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71520" y="2895480"/>
                <a:ext cx="624672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∬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λdμ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19320" y="1981080"/>
            <a:ext cx="6629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ертка двумерной функ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функ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епрерывном и дискретном случа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87692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, свертка изображения по какой-либо функции называется применением фильтра к изображени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«свертка»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voluti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добный способ задания функций, по которым производится свертка – матр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019920" y="3581280"/>
                <a:ext cx="12189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955960" y="5340240"/>
            <a:ext cx="4740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мер матрицы и заданной ею свертк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371600" y="4724280"/>
                <a:ext cx="6400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43400" y="2743200"/>
                <a:ext cx="26859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0,0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0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219320" y="29718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рица свертки 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реднение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x filter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43000" y="2666880"/>
                <a:ext cx="45673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ерация усреднения значения каждого пиксел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тка по константн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averaged" descr=""/>
          <p:cNvPicPr/>
          <p:nvPr/>
        </p:nvPicPr>
        <p:blipFill>
          <a:blip r:embed="rId1"/>
          <a:stretch/>
        </p:blipFill>
        <p:spPr>
          <a:xfrm>
            <a:off x="2590920" y="4114800"/>
            <a:ext cx="4267080" cy="2073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43000" y="3581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при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ытие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19320" y="2590920"/>
                <a:ext cx="50655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lur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66680" y="1981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ерация размытия значения каждого пикселя – свертка по функции разм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19320" y="4191120"/>
                <a:ext cx="15652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43000" y="3505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функции размы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3886200"/>
                <a:ext cx="48006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Фильтр Гаусса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ussian 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2362320"/>
                <a:ext cx="4786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rad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14400" y="20574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ертка по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fig1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4038480"/>
            <a:ext cx="685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раметр   задает степен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м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графике функция 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66840" y="4067280"/>
                <a:ext cx="338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66680" y="5105520"/>
                <a:ext cx="88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Фильтр Гаусса 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ussian blurr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057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ы свертки по функции Гаусса и по константной функции (усредн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fig3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fig4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fig5" descr=""/>
          <p:cNvPicPr/>
          <p:nvPr/>
        </p:nvPicPr>
        <p:blipFill>
          <a:blip r:embed="rId3"/>
          <a:stretch/>
        </p:blipFill>
        <p:spPr>
          <a:xfrm>
            <a:off x="5562720" y="2971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90720" y="51055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419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 Гаусса с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419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реднение по 49 пикселям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x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пьютерное зр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 – принятие решений о реальных физических объектах и сценах, основываясь на воспринимаемых изображени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информации из изображ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и интерпретация полученной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дианный фильт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057400"/>
            <a:ext cx="6858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медианы среди значений яркости пикселей в некоторой окр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меди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анный фильтр радиус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медианы среди пикселей в окрестност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-r,r]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63600" y="3255840"/>
                <a:ext cx="47134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-отсортированный набор чисел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 набор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дианный фильт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05740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 применения медианного фильтра с радиусом 5 пикс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median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276720" cy="1532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43000" y="40384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 применения медианного фильтра с радиусом в 7 пикселей к изображению с шумом и артефактами в виде тонких светлых окруж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median1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4952880" cy="15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иление и выделение полезной информ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209680"/>
            <a:ext cx="777240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отрим выделение краев (гра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dge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резкое изменение яркости на изображении, часто соответствует границам объектов на изобра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edge_ex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6910560" cy="17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2209680"/>
            <a:ext cx="38862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 интересуют области резкого изменения яркости – нахождение таких областей можно организовать на основе анализа первой и второй производной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fig11" descr=""/>
          <p:cNvPicPr/>
          <p:nvPr/>
        </p:nvPicPr>
        <p:blipFill>
          <a:blip r:embed="rId1"/>
          <a:stretch/>
        </p:blipFill>
        <p:spPr>
          <a:xfrm>
            <a:off x="5938920" y="2071800"/>
            <a:ext cx="2274840" cy="925560"/>
          </a:xfrm>
          <a:prstGeom prst="rect">
            <a:avLst/>
          </a:prstGeom>
          <a:ln w="0">
            <a:noFill/>
          </a:ln>
        </p:spPr>
      </p:pic>
      <p:pic>
        <p:nvPicPr>
          <p:cNvPr id="203" name="fig21" descr=""/>
          <p:cNvPicPr/>
          <p:nvPr/>
        </p:nvPicPr>
        <p:blipFill>
          <a:blip r:embed="rId2"/>
          <a:stretch/>
        </p:blipFill>
        <p:spPr>
          <a:xfrm>
            <a:off x="5910120" y="3367080"/>
            <a:ext cx="2343240" cy="1463760"/>
          </a:xfrm>
          <a:prstGeom prst="rect">
            <a:avLst/>
          </a:prstGeom>
          <a:ln w="0">
            <a:noFill/>
          </a:ln>
        </p:spPr>
      </p:pic>
      <p:pic>
        <p:nvPicPr>
          <p:cNvPr id="204" name="fig31" descr=""/>
          <p:cNvPicPr/>
          <p:nvPr/>
        </p:nvPicPr>
        <p:blipFill>
          <a:blip r:embed="rId3"/>
          <a:stretch/>
        </p:blipFill>
        <p:spPr>
          <a:xfrm>
            <a:off x="5900760" y="4815000"/>
            <a:ext cx="236520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24280" y="23623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809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5181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рафик 2ой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1337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вестно, что наибольшее изменение функции происходит в направлении ее градиента. Величина изменения измеряется абсолютной величиной град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38080" y="3124080"/>
                <a:ext cx="4572000" cy="19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I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I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50292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ство методов основано на приближенном вычисление градиента, анализе его направления и абсолютн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ближенное вычисление градиента, свертка по функц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28720" y="3352680"/>
                <a:ext cx="177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85800" y="4648320"/>
            <a:ext cx="731520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матический смысл – приближенное вычисление производных по напр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ой недостаток методов основанных на анализе градиента - чувствительность к шуму, увеличение шумности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697120" y="3276720"/>
                <a:ext cx="2203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52880" y="3276720"/>
                <a:ext cx="2318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143000" y="4038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берт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1148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в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114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б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133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ы применения операторов выделения кра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2670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берт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43434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в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601992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б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roberet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2895840" cy="1486080"/>
          </a:xfrm>
          <a:prstGeom prst="rect">
            <a:avLst/>
          </a:prstGeom>
          <a:ln w="0">
            <a:noFill/>
          </a:ln>
        </p:spPr>
      </p:pic>
      <p:pic>
        <p:nvPicPr>
          <p:cNvPr id="230" name="prewitt_total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38400" cy="1558800"/>
          </a:xfrm>
          <a:prstGeom prst="rect">
            <a:avLst/>
          </a:prstGeom>
          <a:ln w="0">
            <a:noFill/>
          </a:ln>
        </p:spPr>
      </p:pic>
      <p:pic>
        <p:nvPicPr>
          <p:cNvPr id="231" name="sobel_total" descr=""/>
          <p:cNvPicPr/>
          <p:nvPr/>
        </p:nvPicPr>
        <p:blipFill>
          <a:blip r:embed="rId3"/>
          <a:stretch/>
        </p:blipFill>
        <p:spPr>
          <a:xfrm>
            <a:off x="2743200" y="4648320"/>
            <a:ext cx="3048120" cy="156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краев с помощью анализа второй производ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77960" y="2666880"/>
                <a:ext cx="4771800" cy="25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торая производная по 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торая производная по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- оператор  Л апласа;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838080" y="4800600"/>
            <a:ext cx="7315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достатки методов основанных на второй производ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ще меньшая устойчивость к ш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зможность выявить направление кр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краев с помощью анализа второй произв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867280" y="2895480"/>
                <a:ext cx="838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41" name="2nd_deriv1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638520" cy="1866960"/>
          </a:xfrm>
          <a:prstGeom prst="rect">
            <a:avLst/>
          </a:prstGeom>
          <a:ln w="0">
            <a:noFill/>
          </a:ln>
        </p:spPr>
      </p:pic>
      <p:pic>
        <p:nvPicPr>
          <p:cNvPr id="242" name="2nd_deriv2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3638520" cy="18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828800" y="2895480"/>
                <a:ext cx="1087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5562720" y="3733920"/>
            <a:ext cx="173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оизводная по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3733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оизводная по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краев с помощью анализа второй произв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09880" y="2819520"/>
                <a:ext cx="990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519360" y="3672000"/>
            <a:ext cx="173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ператор Лапл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laplac" descr=""/>
          <p:cNvPicPr/>
          <p:nvPr/>
        </p:nvPicPr>
        <p:blipFill>
          <a:blip r:embed="rId1"/>
          <a:stretch/>
        </p:blipFill>
        <p:spPr>
          <a:xfrm>
            <a:off x="2438280" y="4114800"/>
            <a:ext cx="383544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209680"/>
            <a:ext cx="754380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Изображени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оптическое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– картина, получаемая в результат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прохождения через оптическую систему лучей, распространяющихся от объекта, и воспроизводящая его контуры и д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Физическ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энциклопедическ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словарь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ое представление изоб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нкц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т двух 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уется дискретное пред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5800" y="4800600"/>
                <a:ext cx="38815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5800" y="5638680"/>
                <a:ext cx="2967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21337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е процесса человеческого зрения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dreth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анализ нулей результатов свертки по оператору Лапласа от функции Гаусс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LoG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838080" y="3352680"/>
                <a:ext cx="430560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Δ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6" name="g2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743200" cy="1996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181480" y="5410080"/>
            <a:ext cx="35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афик второй производной одномерной функции Гаусса с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ma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133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ки соответствующие оператора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различным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ma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14400" y="3048120"/>
                <a:ext cx="1481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2895480"/>
                <a:ext cx="4952880" cy="27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2193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5791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1x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крае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2133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 применения оператор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5257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x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5257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к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Log3x3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3835440" cy="1981080"/>
          </a:xfrm>
          <a:prstGeom prst="rect">
            <a:avLst/>
          </a:prstGeom>
          <a:ln w="0">
            <a:noFill/>
          </a:ln>
        </p:spPr>
      </p:pic>
      <p:pic>
        <p:nvPicPr>
          <p:cNvPr id="271" name="Log5x5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383544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формация, содержащаяся в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548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ез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низкого уров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ласти однородные по какому-либо призна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ицы однородных обла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вет, форма обла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высокого уров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ы, содержащиеся на изображен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шибочная информация (шу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fromthepagan" descr=""/>
          <p:cNvPicPr/>
          <p:nvPr/>
        </p:nvPicPr>
        <p:blipFill>
          <a:blip r:embed="rId1"/>
          <a:stretch/>
        </p:blipFill>
        <p:spPr>
          <a:xfrm>
            <a:off x="6477120" y="2286000"/>
            <a:ext cx="220968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обработка изобра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готовка изображения к анализ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авление и устранение шу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иление и выделение полезной информ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обработка изобра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авление и устранение шу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чины возникновения шум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ительные приборы несовершен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нение и передача изображений с  потерей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noise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2895480" cy="2683080"/>
          </a:xfrm>
          <a:prstGeom prst="rect">
            <a:avLst/>
          </a:prstGeom>
          <a:ln w="0">
            <a:noFill/>
          </a:ln>
        </p:spPr>
      </p:pic>
      <p:pic>
        <p:nvPicPr>
          <p:cNvPr id="121" name="zoom_noise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251460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обработка изобра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иление и выделение полезной информ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рекция яркости (контрастно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областей однородных по цвету (ярко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границ - резких изменений цвета (ярко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enhance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4956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авление и устранение шу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ранение шума в бинарных изображен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ранение шума типа «соль и перец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ранение малых обла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bacteria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56528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05320" y="601992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зображение бактер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странение шума типа «соль и перец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362320"/>
            <a:ext cx="7543800" cy="33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а – избавиться от одиночных темных пикселей в светлых областях и одиночных светлых пикселей в темных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нение масок к изобра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учетом 8ми сосе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учетом 4х сосе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394160" y="4191120"/>
                <a:ext cx="31496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394160" y="5181480"/>
                <a:ext cx="3200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с) 2001Graphics &amp; Media Lab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06:35Z</dcterms:created>
  <dc:creator>vvp</dc:creator>
  <dc:description/>
  <dc:language>en-US</dc:language>
  <cp:lastModifiedBy>vvp</cp:lastModifiedBy>
  <dcterms:modified xsi:type="dcterms:W3CDTF">2001-04-02T16:10:11Z</dcterms:modified>
  <cp:revision>140</cp:revision>
  <dc:subject/>
  <dc:title>Обработка и анализ изображений</dc:title>
</cp:coreProperties>
</file>