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31.wmf" ContentType="image/x-wmf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.png" ContentType="image/png"/>
  <Override PartName="/ppt/media/image38.png" ContentType="image/png"/>
  <Override PartName="/ppt/media/image33.png" ContentType="image/png"/>
  <Override PartName="/ppt/media/image52.png" ContentType="image/png"/>
  <Override PartName="/ppt/media/image27.jpeg" ContentType="image/jpeg"/>
  <Override PartName="/ppt/media/image3.png" ContentType="image/png"/>
  <Override PartName="/ppt/media/image15.png" ContentType="image/png"/>
  <Override PartName="/ppt/media/image60.png" ContentType="image/png"/>
  <Override PartName="/ppt/media/image6.jpeg" ContentType="image/jpeg"/>
  <Override PartName="/ppt/media/image21.wmf" ContentType="image/x-wmf"/>
  <Override PartName="/ppt/media/image18.png" ContentType="image/png"/>
  <Override PartName="/ppt/media/image24.wmf" ContentType="image/x-wmf"/>
  <Override PartName="/ppt/media/image10.png" ContentType="image/png"/>
  <Override PartName="/ppt/media/image29.png" ContentType="image/png"/>
  <Override PartName="/ppt/media/image32.wmf" ContentType="image/x-wmf"/>
  <Override PartName="/ppt/media/image57.png" ContentType="image/png"/>
  <Override PartName="/ppt/media/image20.png" ContentType="image/png"/>
  <Override PartName="/ppt/media/image2.jpeg" ContentType="image/jpeg"/>
  <Override PartName="/ppt/media/image26.wmf" ContentType="image/x-wmf"/>
  <Override PartName="/ppt/media/image22.wmf" ContentType="image/x-wmf"/>
  <Override PartName="/ppt/media/image25.wmf" ContentType="image/x-wmf"/>
  <Override PartName="/ppt/media/image14.png" ContentType="image/png"/>
  <Override PartName="/ppt/media/image23.wmf" ContentType="image/x-wmf"/>
  <Override PartName="/ppt/media/image11.jpeg" ContentType="image/jpe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39.png" ContentType="image/png"/>
  <Override PartName="/ppt/media/image30.wmf" ContentType="image/x-wmf"/>
  <Override PartName="/ppt/media/image36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wmf" ContentType="image/x-wmf"/>
  <Override PartName="/ppt/media/image48.png" ContentType="image/png"/>
  <Override PartName="/ppt/media/image50.png" ContentType="image/png"/>
  <Override PartName="/ppt/media/image51.png" ContentType="image/png"/>
  <Override PartName="/ppt/media/image53.png" ContentType="image/png"/>
  <Override PartName="/ppt/media/image54.png" ContentType="image/png"/>
  <Override PartName="/ppt/media/image55.png" ContentType="image/png"/>
  <Override PartName="/ppt/media/image56.png" ContentType="image/png"/>
  <Override PartName="/ppt/media/image5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751D-E9EC-4638-851F-A196701E71C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и четко сформулировать, что гово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гладить – потом анализ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толком про нелинейность, убрать д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1EC-F620-40DB-A607-BB2BEA820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37E9-EB7A-49EB-B6A7-8D9BF346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D08F-D94B-4E90-ABCD-6E23C89B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5D6B-1093-49DD-B51F-B8947CBD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C924-B688-45AB-9E87-C09886031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CD6B-C144-43E8-BAF8-C7250416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957F-692E-4920-82E6-EDA3E93E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9754-48D2-442C-83B8-29D0C38A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F589-7F5E-4723-85A3-8649B09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4CF-8706-453A-BE9D-83F6B862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00B2-C2B7-4A17-B4BD-2D4FA2AD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71E-3BD8-4D03-AD72-F8D34B25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C93D-97C5-46DE-B885-6CB9727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697-240A-4BA3-8914-C8B6959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CE6E-E454-42D0-9BBD-C2764A9D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4B4B-7D21-4C0B-A9B4-0513CE43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FE33-8F7A-41B9-AE65-DD372C81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7930-A890-45FA-9F10-4AC2D47D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8DF1-F374-4E59-A2D4-8DEE835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8DFC-92DE-46E1-8916-918FC436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114-FC6D-4571-8717-639627995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0101-7BA4-4C54-A519-608DB990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3E96-E28A-4474-A535-6C8C38F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5B94-9916-4452-90BA-216A63C6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1EF1-0DA1-4C44-8185-D1E5EC3D293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F04-4C32-4327-B334-58B2C8E281BF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" Target="slide40.xml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5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информации, содержащейся в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примере бинарных изображ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7692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роговая фильтр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2209680"/>
            <a:ext cx="708660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олее интересный способ – определение порога автоматически, по характеристикам изображе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бимодальной гистограм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fip357" descr=""/>
          <p:cNvPicPr/>
          <p:nvPr/>
        </p:nvPicPr>
        <p:blipFill>
          <a:blip r:embed="rId1"/>
          <a:stretch/>
        </p:blipFill>
        <p:spPr>
          <a:xfrm>
            <a:off x="129528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55" name="fip358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37335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из симметричного пика гистограммы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2209680"/>
            <a:ext cx="70866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меняется когда фон изображения дает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четливый и доминирующий пик гистограммы, симметричный относительно свое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гладить гистограм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ти ячейку гистограммы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 максимальным значение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 стороне гистограммы не относящейся к объекту (на примере – справа от пика фона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ти яркост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личество пикселей с яркостью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авняетс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%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например 5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%)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 пикселей яркости которых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&gt;=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считать порог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 =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(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p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fip358" descr=""/>
          <p:cNvPicPr/>
          <p:nvPr/>
        </p:nvPicPr>
        <p:blipFill>
          <a:blip r:embed="rId1"/>
          <a:stretch/>
        </p:blipFill>
        <p:spPr>
          <a:xfrm>
            <a:off x="6477120" y="2438280"/>
            <a:ext cx="24382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тод треугольни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2209680"/>
            <a:ext cx="70866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обенно эффективен, когда объект дает слабый пик гистограммы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гладить гистограмм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ти ячейку гистограммы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 максимальным значение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ти ячейку гистограммы, соответствующую минимальной яркост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с ненулевым значением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йти ячейку с максимальным расстоянием (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 от линии соединяющей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о «верхушки столбика»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b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рог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 =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fip361" descr=""/>
          <p:cNvPicPr/>
          <p:nvPr/>
        </p:nvPicPr>
        <p:blipFill>
          <a:blip r:embed="rId1"/>
          <a:stretch/>
        </p:blipFill>
        <p:spPr>
          <a:xfrm>
            <a:off x="2971800" y="5105520"/>
            <a:ext cx="2514600" cy="15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даптивная бинаризац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бходима в случае неравномерной яркости фо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wdg3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3049560" cy="2309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8" name="wdg3thr1" descr=""/>
          <p:cNvPicPr/>
          <p:nvPr/>
        </p:nvPicPr>
        <p:blipFill>
          <a:blip r:embed="rId2"/>
          <a:stretch/>
        </p:blipFill>
        <p:spPr>
          <a:xfrm>
            <a:off x="5181480" y="3262320"/>
            <a:ext cx="3068640" cy="232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даптивная бинаризац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209680"/>
            <a:ext cx="7086600" cy="38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еобходима в случае неравномерной яркости фон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каждого пикселя изображения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(x, y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окрестности пикселя радиуса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ысчитывается индивидуальный для данного пикселя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рог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Если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I(x, y) &gt; T + C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зультат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1,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наче 0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арианты выбор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= m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= medi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9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= (min + max) /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даптивная бинаризац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son1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19512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5" name="son1adp1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195120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6" name="son1adp2" descr=""/>
          <p:cNvPicPr/>
          <p:nvPr/>
        </p:nvPicPr>
        <p:blipFill>
          <a:blip r:embed="rId3"/>
          <a:stretch/>
        </p:blipFill>
        <p:spPr>
          <a:xfrm>
            <a:off x="4648320" y="2362320"/>
            <a:ext cx="19508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7" name="son1adp3" descr=""/>
          <p:cNvPicPr/>
          <p:nvPr/>
        </p:nvPicPr>
        <p:blipFill>
          <a:blip r:embed="rId4"/>
          <a:stretch/>
        </p:blipFill>
        <p:spPr>
          <a:xfrm>
            <a:off x="6888240" y="2362320"/>
            <a:ext cx="1950840" cy="2590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2758320" y="511164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=7, 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83840" y="510552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=7, C=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61920" y="5105520"/>
            <a:ext cx="14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=7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=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2760" y="5105520"/>
            <a:ext cx="139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ход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ультимодальная гистограм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09680"/>
            <a:ext cx="70866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гментация изображения на области однородной яркости метод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 – метод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ластер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анных, строящий кластеры настолько различные, насколько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ю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дачи кластер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является разбиение множества объектов на классы (кластеры) на основе некоторой меры сходства объектов (в нашем случае мера сходства это близость яркостей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209680"/>
            <a:ext cx="708660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бор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=1,…,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исло кластеров, на которые нужно разбить наб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редних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центров кластеров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ести каждый из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 одному и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тер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2209680"/>
            <a:ext cx="70866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учайным образом выбрат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кажд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=1,…,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считать расстояние до каждого и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ести (приписать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кластер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расстояние до центра котор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считать сред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всем кластера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торять шаги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2, 3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ка кластеры не перестанут изменятьс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62485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инарное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209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изображения для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hresh_binary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276360" cy="2422440"/>
          </a:xfrm>
          <a:prstGeom prst="rect">
            <a:avLst/>
          </a:prstGeom>
          <a:ln w="0">
            <a:noFill/>
          </a:ln>
        </p:spPr>
      </p:pic>
      <p:pic>
        <p:nvPicPr>
          <p:cNvPr id="113" name="thresh_example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367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8480" y="46483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62485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учайная инициализация центров кластеров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62485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астеры после перв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6248520"/>
            <a:ext cx="594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счет центров кластеров после перв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6302520"/>
            <a:ext cx="487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астеры после втор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6302520"/>
            <a:ext cx="53341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абильная конфигурация после четвертой ит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е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 для сегментации изображений по ярк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822240" y="2216160"/>
            <a:ext cx="77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атриваем одномерное пространство яркостей пикселей и производим в нем кластеризацию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. Это дает автоматическое вычисление яркостных пор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low_contr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1905120" cy="187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873440" y="5943600"/>
            <a:ext cx="47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получения бинарного изображен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rozha_bin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753920" cy="1838520"/>
          </a:xfrm>
          <a:prstGeom prst="rect">
            <a:avLst/>
          </a:prstGeom>
          <a:ln w="0">
            <a:noFill/>
          </a:ln>
        </p:spPr>
      </p:pic>
      <p:pic>
        <p:nvPicPr>
          <p:cNvPr id="220" name="hist_seg" descr=""/>
          <p:cNvPicPr/>
          <p:nvPr/>
        </p:nvPicPr>
        <p:blipFill>
          <a:blip r:embed="rId3"/>
          <a:stretch/>
        </p:blipFill>
        <p:spPr>
          <a:xfrm>
            <a:off x="3124080" y="3581280"/>
            <a:ext cx="29718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гистограмм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2209680"/>
            <a:ext cx="70866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ариант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data clus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рать порог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вным середине диапазона яркостей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каждой половины гистограммы посчитать центры мас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ересчитать порог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/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вторять шаги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2, 3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рог не перестанет изменятьс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р сегмент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029200" y="428616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98480" y="63244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41880" y="6400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191120"/>
            <a:ext cx="3808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429000" y="4191120"/>
            <a:ext cx="4572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равнение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редних с порогом по средней яркост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669960" y="2368440"/>
            <a:ext cx="786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ле лекции был задан вопрос: чем отличается сегментация с помощью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редних на 2 кластера от простейшей пороговой бинаризации по средней яркости изображ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k_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676160" cy="1408320"/>
          </a:xfrm>
          <a:prstGeom prst="rect">
            <a:avLst/>
          </a:prstGeom>
          <a:ln w="0">
            <a:noFill/>
          </a:ln>
        </p:spPr>
      </p:pic>
      <p:pic>
        <p:nvPicPr>
          <p:cNvPr id="235" name="thr_1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676520" cy="14083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2743200" y="4572000"/>
            <a:ext cx="8380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4648320"/>
            <a:ext cx="11430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350000" y="5486400"/>
            <a:ext cx="92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184440" y="548640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рог по средней яр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60199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причинах предлагается разобраться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Как «улучшить» гистограмму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669960" y="2368440"/>
            <a:ext cx="786456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ольшинство методов работает наилучшим образом, если на гистограмме четкие симметричные пики пики и значительные провалы между ни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ак улучшить «плохую гистограмму»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роить гистограмму только по пикселам вблизи границ объе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лю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ики лучше сбалансированы (не зависят от соотношения площадей объекта и фона)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гистограмме меньше «лишних яркостей» относящихся ни к объекту, ни к фону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куда узнать где границ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нить операторы выделения краев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9960" y="6330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му нужно бинарное изображение?!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209680"/>
            <a:ext cx="7086600" cy="43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кие прикладные задачи анализа изображений можно свести к анализу бинарного изображе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ы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дицинские изображен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фектоскопи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движущихся объектов в видеопотоке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штрих код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наружение лица человека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ранение дефект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инопленки (царапин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Как анализировать бинарные изображения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2209680"/>
            <a:ext cx="708660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ссмотрим три метод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связных компонент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с помощью интегральных проекци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ализ с помощью преобразования Хаф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связных областей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2209680"/>
            <a:ext cx="67816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связной обл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жество пикселей, у каждого пикселя которого есть хотя бы один сосед, принадлежащий данному множ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еди пикс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4connect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251" name="8connect" descr=""/>
          <p:cNvPicPr/>
          <p:nvPr/>
        </p:nvPicPr>
        <p:blipFill>
          <a:blip r:embed="rId2"/>
          <a:stretch/>
        </p:blipFill>
        <p:spPr>
          <a:xfrm>
            <a:off x="5943600" y="4648320"/>
            <a:ext cx="1041480" cy="761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643040" y="5562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-свя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57840" y="5562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-свя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3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828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38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048120" y="24382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219320" y="27432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2388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7432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144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30481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30481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8288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1337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382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81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6576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3526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523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8288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1440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523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382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048120" y="39625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576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382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8120" y="42670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45720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288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133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38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352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657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526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133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4382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743200" y="51814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3526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657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57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562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867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722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4771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781680" y="24382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24382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915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960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528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62720" y="27432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4771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7816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915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6960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57800" y="30481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562720" y="30481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1722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4771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816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915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6960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257800" y="3352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562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867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72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477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781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086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960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52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257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562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7220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4771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08660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391520" y="36576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960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5288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2578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722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8168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08660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3915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960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627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8672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72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816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86600" y="4267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915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6960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781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086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3915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96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562720" y="48769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72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7816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866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3915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6960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562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722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4771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81680" y="5181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3915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280160" y="57150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нар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235480" y="571500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чен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урсивная разметка связных областей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20574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Labeling(BIT* img[], int* labels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labels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должна быть обну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y = 0; y &lt; H; y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x = 0; x &lt; W; x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, L++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урсивная разметка связных областей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28600" y="205740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ill(BIT* img[], int* labels[], int x, int y, int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(labels[x][y] = = 0) &amp;&amp; (img[x][y] = = 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s[x][y] = 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0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 – 1, y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lt; W - 1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 + 1, y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y &gt; 0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 - 1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y &lt; H - 1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 + 1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 путем последовательного сканир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20640" y="1981080"/>
            <a:ext cx="76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ледовательно, сканируем бинарное изображение сверху вниз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лева напра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img1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1384200" cy="138420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509560" y="2590920"/>
            <a:ext cx="4980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= 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do n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(not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) and (not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ncrement label numbering and label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=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eithe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o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record equivalence of lab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21000" y="5943600"/>
            <a:ext cx="78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тобработка - переразметка с учетом эквивалентностей обл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 путем последовательного сканир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13800" y="22096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лучай конфли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1000" y="5943600"/>
            <a:ext cx="78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тобработка - переразметка с учетом эквивалентностей обл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img2_white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114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формы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47360" y="2139840"/>
            <a:ext cx="7390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каждой области можно подсчитать некий набор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ейших числовых характерист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ак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ентацию главной оси инер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длиненность (эксцентрисит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основе этих характеристик можно классифициров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аемые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формы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5880" y="2139840"/>
            <a:ext cx="790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ощад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количество пикселей в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иметр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пикселей принадлежащ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нице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актность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квадрата периметра к площ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1143000" y="4419720"/>
                <a:ext cx="10666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3124080" y="4419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иболее компактная фигура – кр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3200400" y="4761000"/>
                <a:ext cx="838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счет периметра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6480" y="2209680"/>
            <a:ext cx="9812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иксель лежит на границе области, если он сам принадлежи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и хотя бы один из его соседей области не принадлежи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нутренняя гран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иксель лежит на границе области, если он са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инадлежи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и хотя бы один из его соседей области принадлеж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нешняя гран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метр зависит также от того 4-х или 8-ми связность использ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определения сосе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Медицинские изображ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medical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7886520" cy="2503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85800" y="49528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ходное 16 битное изоб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04600" y="4952880"/>
            <a:ext cx="192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инаризация 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мощью пор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440" y="4952880"/>
            <a:ext cx="2062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рфологическа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фильтр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периметров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87" name="perims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648080" y="48006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23720" y="563868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нутренняя г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490000" y="563868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нешняя г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атистические моменты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85800" y="2133720"/>
            <a:ext cx="7315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ретный центральный момент 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определяе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1724040" y="2971800"/>
                <a:ext cx="432576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;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762120" y="5029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n – общее количество пикселей в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вариантные характеристики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2120" y="2133720"/>
            <a:ext cx="73152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распознавания нас интересуют характеристики инвариантные по отношению к масштабированию, переносу, повороту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длиненность, нецентрированность (эксцентрисит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ак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9" name=""/>
              <p:cNvSpPr txBox="1"/>
              <p:nvPr/>
            </p:nvSpPr>
            <p:spPr>
              <a:xfrm>
                <a:off x="990720" y="5181480"/>
                <a:ext cx="914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914400" y="3886200"/>
                <a:ext cx="5121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ongatio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риентация главной оси инер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62120" y="2133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является инвариантной к повороту, но в ряде случаев предоставляет полезную информацию об ориентации объ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290680" y="3429000"/>
                <a:ext cx="28098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изображения с подсчитанными характеристиками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06" name="spoon_ex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3248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ругие инвариантные характеристики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img13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7724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тегральные проек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120" y="2133720"/>
            <a:ext cx="73152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гральные проекции – простой, но мощный инструмент анализа изображений. Определяю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"/>
              <p:cNvSpPr txBox="1"/>
              <p:nvPr/>
            </p:nvSpPr>
            <p:spPr>
              <a:xfrm>
                <a:off x="2116080" y="3352680"/>
                <a:ext cx="39974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e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y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roj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r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x</m:t>
                            </m:r>
                          </m:sub>
                          <m:sup/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тегральные проек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2133720"/>
            <a:ext cx="731520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интегральных проекций для обнаружения объект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люс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нее чувствительны к «разрывам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чень быстро вычисляю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integral1" descr=""/>
          <p:cNvPicPr/>
          <p:nvPr/>
        </p:nvPicPr>
        <p:blipFill>
          <a:blip r:embed="rId1"/>
          <a:stretch/>
        </p:blipFill>
        <p:spPr>
          <a:xfrm>
            <a:off x="2057400" y="2971800"/>
            <a:ext cx="41148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тегральные проек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62120" y="2133720"/>
            <a:ext cx="731520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арактеристики для последующий анализа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граничивающий прямоугольник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чески все характеристики, как в связных областя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лоща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длинне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лавная ось ине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тношение площади к площади ограничивающего прямоугольника (плот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еобразование Хафа (Hough)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образование Хафа позволяет находить на бинарном изображении плоские кривые, заданные параметрически, например: прямые, окружности, эллипсы, и т.д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 Считаем 0 – точками фона, 1 – «точками интереса»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а преобразования Хафа состоит в выделении кривых, образованных точками интере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из деталей и механизмов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410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наружение отколотых зубьев шестерн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 помощью математической морф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shester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818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еобразование Хафа (Hough)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5" name="telephone-orig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051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6" name="telephone-contour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19051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7" name="line2-1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187308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8" name="2-1-hot" descr=""/>
          <p:cNvPicPr/>
          <p:nvPr/>
        </p:nvPicPr>
        <p:blipFill>
          <a:blip r:embed="rId4"/>
          <a:stretch/>
        </p:blipFill>
        <p:spPr>
          <a:xfrm>
            <a:off x="3581280" y="4952880"/>
            <a:ext cx="198144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9" name=""/>
          <p:cNvSpPr/>
          <p:nvPr/>
        </p:nvSpPr>
        <p:spPr>
          <a:xfrm>
            <a:off x="983520" y="441972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524040" y="44197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ыделенные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45400" y="4419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йденные пря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036680" y="6324480"/>
            <a:ext cx="99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Что это ?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сновная идея мет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семейство кривых на плоскости, заданное параметрическим уравнением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F(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…, 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x, y)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де F - некоторая функция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 параметры семейства кривых, x, y - координаты на плоскости. Параметры семейства кривых образуют фазовое пространство, каждая точка которого (конкретные значения параметров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 соответствует некоторой крив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5116680"/>
            <a:ext cx="73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я преобразования Хафа состоит в поиске крив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очек фазового пространств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торые проходят через достаточное количество точек интер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ашинное представл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09480" y="2209680"/>
            <a:ext cx="75438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иду дискретности машинного представления и входных данных (изображения), требуется перевести непрерывное фазовое пространство в дискр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одим сетку на фазов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ой ячейке сетки ставим в соответствие 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ение счетчика каждой ячейки устанавливаем равным количеству точек интереса, через которые проходит хотя бы одна кривая, параметры которой принадлежат данной ячей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ализ счетчиков ячеек позволяет найти на изображении кривые, на которых лежит наибольшее количество точек интер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прямых на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ую на плоскости можно зада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cos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y sin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,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 - длина перпендикуляра опущенного на прямую из начала координат,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угол между перпендикуляром к прямой и осью OX,</a:t>
            </a:r>
            <a:br>
              <a:rPr sz="1400"/>
            </a:b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меняется в пределах от 0 до 2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, R ограничено размерами входного изобра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012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прямых на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1060920" y="2286000"/>
            <a:ext cx="686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 функция, задающая семейство прямы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т вид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F (R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x, y) = x cos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y si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R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66680" y="3908520"/>
            <a:ext cx="754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ез каждую точку (x, y) изображения можно провести несколько прямых с разными R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то есть каждой точке (x, y) изображения соответствует набор точек в  фазовом пространстве (R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 В свою очередь каждой точке пространства (R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соответствует набор точек (x, y) на изображении, образующий пряму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 и фазовое пространств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46" name="lines_through_point_gs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547" name="sinus_to_point_gs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762120" y="51814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одну точку можно провести несколько прямых. Учитывая дискретность и введенную сетку, их будет конеч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52880" y="5181480"/>
            <a:ext cx="283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ждой прямой пространства (x, y) соответствует точка фазового пространства (R, q). Прямые с левого рисунка образуют синусо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 и фазовое пространств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1905120" y="518148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ображение с пятью точками интер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715000" cy="307188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4648320" y="51814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ивые в фазовом пространстве, соответствующие множеству прямых проходящих через каждую из т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600200" y="60199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очки пересечения кривых в фазовом пространстве соответствуют параметрам прямых, проходящих более чем через одну точку интер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искретизация фазового пространст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838080" y="2214720"/>
            <a:ext cx="73152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епрерывное фазовое пространство в дискретное. Введем сетку на пространстве (R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одной ячейке которой соответствует набор прямых с близкими значениями R 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чик ставится в соответствие каждой ячейке с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]x[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вный числу точек интереса на изображ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довлетворяющих уравн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x cos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y si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R, гд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R ≤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выделения прямы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990720" y="3657600"/>
            <a:ext cx="641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нулить счетчики всех яче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каждой точки интереса на изобра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каждой прямой, проходящей через данную точку увеличить соответствующий счетч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рать ячейки со значением счетчика, превышающим заданный пор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38080" y="236232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бщем случае алгоритм поиска прямой 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и при помощи преобразования Хафа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р ячеек стоит выбирать аккуратн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>
            <a:off x="533520" y="2286000"/>
            <a:ext cx="365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ячейки будут очень большими, то за «прямую» может приниматься разрозненный набор т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же наоборот, ячейки будут слишком малы, есть вероятность, что ни одной прямой не найдется – все счетчики будут иметь небольш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xy_and_RTheta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лиз движущихся объектов в видео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51814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наруженение изменяющихся областей виде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ализ их формы и динамики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video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8308800" cy="206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66" name="sqr1can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67" name="sqr1hou2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68" name="sqr1hou3" descr=""/>
          <p:cNvPicPr/>
          <p:nvPr/>
        </p:nvPicPr>
        <p:blipFill>
          <a:blip r:embed="rId3"/>
          <a:stretch/>
        </p:blipFill>
        <p:spPr>
          <a:xfrm>
            <a:off x="5943600" y="227664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 (с шум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0" name="sqr1can2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1" name="sqr1hou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2" name="sqr1hou5" descr=""/>
          <p:cNvPicPr/>
          <p:nvPr/>
        </p:nvPicPr>
        <p:blipFill>
          <a:blip r:embed="rId3"/>
          <a:stretch/>
        </p:blipFill>
        <p:spPr>
          <a:xfrm>
            <a:off x="5943600" y="2286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 (фрагменты прямых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74" name="sqr1hou6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5" name="sqr1hou7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576" name="sqr1can3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еобразование Хафа (Hough)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9" name="telephone-orig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19051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0" name="telephone-contour" descr=""/>
          <p:cNvPicPr/>
          <p:nvPr/>
        </p:nvPicPr>
        <p:blipFill>
          <a:blip r:embed="rId2"/>
          <a:stretch/>
        </p:blipFill>
        <p:spPr>
          <a:xfrm>
            <a:off x="3581280" y="2362320"/>
            <a:ext cx="1905120" cy="1904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1" name="line2-1" descr=""/>
          <p:cNvPicPr/>
          <p:nvPr/>
        </p:nvPicPr>
        <p:blipFill>
          <a:blip r:embed="rId3"/>
          <a:stretch/>
        </p:blipFill>
        <p:spPr>
          <a:xfrm>
            <a:off x="6019920" y="2362320"/>
            <a:ext cx="1873080" cy="187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2" name="2-1-hot" descr=""/>
          <p:cNvPicPr/>
          <p:nvPr/>
        </p:nvPicPr>
        <p:blipFill>
          <a:blip r:embed="rId4"/>
          <a:stretch/>
        </p:blipFill>
        <p:spPr>
          <a:xfrm>
            <a:off x="3581280" y="4952880"/>
            <a:ext cx="1981440" cy="1263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83" name=""/>
          <p:cNvSpPr/>
          <p:nvPr/>
        </p:nvSpPr>
        <p:spPr>
          <a:xfrm>
            <a:off x="983520" y="4419720"/>
            <a:ext cx="22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сход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524040" y="4419720"/>
            <a:ext cx="176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ыделенные кр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945400" y="4419720"/>
            <a:ext cx="193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йденные прям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508920" y="6324480"/>
            <a:ext cx="218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азовое простр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бнаружение лица челове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213372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деление областей цвета кожи и их анализ для обнаружения лиц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0" descr=""/>
          <p:cNvPicPr/>
          <p:nvPr/>
        </p:nvPicPr>
        <p:blipFill>
          <a:blip r:embed="rId1"/>
          <a:stretch/>
        </p:blipFill>
        <p:spPr>
          <a:xfrm>
            <a:off x="1600200" y="3052800"/>
            <a:ext cx="4795920" cy="35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6" name="1" descr=""/>
          <p:cNvPicPr/>
          <p:nvPr/>
        </p:nvPicPr>
        <p:blipFill>
          <a:blip r:embed="rId2"/>
          <a:stretch/>
        </p:blipFill>
        <p:spPr>
          <a:xfrm>
            <a:off x="1600200" y="3052800"/>
            <a:ext cx="4827600" cy="3538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7" name="2" descr=""/>
          <p:cNvPicPr/>
          <p:nvPr/>
        </p:nvPicPr>
        <p:blipFill>
          <a:blip r:embed="rId3"/>
          <a:stretch/>
        </p:blipFill>
        <p:spPr>
          <a:xfrm>
            <a:off x="1600200" y="3049560"/>
            <a:ext cx="4802040" cy="3529080"/>
          </a:xfrm>
          <a:prstGeom prst="rect">
            <a:avLst/>
          </a:prstGeom>
          <a:ln w="0">
            <a:noFill/>
          </a:ln>
        </p:spPr>
      </p:pic>
      <p:pic>
        <p:nvPicPr>
          <p:cNvPr id="138" name="3" descr=""/>
          <p:cNvPicPr/>
          <p:nvPr/>
        </p:nvPicPr>
        <p:blipFill>
          <a:blip r:embed="rId4"/>
          <a:stretch/>
        </p:blipFill>
        <p:spPr>
          <a:xfrm>
            <a:off x="1600200" y="3052800"/>
            <a:ext cx="4808520" cy="3543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" name="4" descr=""/>
          <p:cNvPicPr/>
          <p:nvPr/>
        </p:nvPicPr>
        <p:blipFill>
          <a:blip r:embed="rId5"/>
          <a:stretch/>
        </p:blipFill>
        <p:spPr>
          <a:xfrm>
            <a:off x="1600200" y="3048120"/>
            <a:ext cx="4802040" cy="352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0" name="0_кы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600200" y="3052800"/>
            <a:ext cx="4800600" cy="354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362480" y="3819600"/>
                <a:ext cx="92160" cy="1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 получить бинарное изображение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2209680"/>
            <a:ext cx="708660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ая цель – выделение на изображении интересных нам объек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оговая фильтрация (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shold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гментация на области однородной яр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деление кр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разности изображени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например, соседних кадров виде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роговая фильтрац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20968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ейший случай – выделение областей, яркость которых выше/ниже некоторого порога заданного «извн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thresh_binary" descr=""/>
          <p:cNvPicPr/>
          <p:nvPr/>
        </p:nvPicPr>
        <p:blipFill>
          <a:blip r:embed="rId1"/>
          <a:stretch/>
        </p:blipFill>
        <p:spPr>
          <a:xfrm>
            <a:off x="5334120" y="3581280"/>
            <a:ext cx="3276360" cy="2422800"/>
          </a:xfrm>
          <a:prstGeom prst="rect">
            <a:avLst/>
          </a:prstGeom>
          <a:ln w="0">
            <a:noFill/>
          </a:ln>
        </p:spPr>
      </p:pic>
      <p:pic>
        <p:nvPicPr>
          <p:cNvPr id="149" name="thresh_example" descr=""/>
          <p:cNvPicPr/>
          <p:nvPr/>
        </p:nvPicPr>
        <p:blipFill>
          <a:blip r:embed="rId2"/>
          <a:stretch/>
        </p:blipFill>
        <p:spPr>
          <a:xfrm>
            <a:off x="609480" y="3581280"/>
            <a:ext cx="3200400" cy="2367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038480" y="48006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06:35Z</dcterms:created>
  <dc:creator>vvp</dc:creator>
  <dc:description/>
  <dc:language>en-US</dc:language>
  <cp:lastModifiedBy>dmoroz</cp:lastModifiedBy>
  <dcterms:modified xsi:type="dcterms:W3CDTF">2005-03-23T07:37:58Z</dcterms:modified>
  <cp:revision>381</cp:revision>
  <dc:subject/>
  <dc:title>Обработка и анализ изображений</dc:title>
</cp:coreProperties>
</file>