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3.png" ContentType="image/png"/>
  <Override PartName="/ppt/media/image51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5.jpeg" ContentType="image/jpeg"/>
  <Override PartName="/ppt/media/image44.jpeg" ContentType="image/jpeg"/>
  <Override PartName="/ppt/media/image35.jpeg" ContentType="image/jpeg"/>
  <Override PartName="/ppt/media/image34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10.jpeg" ContentType="image/jpeg"/>
  <Override PartName="/ppt/media/image106.jpeg" ContentType="image/jpeg"/>
  <Override PartName="/ppt/media/image43.jpeg" ContentType="image/jpeg"/>
  <Override PartName="/ppt/media/image28.png" ContentType="image/png"/>
  <Override PartName="/ppt/media/image5.png" ContentType="image/png"/>
  <Override PartName="/ppt/media/image39.jpeg" ContentType="image/jpeg"/>
  <Override PartName="/ppt/media/image82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18.png" ContentType="image/png"/>
  <Override PartName="/ppt/media/image6.png" ContentType="image/png"/>
  <Override PartName="/ppt/media/image42.jpeg" ContentType="image/jpeg"/>
  <Override PartName="/ppt/media/image83.png" ContentType="image/png"/>
  <Override PartName="/ppt/media/image57.png" ContentType="image/png"/>
  <Override PartName="/ppt/media/image36.jpeg" ContentType="image/jpeg"/>
  <Override PartName="/ppt/media/image107.png" ContentType="image/png"/>
  <Override PartName="/ppt/media/image13.jpeg" ContentType="image/jpeg"/>
  <Override PartName="/ppt/media/image33.jpeg" ContentType="image/jpeg"/>
  <Override PartName="/ppt/media/image27.png" ContentType="image/png"/>
  <Override PartName="/ppt/media/image92.png" ContentType="image/png"/>
  <Override PartName="/ppt/media/image3.png" ContentType="image/png"/>
  <Override PartName="/ppt/media/image17.jpeg" ContentType="image/jpeg"/>
  <Override PartName="/ppt/media/image60.png" ContentType="image/png"/>
  <Override PartName="/ppt/media/image104.png" ContentType="image/png"/>
  <Override PartName="/ppt/media/image61.png" ContentType="image/png"/>
  <Override PartName="/ppt/media/image98.png" ContentType="image/png"/>
  <Override PartName="/ppt/media/image105.png" ContentType="image/png"/>
  <Override PartName="/ppt/media/image94.jpeg" ContentType="image/jpeg"/>
  <Override PartName="/ppt/media/image99.png" ContentType="image/png"/>
  <Override PartName="/ppt/media/image69.png" ContentType="image/png"/>
  <Override PartName="/ppt/media/image2.png" ContentType="image/png"/>
  <Override PartName="/ppt/media/image70.png" ContentType="image/png"/>
  <Override PartName="/ppt/media/image72.wmf" ContentType="image/x-wmf"/>
  <Override PartName="/ppt/media/image101.png" ContentType="image/png"/>
  <Override PartName="/ppt/media/image74.png" ContentType="image/png"/>
  <Override PartName="/ppt/media/image16.jpeg" ContentType="image/jpeg"/>
  <Override PartName="/ppt/media/image76.png" ContentType="image/png"/>
  <Override PartName="/ppt/media/image103.png" ContentType="image/png"/>
  <Override PartName="/ppt/media/image62.png" ContentType="image/png"/>
  <Override PartName="/ppt/media/image96.jpeg" ContentType="image/jpeg"/>
  <Override PartName="/ppt/media/image77.png" ContentType="image/png"/>
  <Override PartName="/ppt/media/image71.jpeg" ContentType="image/jpeg"/>
  <Override PartName="/ppt/media/image102.png" ContentType="image/png"/>
  <Override PartName="/ppt/media/image100.png" ContentType="image/png"/>
  <Override PartName="/ppt/media/image63.png" ContentType="image/png"/>
  <Override PartName="/ppt/media/image86.png" ContentType="image/png"/>
  <Override PartName="/ppt/media/image64.png" ContentType="image/png"/>
  <Override PartName="/ppt/media/image15.jpeg" ContentType="image/jpeg"/>
  <Override PartName="/ppt/media/image11.png" ContentType="image/png"/>
  <Override PartName="/ppt/media/image108.png" ContentType="image/png"/>
  <Override PartName="/ppt/media/image87.png" ContentType="image/png"/>
  <Override PartName="/ppt/media/image75.jpeg" ContentType="image/jpeg"/>
  <Override PartName="/ppt/media/image81.jpeg" ContentType="image/jpeg"/>
  <Override PartName="/ppt/media/image67.png" ContentType="image/png"/>
  <Override PartName="/ppt/media/image89.jpeg" ContentType="image/jpeg"/>
  <Override PartName="/ppt/media/image14.jpeg" ContentType="image/jpeg"/>
  <Override PartName="/ppt/media/image54.png" ContentType="image/png"/>
  <Override PartName="/ppt/media/image85.png" ContentType="image/png"/>
  <Override PartName="/ppt/media/image23.jpeg" ContentType="image/jpeg"/>
  <Override PartName="/ppt/media/image12.png" ContentType="image/png"/>
  <Override PartName="/ppt/media/image10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73.jpeg" ContentType="image/jpeg"/>
  <Override PartName="/ppt/media/image24.png" ContentType="image/png"/>
  <Override PartName="/ppt/media/image65.png" ContentType="image/png"/>
  <Override PartName="/ppt/media/image80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84.png" ContentType="image/png"/>
  <Override PartName="/ppt/media/image79.jpeg" ContentType="image/jpeg"/>
  <Override PartName="/ppt/media/image41.jpeg" ContentType="image/jpeg"/>
  <Override PartName="/ppt/media/image66.png" ContentType="image/png"/>
  <Override PartName="/ppt/media/image1.png" ContentType="image/png"/>
  <Override PartName="/ppt/media/image31.png" ContentType="image/png"/>
  <Override PartName="/ppt/media/image9.jpeg" ContentType="image/jpeg"/>
  <Override PartName="/ppt/media/image90.png" ContentType="image/png"/>
  <Override PartName="/ppt/media/image25.png" ContentType="image/png"/>
  <Override PartName="/ppt/media/image32.png" ContentType="image/png"/>
  <Override PartName="/ppt/media/image9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8BC-C7B9-4DBE-AEC9-80B14FE5BFA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чем отличается от линей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и четко сформулировать, что гово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еще – фурье, тра-ля-ля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ум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еще – фурье, тра-ля-ля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к размытия – размывает границы – медианный ему альтернат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толком про нелинейность, убрать д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517-0AC6-4B51-AC24-CBB896A2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267-35B6-4AD5-8A90-B0E9AC56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0C3-EAF9-41DC-9C56-3DA78ABF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1C9-E840-430C-9C24-CC729B8D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CAFA-9DE5-461B-8345-2090BC8E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F57C-0EE3-480E-BC9D-36818B31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0D6-56F5-4348-B32A-CF19D17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6E82-BE49-486B-97B1-ED357174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297-D2E7-4894-B120-ADE6A63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36B8-A84F-43A7-B08D-629F4EE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AD54-2526-4639-869B-6946704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8A-4F74-474C-B3A9-02EDA96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BF38-D48A-4A6D-8034-BF9DC74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5D2A-4E32-4490-BD9E-C625781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0A31-F5BD-48F1-9A89-3CB34AB3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0B97-78BF-4717-A9D4-DED8F5E6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DB85-71CA-4711-9639-0D866C1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5A4-1354-49D7-82DF-E431AA42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461-A3C9-4F53-9593-197DE66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AEF-01F9-4562-938E-029D8694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057-C2AA-490C-8CA1-7579973D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048-68BB-4557-A0E9-B574196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7A6-8E16-4D44-A586-56AC0C37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59A-6057-4C38-BC8B-03E665C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4B0A-8BBD-44BD-AA18-4F8085128B2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850D-B499-4867-BC22-FF385BC3C5D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slide" Target="slide15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работка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0010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ая графика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о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шинное) зрение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chine)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ботка изображений 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2320" y="556272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жневец 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vp@graphicon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7160" y="2209680"/>
            <a:ext cx="72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ое растяжение – «как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Contrast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sho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brat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278136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brat2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278136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038480" y="4495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659240" y="2133720"/>
            <a:ext cx="54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инейная коррекция помогает не 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495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non-linear_src" descr=""/>
          <p:cNvPicPr/>
          <p:nvPr/>
        </p:nvPicPr>
        <p:blipFill>
          <a:blip r:embed="rId1"/>
          <a:stretch/>
        </p:blipFill>
        <p:spPr>
          <a:xfrm>
            <a:off x="762120" y="3328920"/>
            <a:ext cx="3174840" cy="23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linear" descr=""/>
          <p:cNvPicPr/>
          <p:nvPr/>
        </p:nvPicPr>
        <p:blipFill>
          <a:blip r:embed="rId2"/>
          <a:stretch/>
        </p:blipFill>
        <p:spPr>
          <a:xfrm>
            <a:off x="4800600" y="3343320"/>
            <a:ext cx="3162240" cy="23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97960" y="2209680"/>
            <a:ext cx="83674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инейн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недостаточной контра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асто применяемые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амма-кор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начальная цель – коррекция для правиль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ображения на монит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гариф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– сжатие динамического диапазона при визуализац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71600" y="4114800"/>
                <a:ext cx="1219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71600" y="5715000"/>
                <a:ext cx="21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Гамма-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42720" y="2209680"/>
            <a:ext cx="87699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амма-кор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начальная цель – коррекция для правиль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ображения на мониторе. Так называют преобразование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43000" y="3200400"/>
                <a:ext cx="1219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724280" y="533412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553080" y="5334120"/>
            <a:ext cx="1143000" cy="1136520"/>
          </a:xfrm>
          <a:prstGeom prst="rect">
            <a:avLst/>
          </a:prstGeom>
          <a:ln w="0">
            <a:noFill/>
          </a:ln>
        </p:spPr>
      </p:pic>
      <p:pic>
        <p:nvPicPr>
          <p:cNvPr id="162" name="p0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183996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1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1387440" cy="18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2" descr=""/>
          <p:cNvPicPr/>
          <p:nvPr/>
        </p:nvPicPr>
        <p:blipFill>
          <a:blip r:embed="rId5"/>
          <a:stretch/>
        </p:blipFill>
        <p:spPr>
          <a:xfrm>
            <a:off x="6477120" y="3352680"/>
            <a:ext cx="137160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5069880" y="6512040"/>
            <a:ext cx="24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ки функци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low_contr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169" name="high_contr" descr=""/>
          <p:cNvPicPr/>
          <p:nvPr/>
        </p:nvPicPr>
        <p:blipFill>
          <a:blip r:embed="rId2"/>
          <a:stretch/>
        </p:blipFill>
        <p:spPr>
          <a:xfrm>
            <a:off x="609480" y="4645080"/>
            <a:ext cx="1905120" cy="187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41911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low_contr1" descr=""/>
          <p:cNvPicPr/>
          <p:nvPr/>
        </p:nvPicPr>
        <p:blipFill>
          <a:blip r:embed="rId3"/>
          <a:stretch/>
        </p:blipFill>
        <p:spPr>
          <a:xfrm>
            <a:off x="2743200" y="2286000"/>
            <a:ext cx="3124080" cy="1836720"/>
          </a:xfrm>
          <a:prstGeom prst="rect">
            <a:avLst/>
          </a:prstGeom>
          <a:ln w="0">
            <a:noFill/>
          </a:ln>
        </p:spPr>
      </p:pic>
      <p:pic>
        <p:nvPicPr>
          <p:cNvPr id="173" name="high_contr1" descr=""/>
          <p:cNvPicPr/>
          <p:nvPr/>
        </p:nvPicPr>
        <p:blipFill>
          <a:blip r:embed="rId4"/>
          <a:stretch/>
        </p:blipFill>
        <p:spPr>
          <a:xfrm>
            <a:off x="2743200" y="4648320"/>
            <a:ext cx="3200400" cy="187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07920" y="5294160"/>
            <a:ext cx="232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high_corr" descr=""/>
          <p:cNvPicPr/>
          <p:nvPr/>
        </p:nvPicPr>
        <p:blipFill>
          <a:blip r:embed="rId5"/>
          <a:stretch/>
        </p:blipFill>
        <p:spPr>
          <a:xfrm>
            <a:off x="6181560" y="2657520"/>
            <a:ext cx="2505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1911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60120" y="5257800"/>
            <a:ext cx="232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non-linear_src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81" name="non-linear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82" name="non-linear2" descr=""/>
          <p:cNvPicPr/>
          <p:nvPr/>
        </p:nvPicPr>
        <p:blipFill>
          <a:blip r:embed="rId3"/>
          <a:stretch/>
        </p:blipFill>
        <p:spPr>
          <a:xfrm>
            <a:off x="5181480" y="245736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авнение линейной и нелинейной коррек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high_contr" descr=""/>
          <p:cNvPicPr/>
          <p:nvPr/>
        </p:nvPicPr>
        <p:blipFill>
          <a:blip r:embed="rId1"/>
          <a:stretch/>
        </p:blipFill>
        <p:spPr>
          <a:xfrm>
            <a:off x="1371600" y="464508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186" name="lin_stretch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190512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high_contr1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3200400" cy="1873080"/>
          </a:xfrm>
          <a:prstGeom prst="rect">
            <a:avLst/>
          </a:prstGeom>
          <a:ln w="0">
            <a:noFill/>
          </a:ln>
        </p:spPr>
      </p:pic>
      <p:pic>
        <p:nvPicPr>
          <p:cNvPr id="188" name="lin_stretch_h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32004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разности освещ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85880" y="2209680"/>
            <a:ext cx="117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son1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2367000" cy="31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son1div1" descr=""/>
          <p:cNvPicPr/>
          <p:nvPr/>
        </p:nvPicPr>
        <p:blipFill>
          <a:blip r:embed="rId2"/>
          <a:stretch/>
        </p:blipFill>
        <p:spPr>
          <a:xfrm>
            <a:off x="4962600" y="2895480"/>
            <a:ext cx="235260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разности освещ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15240" y="2209680"/>
            <a:ext cx="700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де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ирование изоб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вные изменения яркости относятся к освещени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кие - к объек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38080" y="3276720"/>
                <a:ext cx="2971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flatten2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11379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flatten3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99" name="flatten1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113832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73160" y="5908680"/>
            <a:ext cx="10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68360" y="590868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е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7560" y="5791320"/>
            <a:ext cx="151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еще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4800" y="5908680"/>
                <a:ext cx="685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905120" y="5943600"/>
                <a:ext cx="60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64480" y="627228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равнивание освещ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приближенное изображение освещения путем низочастотной фильтра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ь изображение по формул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81080" y="3200400"/>
                <a:ext cx="2697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4114800" y="52578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flatten3" descr=""/>
          <p:cNvPicPr/>
          <p:nvPr/>
        </p:nvPicPr>
        <p:blipFill>
          <a:blip r:embed="rId3"/>
          <a:stretch/>
        </p:blipFill>
        <p:spPr>
          <a:xfrm>
            <a:off x="2438280" y="5257800"/>
            <a:ext cx="106704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5715000" y="5257800"/>
          <a:ext cx="106200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5257800"/>
                    <a:ext cx="1062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905120" y="4114800"/>
                <a:ext cx="2398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362320"/>
            <a:ext cx="8001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контраст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и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цветового баланса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авл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черкивание резких границ (краев) на из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равнивание освещ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85880" y="2209680"/>
            <a:ext cx="117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разности освещ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85880" y="2209680"/>
            <a:ext cx="117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son1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2367000" cy="31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son1div1" descr=""/>
          <p:cNvPicPr/>
          <p:nvPr/>
        </p:nvPicPr>
        <p:blipFill>
          <a:blip r:embed="rId2"/>
          <a:stretch/>
        </p:blipFill>
        <p:spPr>
          <a:xfrm>
            <a:off x="4962600" y="2895480"/>
            <a:ext cx="235260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362320"/>
            <a:ext cx="8001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контраст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и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цветового баланса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авл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черкивание резких границ (краев) на из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Цветовая коррекция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цветового балан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нсац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рного цветовосприятия каме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ного освещ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bad_balance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27672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corrected2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327672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«Серый мир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всех цветов на изображении естественной сцены дает серый ц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читать средние яркости по всем каналам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ировать яркости пикселей по следующим коэффициент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4191120"/>
                <a:ext cx="6842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6520" y="5715000"/>
                <a:ext cx="3759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r>
                      <m:t xml:space="preserve">B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«Серый мир» - приме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GWStanfordTower_sm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581280" cy="26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ST1GammaInvOutput_sm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352680" cy="26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40384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«Серый мир» - приме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gray1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6376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gray2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26736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«Серый мир» - приме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c0all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c1all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c2all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c0allg" descr=""/>
          <p:cNvPicPr/>
          <p:nvPr/>
        </p:nvPicPr>
        <p:blipFill>
          <a:blip r:embed="rId4"/>
          <a:stretch/>
        </p:blipFill>
        <p:spPr>
          <a:xfrm>
            <a:off x="4876920" y="22096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c1allg" descr=""/>
          <p:cNvPicPr/>
          <p:nvPr/>
        </p:nvPicPr>
        <p:blipFill>
          <a:blip r:embed="rId5"/>
          <a:stretch/>
        </p:blipFill>
        <p:spPr>
          <a:xfrm>
            <a:off x="4876920" y="37339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c2allg" descr=""/>
          <p:cNvPicPr/>
          <p:nvPr/>
        </p:nvPicPr>
        <p:blipFill>
          <a:blip r:embed="rId6"/>
          <a:stretch/>
        </p:blipFill>
        <p:spPr>
          <a:xfrm>
            <a:off x="4876920" y="51814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3962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«Идеальный отражатель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ие области изображения относятся к бликам на поверхностях, модель отражения которых такова, что цвет блика = цвету осве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ихроматическая модел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аружить максимумы по каждому из канал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ировать яркости пикселов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828800" y="4648320"/>
                <a:ext cx="153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05120" y="5562720"/>
                <a:ext cx="104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200400" y="5562720"/>
                <a:ext cx="104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0" y="5562720"/>
                <a:ext cx="1092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Цветовая коррекция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яжение контрастност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auto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я – растянуть интенсивности по каждому из каналов на весь диапаз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минимум, максимум по каждому из канал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ть интенсивности: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828800" y="4800600"/>
                <a:ext cx="27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828800" y="4038480"/>
                <a:ext cx="3048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828800" y="5638680"/>
                <a:ext cx="27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767120" y="4800600"/>
                <a:ext cx="2854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зображ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209680"/>
            <a:ext cx="754380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зображени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оптическое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– картина, получаемая в результат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прохождения через оптическую систему лучей, распространяющихся от объекта, и воспроизводящая его контуры и д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Физ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энциклопед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словар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ое представление изоб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нкция интенсив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ярк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уется дискретное пред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5800" y="4800600"/>
                <a:ext cx="3881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5800" y="5638680"/>
                <a:ext cx="296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стяжение контрастности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autolevels”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balance_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09880" cy="25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balance_2_auto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25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стяжение контрастности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autolevels”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c0all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c1all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0" name="c2all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3962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c0all.jpeg" descr=""/>
          <p:cNvPicPr/>
          <p:nvPr/>
        </p:nvPicPr>
        <p:blipFill>
          <a:blip r:embed="rId4"/>
          <a:stretch/>
        </p:blipFill>
        <p:spPr>
          <a:xfrm>
            <a:off x="4800600" y="22096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c1all.jpeg" descr=""/>
          <p:cNvPicPr/>
          <p:nvPr/>
        </p:nvPicPr>
        <p:blipFill>
          <a:blip r:embed="rId5"/>
          <a:stretch/>
        </p:blipFill>
        <p:spPr>
          <a:xfrm>
            <a:off x="4800600" y="37339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6" name="c2all.jpeg" descr=""/>
          <p:cNvPicPr/>
          <p:nvPr/>
        </p:nvPicPr>
        <p:blipFill>
          <a:blip r:embed="rId6"/>
          <a:stretch/>
        </p:blipFill>
        <p:spPr>
          <a:xfrm>
            <a:off x="4800600" y="51814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ррекция с опорным цвето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ель указывает цвет вручн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иорные знания – «облака – белы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ая фотография этой же сце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ть по каждому из каналов цвета по формул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62280" y="5410080"/>
                <a:ext cx="981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78080" y="5410080"/>
                <a:ext cx="102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648320" y="5410080"/>
                <a:ext cx="981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ррекция с опорным цвето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balance_2" descr=""/>
          <p:cNvPicPr/>
          <p:nvPr/>
        </p:nvPicPr>
        <p:blipFill>
          <a:blip r:embed="rId1"/>
          <a:stretch/>
        </p:blipFill>
        <p:spPr>
          <a:xfrm>
            <a:off x="1036800" y="2760840"/>
            <a:ext cx="2895480" cy="19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good_balance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2514600" cy="167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balance_opor" descr=""/>
          <p:cNvPicPr/>
          <p:nvPr/>
        </p:nvPicPr>
        <p:blipFill>
          <a:blip r:embed="rId3"/>
          <a:stretch/>
        </p:blipFill>
        <p:spPr>
          <a:xfrm>
            <a:off x="4876920" y="2743200"/>
            <a:ext cx="29718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87" name=""/>
          <p:cNvCxnSpPr>
            <a:stCxn id="284" idx="3"/>
            <a:endCxn id="286" idx="1"/>
          </p:cNvCxnSpPr>
          <p:nvPr/>
        </p:nvCxnSpPr>
        <p:spPr>
          <a:xfrm>
            <a:off x="3932280" y="3726000"/>
            <a:ext cx="945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2362320"/>
            <a:ext cx="8001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контраст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и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цветового баланса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авл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черкивание резких границ (краев) на из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Борьба с шумом изобра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и устранение шу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возникновения шум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шенство измерительных приб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е и передача изображений с потерей данны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нформация содержащаяся в изображен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v_1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590920" cy="1387440"/>
          </a:xfrm>
          <a:prstGeom prst="rect">
            <a:avLst/>
          </a:prstGeom>
          <a:ln w="0">
            <a:noFill/>
          </a:ln>
        </p:spPr>
      </p:pic>
      <p:pic>
        <p:nvPicPr>
          <p:cNvPr id="294" name="v_2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971800" cy="1714680"/>
          </a:xfrm>
          <a:prstGeom prst="rect">
            <a:avLst/>
          </a:prstGeom>
          <a:ln w="0">
            <a:noFill/>
          </a:ln>
        </p:spPr>
      </p:pic>
      <p:pic>
        <p:nvPicPr>
          <p:cNvPr id="295" name="v_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296" name="vasya" descr=""/>
          <p:cNvPicPr/>
          <p:nvPr/>
        </p:nvPicPr>
        <p:blipFill>
          <a:blip r:embed="rId4"/>
          <a:stretch/>
        </p:blipFill>
        <p:spPr>
          <a:xfrm>
            <a:off x="6629400" y="2514600"/>
            <a:ext cx="1486080" cy="822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2280" y="617220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ез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33720" y="6230880"/>
            <a:ext cx="22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у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те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7800" y="205740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85640" y="396252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3962520"/>
            <a:ext cx="9144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6564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ранение шума в бинарных изображе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895480"/>
            <a:ext cx="68580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ироко известный способ - устранение шума с помощью операций математической морф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жен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o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ширен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рыт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крыт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p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математической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+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 = {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t = a + b,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,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3886200"/>
            <a:ext cx="1828800" cy="1295280"/>
          </a:xfrm>
          <a:prstGeom prst="roundRect">
            <a:avLst>
              <a:gd name="adj" fmla="val 232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3886200"/>
            <a:ext cx="60948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4572000"/>
            <a:ext cx="609480" cy="609480"/>
          </a:xfrm>
          <a:prstGeom prst="ellipse">
            <a:avLst/>
          </a:prstGeom>
          <a:solidFill>
            <a:srgbClr val="ffcf01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4572000"/>
            <a:ext cx="60984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64040" y="4724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51055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82880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318280" y="3472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476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191120"/>
            <a:ext cx="1262160" cy="70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+)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3" idx="7"/>
            <a:endCxn id="311" idx="2"/>
          </p:cNvCxnSpPr>
          <p:nvPr/>
        </p:nvCxnSpPr>
        <p:spPr>
          <a:xfrm flipH="1" flipV="1" rot="5400000">
            <a:off x="3225600" y="3009600"/>
            <a:ext cx="1003680" cy="336600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313" idx="5"/>
            <a:endCxn id="310" idx="2"/>
          </p:cNvCxnSpPr>
          <p:nvPr/>
        </p:nvCxnSpPr>
        <p:spPr>
          <a:xfrm flipH="1" flipV="1" rot="5400000">
            <a:off x="3352680" y="3568320"/>
            <a:ext cx="749880" cy="3366000"/>
          </a:xfrm>
          <a:prstGeom prst="bentConnector4">
            <a:avLst>
              <a:gd name="adj1" fmla="val -42363"/>
              <a:gd name="adj2" fmla="val 65654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математической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22860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 = (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23040" y="4181400"/>
            <a:ext cx="762120" cy="695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37400" y="3693960"/>
            <a:ext cx="144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81640" y="51055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-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81920" y="4946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18080" y="5403960"/>
            <a:ext cx="457200" cy="463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60880" y="56386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946680" y="3698640"/>
            <a:ext cx="1440" cy="26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031760" y="3676320"/>
            <a:ext cx="792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1360" y="5638680"/>
            <a:ext cx="259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886200"/>
            <a:ext cx="1262160" cy="1190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94440" y="3946680"/>
            <a:ext cx="1219320" cy="1158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94440" y="39560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94440" y="46418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56560" y="46418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56560" y="39560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5638680"/>
            <a:ext cx="259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работка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ейство методов и задач, где входной и выходной информацией являются изображения. Примеры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ран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лучшение качества изображе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иления полезной и подавления нежелательной (в контексте конкретной задачи) информ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ойства морфологических операц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285640"/>
            <a:ext cx="7199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тативный зак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 &lt; &gt; 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оциативный зак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=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) = (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искретные операции морф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96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733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434340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46483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49528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146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051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39625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4267080"/>
            <a:ext cx="304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29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4572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294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8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153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58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244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294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343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53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3429000"/>
            <a:ext cx="30492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88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4380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487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53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58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7339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2448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37339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4380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48720" y="3733920"/>
            <a:ext cx="30456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1532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4582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40384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24480" y="4038480"/>
            <a:ext cx="30492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94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40384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3888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153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4582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99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3244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434340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43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48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53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4582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46483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43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153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4582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199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49528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48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53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582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52578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3888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153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458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199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43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48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8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37000" y="2243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23320" y="2209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56920" y="2209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(+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су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05740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id Eros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T min = MAX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f((mask[i][j]) &amp;&amp; (src[x + i][y + j] &lt; min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 = src[x + i][y + 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st[x][y] = m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расшир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05740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id Dilat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T m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f((mask[i][j]) &amp;&amp; (src[x + i][y + j] &gt; max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 = src[x + i][y + 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st[x][y] = m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раскрытия и за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фологическое раскрыт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pen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n(A, B) = (A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фологическое закрыт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lo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ose(A, B) = (A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822240" y="5181480"/>
            <a:ext cx="530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тельные материалы по мат. морфолог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ступны по адрес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projects.graphicon.ru/publiclib/catalog/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ажное замеч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782280" y="2368440"/>
            <a:ext cx="846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жество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 является объектом обработки, а множество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называемое структурным элементом) – инстр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морфологических операций во многом определяетс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няемым структурным элементом. Выбирая различ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уктурный элемент можно решать разные задачи обработ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а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умопо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границ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скелета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сломанных зубьев на изображении шест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бинар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066680" y="22096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бинарного изображению с сильным ш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noise2_crop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222800" y="5181480"/>
                <a:ext cx="698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сужения к бинарному изображению с сильным шумо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84" name="3x3_erode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89200" cy="2730600"/>
          </a:xfrm>
          <a:prstGeom prst="rect">
            <a:avLst/>
          </a:prstGeom>
          <a:ln w="0">
            <a:noFill/>
          </a:ln>
        </p:spPr>
      </p:pic>
      <p:pic>
        <p:nvPicPr>
          <p:cNvPr id="585" name="3x3box_erode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797120" cy="2743200"/>
          </a:xfrm>
          <a:prstGeom prst="rect">
            <a:avLst/>
          </a:prstGeom>
          <a:ln w="0">
            <a:noFill/>
          </a:ln>
        </p:spPr>
      </p:pic>
      <p:pic>
        <p:nvPicPr>
          <p:cNvPr id="586" name="7x7_erode" descr=""/>
          <p:cNvPicPr/>
          <p:nvPr/>
        </p:nvPicPr>
        <p:blipFill>
          <a:blip r:embed="rId3"/>
          <a:stretch/>
        </p:blipFill>
        <p:spPr>
          <a:xfrm>
            <a:off x="6400800" y="2209680"/>
            <a:ext cx="1789200" cy="273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400040" y="5181480"/>
                <a:ext cx="72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748560" y="5029200"/>
                <a:ext cx="11779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4267080" y="5181480"/>
                <a:ext cx="609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открытия к бинарному изображению с сильным шумо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442880" y="5181480"/>
                <a:ext cx="63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3" name="3x3_open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98920" cy="2743200"/>
          </a:xfrm>
          <a:prstGeom prst="rect">
            <a:avLst/>
          </a:prstGeom>
          <a:ln w="0">
            <a:noFill/>
          </a:ln>
        </p:spPr>
      </p:pic>
      <p:pic>
        <p:nvPicPr>
          <p:cNvPr id="594" name="3x3box_open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797120" cy="2743200"/>
          </a:xfrm>
          <a:prstGeom prst="rect">
            <a:avLst/>
          </a:prstGeom>
          <a:ln w="0">
            <a:noFill/>
          </a:ln>
        </p:spPr>
      </p:pic>
      <p:pic>
        <p:nvPicPr>
          <p:cNvPr id="595" name="7x7_open" descr=""/>
          <p:cNvPicPr/>
          <p:nvPr/>
        </p:nvPicPr>
        <p:blipFill>
          <a:blip r:embed="rId3"/>
          <a:stretch/>
        </p:blipFill>
        <p:spPr>
          <a:xfrm>
            <a:off x="6400800" y="2209680"/>
            <a:ext cx="179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бинар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22096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бинарного изображению с дефектами распознаваемы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noise4_crop_rot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21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362320"/>
            <a:ext cx="8001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контраст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и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цветового баланса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авл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черкивание резких границ (краев) на из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1447920" y="5181480"/>
                <a:ext cx="609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закрытия к бинарному изображению с дефектами объек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02" name="3x3box_close" descr=""/>
          <p:cNvPicPr/>
          <p:nvPr/>
        </p:nvPicPr>
        <p:blipFill>
          <a:blip r:embed="rId1"/>
          <a:stretch/>
        </p:blipFill>
        <p:spPr>
          <a:xfrm>
            <a:off x="789120" y="2133720"/>
            <a:ext cx="1896840" cy="2895480"/>
          </a:xfrm>
          <a:prstGeom prst="rect">
            <a:avLst/>
          </a:prstGeom>
          <a:ln w="0">
            <a:noFill/>
          </a:ln>
        </p:spPr>
      </p:pic>
      <p:pic>
        <p:nvPicPr>
          <p:cNvPr id="603" name="7x7_close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1847880" cy="2819160"/>
          </a:xfrm>
          <a:prstGeom prst="rect">
            <a:avLst/>
          </a:prstGeom>
          <a:ln w="0">
            <a:noFill/>
          </a:ln>
        </p:spPr>
      </p:pic>
      <p:pic>
        <p:nvPicPr>
          <p:cNvPr id="604" name="5x5_close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1849680" cy="281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114800" y="5105520"/>
                <a:ext cx="7858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 лучший пример для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1143000" y="19810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во всех случаях математическая морфология так легко убирает дефекты, как хотелось б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noise1_crop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267080" y="5181480"/>
                <a:ext cx="609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операции от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1442880" y="5181480"/>
                <a:ext cx="63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13" name="noise1_3x3c_open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325600" cy="2438640"/>
          </a:xfrm>
          <a:prstGeom prst="rect">
            <a:avLst/>
          </a:prstGeom>
          <a:ln w="0">
            <a:noFill/>
          </a:ln>
        </p:spPr>
      </p:pic>
      <p:pic>
        <p:nvPicPr>
          <p:cNvPr id="614" name="noise1_3x3_open" descr=""/>
          <p:cNvPicPr/>
          <p:nvPr/>
        </p:nvPicPr>
        <p:blipFill>
          <a:blip r:embed="rId2"/>
          <a:stretch/>
        </p:blipFill>
        <p:spPr>
          <a:xfrm>
            <a:off x="3429000" y="2438280"/>
            <a:ext cx="2325600" cy="2438640"/>
          </a:xfrm>
          <a:prstGeom prst="rect">
            <a:avLst/>
          </a:prstGeom>
          <a:ln w="0">
            <a:noFill/>
          </a:ln>
        </p:spPr>
      </p:pic>
      <p:pic>
        <p:nvPicPr>
          <p:cNvPr id="615" name="noise1_7x7_open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2325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реднени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дианный фильт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льтр Гаусс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blur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аптивные фильт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9" name="checks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7619760" cy="23702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990720" y="2057400"/>
            <a:ext cx="693396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: изображение с равномерным шу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rr(i,j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рмально распределенная случай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143000" y="2514600"/>
                <a:ext cx="346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«свертка»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voluti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351480" cy="18352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219320" y="1981080"/>
            <a:ext cx="6629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двумерной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епрерывном и дискретном случа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487692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асто, свертка изображения по какой-либо функции называется применением фильтра к изображени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реднение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x filter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143000" y="2666880"/>
                <a:ext cx="45673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ация усреднения значения каждого пиксел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тка по констант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averaged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4647960" cy="2259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14300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blurred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3302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2362320"/>
            <a:ext cx="6858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ранение шума в полутоновых, цветных и бинарных изображениях с помощью медианного фильтра - выбор медианы среди значений яркости пикселей в некоторой окр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меди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анный фильтр радиус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медианы среди пикселей в окрестност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-r,r]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143000" y="4191120"/>
                <a:ext cx="4713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-отсортированный набор чисел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 набор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анный фильт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1143000" y="205740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5 пикс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median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276720" cy="15321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143000" y="40384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в 7 пикселей к изображению с шумом и артефактами в виде тонких светлых окруж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illustr1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49532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чистка изображения с помощью медианного фильт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19810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льтр с окрестностью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noise1_crop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2616120" cy="2743200"/>
          </a:xfrm>
          <a:prstGeom prst="rect">
            <a:avLst/>
          </a:prstGeom>
          <a:ln w="0">
            <a:noFill/>
          </a:ln>
        </p:spPr>
      </p:pic>
      <p:pic>
        <p:nvPicPr>
          <p:cNvPr id="643" name="noise1_median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2616480" cy="27432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4114800" y="39625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«Улучшение» изобра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контраста изоб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нсац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го диапазона яркостей датч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и передачи датч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transform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876560" cy="168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09680" y="5562720"/>
                <a:ext cx="1371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699000" y="5562720"/>
            <a:ext cx="43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стика яркости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изображ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ыстрая реализация медианного фильт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1981080"/>
            <a:ext cx="64771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анный фильтр считается дольше, чем операция свертки, поскольку требует частичной сортировки массива яркостей окрестных пик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ости уско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ть алгоритмы быстрой сорт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кретная реализация для каждого радиуса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x3, 5x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использовать сортировку вообще – считать через гистограмму окрестности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143000" y="2362320"/>
                <a:ext cx="4786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rad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914400" y="20574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по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fig1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990720" y="4038480"/>
            <a:ext cx="685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раметр     задает степен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графике функция 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2284560" y="4062240"/>
                <a:ext cx="338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066680" y="5105520"/>
                <a:ext cx="88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аленькая экскурсия к Фурь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5" name="high_detail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505320" cy="2058840"/>
          </a:xfrm>
          <a:prstGeom prst="rect">
            <a:avLst/>
          </a:prstGeom>
          <a:ln w="0">
            <a:noFill/>
          </a:ln>
        </p:spPr>
      </p:pic>
      <p:pic>
        <p:nvPicPr>
          <p:cNvPr id="656" name="low_detail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505320" cy="2060640"/>
          </a:xfrm>
          <a:prstGeom prst="rect">
            <a:avLst/>
          </a:prstGeom>
          <a:ln w="0">
            <a:noFill/>
          </a:ln>
        </p:spPr>
      </p:pic>
      <p:pic>
        <p:nvPicPr>
          <p:cNvPr id="657" name="low_contr11" descr=""/>
          <p:cNvPicPr/>
          <p:nvPr/>
        </p:nvPicPr>
        <p:blipFill>
          <a:blip r:embed="rId3"/>
          <a:stretch/>
        </p:blipFill>
        <p:spPr>
          <a:xfrm>
            <a:off x="2819520" y="4884840"/>
            <a:ext cx="3124080" cy="18367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306320" y="312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3581280" y="43434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24280" y="434340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0480" y="43498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ие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44320" y="441972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ие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ы свертки по функции Гаусса и по константной функции (усредн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fig3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66" name="fig4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667" name="fig5" descr=""/>
          <p:cNvPicPr/>
          <p:nvPr/>
        </p:nvPicPr>
        <p:blipFill>
          <a:blip r:embed="rId3"/>
          <a:stretch/>
        </p:blipFill>
        <p:spPr>
          <a:xfrm>
            <a:off x="5562720" y="2971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990720" y="51055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67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 Гаусса с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49 пикселям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x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07560" y="5568840"/>
            <a:ext cx="71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жное свойство фильтра Гаусса – он по сути являет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очастотным филь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 чем отличие разных фильтров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066680" y="2057400"/>
            <a:ext cx="6858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x filer (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ое размытие) – помимо подавления шума портит резкие границы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ussian filter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ньше портит границы, лучше убирает шу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n filter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ких границ не портит, убирает мелкие детали, изображение становится менее естеств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432080" y="5264280"/>
            <a:ext cx="580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то лучше?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зависит от конкре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шумоподавл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51814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05720" y="51055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 Гаусса с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14600" y="51814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9 пикселям (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51814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дианный фильтр (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sailor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623960" cy="2743200"/>
          </a:xfrm>
          <a:prstGeom prst="rect">
            <a:avLst/>
          </a:prstGeom>
          <a:ln w="0">
            <a:noFill/>
          </a:ln>
        </p:spPr>
      </p:pic>
      <p:pic>
        <p:nvPicPr>
          <p:cNvPr id="681" name="sailor_blur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1753920" cy="2743200"/>
          </a:xfrm>
          <a:prstGeom prst="rect">
            <a:avLst/>
          </a:prstGeom>
          <a:ln w="0">
            <a:noFill/>
          </a:ln>
        </p:spPr>
      </p:pic>
      <p:pic>
        <p:nvPicPr>
          <p:cNvPr id="682" name="sailor_gauss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703520" cy="2743200"/>
          </a:xfrm>
          <a:prstGeom prst="rect">
            <a:avLst/>
          </a:prstGeom>
          <a:ln w="0">
            <a:noFill/>
          </a:ln>
        </p:spPr>
      </p:pic>
      <p:pic>
        <p:nvPicPr>
          <p:cNvPr id="683" name="sailor_median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1724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даптивные фильтр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го бы хотелос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вать шум, резкие границы – сохраня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бы этого добить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едположение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репады яркости из-за шума относительно перепадов на резких границах невелики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лгоритм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расчете новой яркости усреднять только по тем пикселям из окрестности, которые не сильно отличаются по ярк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даптивные фильтр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ры таких фильтров: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http://www.compression.ru/video/denoising/denoising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8" name="noise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64008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к бороться с шумом аппаратуры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66680" y="205740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оложим, камера, которой производится съемка заметно «шумит». Обычно шум измерительной аппаратуры моделируется как случайная нормально распределенная случайная величина 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улевым средним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rr(i,j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1143000" y="3809880"/>
                <a:ext cx="354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шумоподавл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752480" y="510552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шумленные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72200" y="510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10 изобра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noise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122560" cy="2133360"/>
          </a:xfrm>
          <a:prstGeom prst="rect">
            <a:avLst/>
          </a:prstGeom>
          <a:ln w="0">
            <a:noFill/>
          </a:ln>
        </p:spPr>
      </p:pic>
      <p:pic>
        <p:nvPicPr>
          <p:cNvPr id="696" name="noise2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2133720" cy="2100240"/>
          </a:xfrm>
          <a:prstGeom prst="rect">
            <a:avLst/>
          </a:prstGeom>
          <a:ln w="0">
            <a:noFill/>
          </a:ln>
        </p:spPr>
      </p:pic>
      <p:pic>
        <p:nvPicPr>
          <p:cNvPr id="697" name="result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5257800" y="36576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8040" y="5715000"/>
            <a:ext cx="70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Так работают камеры в некоторых сотовых телефо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менение контраста изображения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28600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может не устраивать в полученном изображен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зкий или смещенный диапазон яркостей пикселе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тусклое или «пересвеченное» изображение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яркостей вокруг определенных значен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авномерное заполнение диапазона яркост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узкий диапаз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- к изображению применяется преобразова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ей, компенсирующий нежелательный эффект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на исходном изображени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после коррекц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120" y="6019920"/>
                <a:ext cx="1609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шумоподавл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53341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562720" y="52578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рчен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salt_good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276360" cy="3117960"/>
          </a:xfrm>
          <a:prstGeom prst="rect">
            <a:avLst/>
          </a:prstGeom>
          <a:ln w="0">
            <a:noFill/>
          </a:ln>
        </p:spPr>
      </p:pic>
      <p:pic>
        <p:nvPicPr>
          <p:cNvPr id="704" name="salt_pepper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1244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шумоподавл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54100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9 пикселям (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54100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дианный фильтр (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salt_bad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124080" cy="3114720"/>
          </a:xfrm>
          <a:prstGeom prst="rect">
            <a:avLst/>
          </a:prstGeom>
          <a:ln w="0">
            <a:noFill/>
          </a:ln>
        </p:spPr>
      </p:pic>
      <p:pic>
        <p:nvPicPr>
          <p:cNvPr id="709" name="salt_final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124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33520" y="2362320"/>
            <a:ext cx="8001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контраст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и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цветового баланса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авл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черкивание резких границ (краев) на из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онтуров объек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2209680"/>
            <a:ext cx="77724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отрим подчеркивание краев (гра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dge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резкое изменение яркости на изображении, часто соответствует границам объектов на изобра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edge_ex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6910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2209680"/>
            <a:ext cx="38862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 интересуют области резкого изменения яркости – нахождение таких областей можно организовать на основе анализа первой и второй производной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fig11" descr=""/>
          <p:cNvPicPr/>
          <p:nvPr/>
        </p:nvPicPr>
        <p:blipFill>
          <a:blip r:embed="rId1"/>
          <a:stretch/>
        </p:blipFill>
        <p:spPr>
          <a:xfrm>
            <a:off x="5938920" y="2071800"/>
            <a:ext cx="2274840" cy="925560"/>
          </a:xfrm>
          <a:prstGeom prst="rect">
            <a:avLst/>
          </a:prstGeom>
          <a:ln w="0">
            <a:noFill/>
          </a:ln>
        </p:spPr>
      </p:pic>
      <p:pic>
        <p:nvPicPr>
          <p:cNvPr id="720" name="fig21" descr=""/>
          <p:cNvPicPr/>
          <p:nvPr/>
        </p:nvPicPr>
        <p:blipFill>
          <a:blip r:embed="rId2"/>
          <a:stretch/>
        </p:blipFill>
        <p:spPr>
          <a:xfrm>
            <a:off x="5910120" y="3367080"/>
            <a:ext cx="2343240" cy="1463760"/>
          </a:xfrm>
          <a:prstGeom prst="rect">
            <a:avLst/>
          </a:prstGeom>
          <a:ln w="0">
            <a:noFill/>
          </a:ln>
        </p:spPr>
      </p:pic>
      <p:pic>
        <p:nvPicPr>
          <p:cNvPr id="721" name="fig31" descr=""/>
          <p:cNvPicPr/>
          <p:nvPr/>
        </p:nvPicPr>
        <p:blipFill>
          <a:blip r:embed="rId3"/>
          <a:stretch/>
        </p:blipFill>
        <p:spPr>
          <a:xfrm>
            <a:off x="5900760" y="4815000"/>
            <a:ext cx="2365200" cy="15778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724280" y="23623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3809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95680" y="5181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2ой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21337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вестно, что наибольшее изменение функции происходит в направлении ее градиента. Величина изменения измеряется абсолютной величиной град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826920" y="3124080"/>
                <a:ext cx="459612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588240" y="5105520"/>
            <a:ext cx="76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асто используется приближенное вычисление гради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838080" y="5486400"/>
                <a:ext cx="4267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≃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828720" y="3352680"/>
                <a:ext cx="177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762120" y="48006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матический смысл – приближенное вычисление производных по напр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697120" y="3276720"/>
                <a:ext cx="2203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952880" y="3276720"/>
                <a:ext cx="2318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1143000" y="4038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41148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4114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0574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ство методов основано на приближенном вычисление градиента, анализе его направления и абсолютной величины. Свертка по функц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ы применения операторов подчеркивания кра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76520" y="4343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72200" y="44197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632448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roberet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895840" cy="1486080"/>
          </a:xfrm>
          <a:prstGeom prst="rect">
            <a:avLst/>
          </a:prstGeom>
          <a:ln w="0">
            <a:noFill/>
          </a:ln>
        </p:spPr>
      </p:pic>
      <p:pic>
        <p:nvPicPr>
          <p:cNvPr id="748" name="prewitt_total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38400" cy="1558800"/>
          </a:xfrm>
          <a:prstGeom prst="rect">
            <a:avLst/>
          </a:prstGeom>
          <a:ln w="0">
            <a:noFill/>
          </a:ln>
        </p:spPr>
      </p:pic>
      <p:pic>
        <p:nvPicPr>
          <p:cNvPr id="749" name="sobel_total" descr=""/>
          <p:cNvPicPr/>
          <p:nvPr/>
        </p:nvPicPr>
        <p:blipFill>
          <a:blip r:embed="rId3"/>
          <a:stretch/>
        </p:blipFill>
        <p:spPr>
          <a:xfrm>
            <a:off x="2743200" y="4648320"/>
            <a:ext cx="304812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" y="2133720"/>
            <a:ext cx="73152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 с помощью второй производной по напр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рица оператора вычисления второй производн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114800" y="3200400"/>
                <a:ext cx="838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54" name="2nd_deriv1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638520" cy="1866960"/>
          </a:xfrm>
          <a:prstGeom prst="rect">
            <a:avLst/>
          </a:prstGeom>
          <a:ln w="0">
            <a:noFill/>
          </a:ln>
        </p:spPr>
      </p:pic>
      <p:pic>
        <p:nvPicPr>
          <p:cNvPr id="755" name="2nd_deriv2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638520" cy="18669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6765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ртикальная ма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6248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ризонтальная ма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762120" y="3200400"/>
                <a:ext cx="108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029200" y="342900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горизон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вертик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2120" y="2133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е процесса человеческого зрения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dreth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анализ нулей результатов свертки по оператору Лапласа от функции Гаус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LoG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38080" y="3352680"/>
                <a:ext cx="44197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5" name="g2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743200" cy="199692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181480" y="5410080"/>
            <a:ext cx="35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афик второй производной одномерной функции Гаусса с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07000" y="2209680"/>
            <a:ext cx="85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узкого диапазона яркостей – линейное растя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20600" y="594360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971960" y="2743200"/>
                <a:ext cx="3592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0" name="small_diap1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3048120" cy="1795320"/>
          </a:xfrm>
          <a:prstGeom prst="rect">
            <a:avLst/>
          </a:prstGeom>
          <a:ln w="0">
            <a:noFill/>
          </a:ln>
        </p:spPr>
      </p:pic>
      <p:pic>
        <p:nvPicPr>
          <p:cNvPr id="131" name="small_diap1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048120" cy="1712880"/>
          </a:xfrm>
          <a:prstGeom prst="rect">
            <a:avLst/>
          </a:prstGeom>
          <a:ln w="0">
            <a:noFill/>
          </a:ln>
        </p:spPr>
      </p:pic>
      <p:pic>
        <p:nvPicPr>
          <p:cNvPr id="132" name="diap_corr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24382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ки соответствующие оператор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различным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ma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914400" y="3048120"/>
                <a:ext cx="1481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3276720" y="2895480"/>
                <a:ext cx="495288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2193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5791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1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2133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 оператор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09680" y="49528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lap_3x3" descr=""/>
          <p:cNvPicPr/>
          <p:nvPr/>
        </p:nvPicPr>
        <p:blipFill>
          <a:blip r:embed="rId1"/>
          <a:stretch/>
        </p:blipFill>
        <p:spPr>
          <a:xfrm>
            <a:off x="914400" y="3014640"/>
            <a:ext cx="3581280" cy="1843200"/>
          </a:xfrm>
          <a:prstGeom prst="rect">
            <a:avLst/>
          </a:prstGeom>
          <a:ln w="0">
            <a:noFill/>
          </a:ln>
        </p:spPr>
      </p:pic>
      <p:pic>
        <p:nvPicPr>
          <p:cNvPr id="779" name="lap_5x5" descr=""/>
          <p:cNvPicPr/>
          <p:nvPr/>
        </p:nvPicPr>
        <p:blipFill>
          <a:blip r:embed="rId2"/>
          <a:stretch/>
        </p:blipFill>
        <p:spPr>
          <a:xfrm>
            <a:off x="5029200" y="3014640"/>
            <a:ext cx="3429000" cy="176364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172200" y="4876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работе с бинарными изображениями контуры объекта можно получить с помощью операций математической морф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утреннее оконтури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A – (A (-)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шнее оконтури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A (+) B) –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523880" y="2133720"/>
          <a:ext cx="2052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2052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5573880" y="2085840"/>
            <a:ext cx="206532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инейная коррек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07000" y="2209680"/>
            <a:ext cx="85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узкого диапазона яркостей – линейное растя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small_diap1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048120" cy="1712880"/>
          </a:xfrm>
          <a:prstGeom prst="rect">
            <a:avLst/>
          </a:prstGeom>
          <a:ln w="0">
            <a:noFill/>
          </a:ln>
        </p:spPr>
      </p:pic>
      <p:pic>
        <p:nvPicPr>
          <p:cNvPr id="136" name="good_diap1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3048120" cy="1712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5720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mall_diap1" descr=""/>
          <p:cNvPicPr/>
          <p:nvPr/>
        </p:nvPicPr>
        <p:blipFill>
          <a:blip r:embed="rId3"/>
          <a:stretch/>
        </p:blipFill>
        <p:spPr>
          <a:xfrm>
            <a:off x="4572000" y="2755800"/>
            <a:ext cx="2895480" cy="1704960"/>
          </a:xfrm>
          <a:prstGeom prst="rect">
            <a:avLst/>
          </a:prstGeom>
          <a:ln w="0">
            <a:noFill/>
          </a:ln>
        </p:spPr>
      </p:pic>
      <p:pic>
        <p:nvPicPr>
          <p:cNvPr id="140" name="good_diap1" descr=""/>
          <p:cNvPicPr/>
          <p:nvPr/>
        </p:nvPicPr>
        <p:blipFill>
          <a:blip r:embed="rId4"/>
          <a:stretch/>
        </p:blipFill>
        <p:spPr>
          <a:xfrm>
            <a:off x="4572000" y="4876920"/>
            <a:ext cx="29718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06:35Z</dcterms:created>
  <dc:creator>vvp</dc:creator>
  <dc:description/>
  <dc:language>en-US</dc:language>
  <cp:lastModifiedBy>dmoroz</cp:lastModifiedBy>
  <dcterms:modified xsi:type="dcterms:W3CDTF">2005-03-23T07:22:25Z</dcterms:modified>
  <cp:revision>255</cp:revision>
  <dc:subject/>
  <dc:title>Обработка и анализ изображений</dc:title>
</cp:coreProperties>
</file>