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88B-F505-4ACE-B0FA-893D5543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32D-63C4-4782-A36D-C3A2AC88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0FB-02EE-4318-8182-A34CA43C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F6E-DB6C-4692-BBB8-E9E6B2C9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7F66-20DA-4AF9-9AD4-B4523981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1078-C65F-4049-BD7B-E4201729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1885-CA00-4649-A31C-62625B3A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58F6-8F35-44D0-832B-1BE1B1B4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1FC-0582-4AE6-85C2-B2CDA640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F30-071E-458C-910D-EC50139E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7226-A03C-4B81-BFF8-1F3670B9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44F-E603-4076-9AE7-0C2DEB25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13C1-F8AF-446B-A0AB-C173E52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A8D1-09E8-4AD1-B53C-44778EA7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E6E4-909F-4254-B426-97220EC3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7BF8-2823-41E8-ADCD-296B6BD4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44FD-103C-4813-9946-03215ACC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B48-E117-49A7-8888-28C88664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4E5-AAB9-489D-B943-916D6406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0BB-97C2-4BD2-B573-8B7A507C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EFF-2F9E-4D4F-9E20-809B7D40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18F-C865-4421-9373-0D3D137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CCF-815B-4BC8-98A5-D63F56C4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17D-87DB-4231-879C-C788A8E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9F64-2A78-449D-8A75-B7565A3B4B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9239-4BD9-4902-AC9F-E6427C753C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692280"/>
            <a:ext cx="6781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кстуры</a:t>
            </a:r>
            <a:br>
              <a:rPr sz="3500"/>
            </a:b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Композиты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еркальное отражение (Фонг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трибуты (параметры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Courier New"/>
              </a:rPr>
              <a:t>r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= k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I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+ I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(k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(N.L) + k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(R.V)</a:t>
            </a:r>
            <a:r>
              <a:rPr b="1" lang="ru-RU" sz="30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α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ражение от поверхности  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rface color tex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тор нормал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                - bump m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эффициенты k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- specularity m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дающий све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environment m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еометрия                              - displacement m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зрачность                         - transparency m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ображение тексту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ть соответствие между координатами изображения текстуры и точками объ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олигонального предсталения используется соответствие на вершин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мер отображение текстуры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: Цилинд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мер отображение текстуры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: Цилиндр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P - точка нанесения тексту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вест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 параметрические координаты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,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гловая координата в радианах от оси Х</a:t>
            </a:r>
            <a:br>
              <a:rPr sz="1900"/>
            </a:b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ордината высо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71600" y="3435480"/>
            <a:ext cx="64008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мер отображение текстуры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: Цилиндр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79720" cy="2133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57200" y="1719360"/>
            <a:ext cx="3630600" cy="441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3753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ругие поверхнос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раметрические (В-сплайн) поверх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лигональные поверх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явно заданные поверх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Bump ma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896000" cy="2667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2886120" cy="1486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6829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Bump mapping (2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048200" cy="2714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3718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Закраска Фонга и рельефное текстурирова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4267080" cy="3990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5625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лек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кс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урные отображения для сферы, тора, цили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льефное текстурирование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mp-mapp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урирование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ози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ебра компози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озиты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иды рельефных тексту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5791320" cy="3444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086280" cy="352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486400" y="5334120"/>
            <a:ext cx="3009960" cy="34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486400" y="5867280"/>
            <a:ext cx="302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изуализация тексту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5610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ильтрация тексту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920" y="1752480"/>
          <a:ext cx="853416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53416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8580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4572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56386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ильтрация текстур: метод ближайшего сосе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бирается цвет ближайшего соответствующего пикселя текс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стрый мет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изкое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880000" cy="2881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435640" y="4437000"/>
            <a:ext cx="2962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ильтрация текстур: Билинейная фильтрац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тыре пикселя текстуры, ближайшие к текущей точке экр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ирующий цвет – смешение цветов этих пикс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, достаточно качествен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 исключение случаев, когда смотрим на плоскость под уг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095640" cy="2995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580000" y="4653000"/>
            <a:ext cx="2962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льтрация текстур: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MIP – mapping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(multum in parvo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ется подходящий уровень мипма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больше размер "образа" пикселя в текстуре, тем меньший мипмап бер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значения в мипмапе могут усредняться билинейно или методом ближайшего соседа (как описано вы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происходит фильтрация между соседними уровнями мипмапа (трилинейная филь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762360" cy="1666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2962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ильтрация текстур: анизотропная фильтрац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место квадратного фильтра, используется вытянут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зволяет более качественно выбрать нужный цвет для экранного пикс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1798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2962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равнение фильтрац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962080" cy="1914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2962440" cy="1914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962080" cy="1914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4067280" y="4149720"/>
            <a:ext cx="2962080" cy="1914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4720" y="37155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жайший сосе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68720" y="37155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линей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080" y="616500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линей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42520" y="60922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зотроп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15920" y="4843440"/>
            <a:ext cx="69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uint text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GenTextures(1,&amp;text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360" y="92088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оздаем текстуру - прямоугольный массив с цветами пикселов. Высота и  ширина должны быть степенями двой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1960" y="3494160"/>
            <a:ext cx="123660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G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urier New"/>
              </a:rPr>
              <a:t>N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82960" y="3494160"/>
            <a:ext cx="81900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2720" y="3494160"/>
            <a:ext cx="119844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G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urier New"/>
              </a:rPr>
              <a:t>1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5040" y="3494160"/>
            <a:ext cx="114768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G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urier New"/>
              </a:rPr>
              <a:t>0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1960" y="2976480"/>
            <a:ext cx="123660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82960" y="2976480"/>
            <a:ext cx="81900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82720" y="2976480"/>
            <a:ext cx="119844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5040" y="2976480"/>
            <a:ext cx="114768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1960" y="2459160"/>
            <a:ext cx="123660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G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urier New"/>
              </a:rPr>
              <a:t>N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82960" y="2459160"/>
            <a:ext cx="81900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82720" y="2459160"/>
            <a:ext cx="119844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G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urier New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5040" y="2459160"/>
            <a:ext cx="114768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G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urier New"/>
              </a:rPr>
              <a:t>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1960" y="1941480"/>
            <a:ext cx="123660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G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urier New"/>
              </a:rPr>
              <a:t>N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81160" y="1941480"/>
            <a:ext cx="82080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82720" y="1941480"/>
            <a:ext cx="119844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G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5040" y="1941480"/>
            <a:ext cx="114768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G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urier New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8320" y="1941480"/>
            <a:ext cx="393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68320" y="2459160"/>
            <a:ext cx="393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8320" y="2976480"/>
            <a:ext cx="393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2720" y="1941480"/>
            <a:ext cx="0" cy="20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1960" y="1941480"/>
            <a:ext cx="0" cy="20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576760" y="1957320"/>
                <a:ext cx="166068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25600" y="4240080"/>
            <a:ext cx="79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лучаем номер текстурного объ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440" y="564840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ктивизируем текстурный о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612144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BindTexture(text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43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кстурирование в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enG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0120" y="4390920"/>
            <a:ext cx="734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exParameteri(GL_TEXTURE_2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EXTURE_WRAP_S, GL_REPEA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exParameteri(GL_TEXTURE_2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EXTURE_WRAP_T, GL_REPEA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exParameteri(GL_TEXTURE_2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EXTURE_MAG_FILTER, GL_LINE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exParameteri(GL_TEXTURE_2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EXTURE_MIN_FILTER, GL_LINE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9960" y="85248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гружаем тексту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2600" y="3967200"/>
            <a:ext cx="79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Устанавливаем режимы текстур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6040" y="1336680"/>
            <a:ext cx="848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PixelStorei(GL_UNPACK_ALIGNMENT,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exImage2D(GL_TEXTURE_2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,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Mip-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RGB,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Формат текс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_width,tex_height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,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Ширина гран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RGB,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Формат исходных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UNSIGNED_BYTE,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Тип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_bits);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сходные дан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931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кстурирование в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enGL (2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онвейер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527120"/>
            <a:ext cx="2388960" cy="63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Обработка вершин и сборка примитив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160720"/>
            <a:ext cx="2388960" cy="958680"/>
            <a:chOff x="990720" y="2160720"/>
            <a:chExt cx="2388960" cy="958680"/>
          </a:xfrm>
        </p:grpSpPr>
        <p:sp>
          <p:nvSpPr>
            <p:cNvPr id="156" name=""/>
            <p:cNvSpPr/>
            <p:nvPr/>
          </p:nvSpPr>
          <p:spPr>
            <a:xfrm>
              <a:off x="990720" y="2481480"/>
              <a:ext cx="23889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135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Растеризация и обработка фрагмент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33280" y="2160720"/>
              <a:ext cx="318960" cy="317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990720" y="3114720"/>
            <a:ext cx="2388960" cy="958320"/>
            <a:chOff x="990720" y="3114720"/>
            <a:chExt cx="2388960" cy="958320"/>
          </a:xfrm>
        </p:grpSpPr>
        <p:sp>
          <p:nvSpPr>
            <p:cNvPr id="159" name=""/>
            <p:cNvSpPr/>
            <p:nvPr/>
          </p:nvSpPr>
          <p:spPr>
            <a:xfrm>
              <a:off x="990720" y="3436560"/>
              <a:ext cx="2388960" cy="63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135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Операции над пикселям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33280" y="3114720"/>
              <a:ext cx="318960" cy="3189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90720" y="4070520"/>
            <a:ext cx="2388960" cy="958680"/>
            <a:chOff x="990720" y="4070520"/>
            <a:chExt cx="2388960" cy="958680"/>
          </a:xfrm>
        </p:grpSpPr>
        <p:sp>
          <p:nvSpPr>
            <p:cNvPr id="162" name=""/>
            <p:cNvSpPr/>
            <p:nvPr/>
          </p:nvSpPr>
          <p:spPr>
            <a:xfrm>
              <a:off x="990720" y="4392720"/>
              <a:ext cx="2388960" cy="63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135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Передача данных в буфер кад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33280" y="4070520"/>
              <a:ext cx="318960" cy="3189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504960" y="2792520"/>
            <a:ext cx="2500560" cy="636480"/>
            <a:chOff x="3504960" y="2792520"/>
            <a:chExt cx="2500560" cy="636480"/>
          </a:xfrm>
        </p:grpSpPr>
        <p:sp>
          <p:nvSpPr>
            <p:cNvPr id="165" name=""/>
            <p:cNvSpPr/>
            <p:nvPr/>
          </p:nvSpPr>
          <p:spPr>
            <a:xfrm>
              <a:off x="4572000" y="2792520"/>
              <a:ext cx="1433520" cy="63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135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Тексту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3504960" y="2792520"/>
              <a:ext cx="990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428640" y="1836720"/>
            <a:ext cx="2576880" cy="636480"/>
            <a:chOff x="3428640" y="1836720"/>
            <a:chExt cx="2576880" cy="636480"/>
          </a:xfrm>
        </p:grpSpPr>
        <p:sp>
          <p:nvSpPr>
            <p:cNvPr id="168" name=""/>
            <p:cNvSpPr/>
            <p:nvPr/>
          </p:nvSpPr>
          <p:spPr>
            <a:xfrm>
              <a:off x="4572000" y="1836720"/>
              <a:ext cx="1433520" cy="63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135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Источники све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3428640" y="19537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428640" y="1041480"/>
            <a:ext cx="2576880" cy="684000"/>
            <a:chOff x="3428640" y="1041480"/>
            <a:chExt cx="2576880" cy="684000"/>
          </a:xfrm>
        </p:grpSpPr>
        <p:sp>
          <p:nvSpPr>
            <p:cNvPr id="171" name=""/>
            <p:cNvSpPr/>
            <p:nvPr/>
          </p:nvSpPr>
          <p:spPr>
            <a:xfrm>
              <a:off x="4572000" y="1041480"/>
              <a:ext cx="1433520" cy="63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135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Атрибуты верши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428640" y="14209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572000" y="3844800"/>
            <a:ext cx="4191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ршина любого объекта в момент определения немедленно передается в конвейер, и проходит все его ступ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3D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координаты -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&gt;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экра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276640"/>
            <a:ext cx="3478320" cy="1954080"/>
          </a:xfrm>
          <a:custGeom>
            <a:avLst/>
            <a:gdLst/>
            <a:ahLst/>
            <a:rect l="l" t="t" r="r" b="b"/>
            <a:pathLst>
              <a:path w="2191" h="1231">
                <a:moveTo>
                  <a:pt x="409" y="21"/>
                </a:moveTo>
                <a:cubicBezTo>
                  <a:pt x="381" y="28"/>
                  <a:pt x="361" y="46"/>
                  <a:pt x="334" y="56"/>
                </a:cubicBezTo>
                <a:cubicBezTo>
                  <a:pt x="295" y="85"/>
                  <a:pt x="244" y="112"/>
                  <a:pt x="207" y="142"/>
                </a:cubicBezTo>
                <a:cubicBezTo>
                  <a:pt x="182" y="162"/>
                  <a:pt x="165" y="188"/>
                  <a:pt x="138" y="205"/>
                </a:cubicBezTo>
                <a:cubicBezTo>
                  <a:pt x="106" y="257"/>
                  <a:pt x="68" y="301"/>
                  <a:pt x="40" y="355"/>
                </a:cubicBezTo>
                <a:cubicBezTo>
                  <a:pt x="33" y="387"/>
                  <a:pt x="28" y="417"/>
                  <a:pt x="17" y="447"/>
                </a:cubicBezTo>
                <a:cubicBezTo>
                  <a:pt x="4" y="521"/>
                  <a:pt x="4" y="597"/>
                  <a:pt x="0" y="672"/>
                </a:cubicBezTo>
                <a:cubicBezTo>
                  <a:pt x="2" y="741"/>
                  <a:pt x="3" y="810"/>
                  <a:pt x="6" y="879"/>
                </a:cubicBezTo>
                <a:cubicBezTo>
                  <a:pt x="8" y="912"/>
                  <a:pt x="29" y="955"/>
                  <a:pt x="40" y="983"/>
                </a:cubicBezTo>
                <a:cubicBezTo>
                  <a:pt x="67" y="1053"/>
                  <a:pt x="119" y="1185"/>
                  <a:pt x="196" y="1213"/>
                </a:cubicBezTo>
                <a:cubicBezTo>
                  <a:pt x="220" y="1222"/>
                  <a:pt x="289" y="1224"/>
                  <a:pt x="299" y="1225"/>
                </a:cubicBezTo>
                <a:cubicBezTo>
                  <a:pt x="430" y="1217"/>
                  <a:pt x="560" y="1220"/>
                  <a:pt x="691" y="1231"/>
                </a:cubicBezTo>
                <a:cubicBezTo>
                  <a:pt x="1072" y="1227"/>
                  <a:pt x="1441" y="1202"/>
                  <a:pt x="1820" y="1185"/>
                </a:cubicBezTo>
                <a:cubicBezTo>
                  <a:pt x="1870" y="1180"/>
                  <a:pt x="1940" y="1173"/>
                  <a:pt x="1987" y="1150"/>
                </a:cubicBezTo>
                <a:cubicBezTo>
                  <a:pt x="2017" y="1135"/>
                  <a:pt x="2036" y="1112"/>
                  <a:pt x="2062" y="1092"/>
                </a:cubicBezTo>
                <a:cubicBezTo>
                  <a:pt x="2075" y="1062"/>
                  <a:pt x="2078" y="1032"/>
                  <a:pt x="2097" y="1006"/>
                </a:cubicBezTo>
                <a:cubicBezTo>
                  <a:pt x="2102" y="976"/>
                  <a:pt x="2108" y="953"/>
                  <a:pt x="2120" y="925"/>
                </a:cubicBezTo>
                <a:cubicBezTo>
                  <a:pt x="2125" y="896"/>
                  <a:pt x="2137" y="874"/>
                  <a:pt x="2143" y="845"/>
                </a:cubicBezTo>
                <a:cubicBezTo>
                  <a:pt x="2158" y="689"/>
                  <a:pt x="2191" y="441"/>
                  <a:pt x="2091" y="286"/>
                </a:cubicBezTo>
                <a:cubicBezTo>
                  <a:pt x="2076" y="216"/>
                  <a:pt x="2031" y="158"/>
                  <a:pt x="1999" y="96"/>
                </a:cubicBezTo>
                <a:cubicBezTo>
                  <a:pt x="1990" y="78"/>
                  <a:pt x="1987" y="68"/>
                  <a:pt x="1970" y="56"/>
                </a:cubicBezTo>
                <a:cubicBezTo>
                  <a:pt x="1939" y="35"/>
                  <a:pt x="1903" y="32"/>
                  <a:pt x="1866" y="27"/>
                </a:cubicBezTo>
                <a:cubicBezTo>
                  <a:pt x="1762" y="31"/>
                  <a:pt x="1659" y="39"/>
                  <a:pt x="1555" y="44"/>
                </a:cubicBezTo>
                <a:cubicBezTo>
                  <a:pt x="1293" y="41"/>
                  <a:pt x="1034" y="35"/>
                  <a:pt x="772" y="27"/>
                </a:cubicBezTo>
                <a:cubicBezTo>
                  <a:pt x="701" y="22"/>
                  <a:pt x="630" y="15"/>
                  <a:pt x="559" y="10"/>
                </a:cubicBezTo>
                <a:cubicBezTo>
                  <a:pt x="420" y="15"/>
                  <a:pt x="468" y="0"/>
                  <a:pt x="409" y="2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9960" y="85248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ешаем текстур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200" y="196056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даем текстурные координа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68320" y="1419120"/>
            <a:ext cx="52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able(GL_TEXTURE_2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84160" y="2486160"/>
            <a:ext cx="52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exCoord2d(u,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2040" y="30272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зможно, потребуется  включить режим перспективного текстурир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4003560"/>
            <a:ext cx="69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Hint(GL_PERSPECTIVE_CORRECTION_HINT,GL_NICE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0680" y="4530600"/>
            <a:ext cx="79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звращаем номер текстурного объекта в список свобод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30240" y="5029200"/>
            <a:ext cx="69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eleteTextures(1,&amp;text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24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кстурирование в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enGL (3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енерация текстурных координа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втоматическая генерация текстурных координа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TexGen{ifd}[v]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ежимы генерации координат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_OBJECT_LIN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_EYE_LIN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_SPHERE_M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ординаты считаются как расстояние от заданной плоскости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x+By+Cz+D=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зи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Композирова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osi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: The combining of two or more separately prepared images into one, usually through pixel-by-pixel transparency (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computation, and sometimes with z comparison. Also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os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.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: to perform compositing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: being composited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: the result of composit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Композирование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Определе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зирова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динение двух или более независимо подготовленных изображений в одно изображение, обычно с помощью попиксельного вычисления полупрозрачности (альфа-канал), иногда с учетом глубины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координат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мешение, Монтаж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it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льфа-кана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дирует информацию о покрытии пиксел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т покрытия (прозрачны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: полное покрытие (непрозрачны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&lt; 1 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астичное покрытие (полупрозрачны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имер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= 0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4096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иксели с альфа-канал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,G,B,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яет пиксел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крытый на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цветом С =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/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G/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B/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ы цвета умножены на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жно показывать цве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,G,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напрям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то значат следующие цвет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0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0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ный зеленый, полное покрыт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0, 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0, 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Половина зеленого, полное покрыт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0, ½, 0, ½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Полный зеленый, половина покрыт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0, ½, 0, 0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Полностью прозрач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зирование с альфа-канал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ьфа-канал управляет линейной интерполяцией фоновых и передних пикселей при композирован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58920" y="3284640"/>
            <a:ext cx="58291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лупрозрачные объек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м, мы рисуем изображение А повер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ерх фон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кольк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локируе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кольк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но чере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1-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кольк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но чере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(1-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) (1-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епрозрачные объек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мы можем комбинировать два частично перекрытых пиксе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 возможных цвет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, A,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она (0, А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, A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050920" y="3645000"/>
            <a:ext cx="4905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кстурир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зитная алгебра Портера-Дафф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ых комбин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79200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ератор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8403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мер монтаж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962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зирование в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penG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ключить режим композир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nable(GL_BL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дать функции источника и приемни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BlendFunc(source_function, dest_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 опера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ove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BlendFunc(GL_SRC_ALPHA, GL_ONE_MINUS_SRC_ALP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ть альфа-канал в вершинах или в текс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Color(R,G,B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ключить режим композ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Disable(GL_BLEND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рафический процесс: материал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16040" y="1380960"/>
          <a:ext cx="59086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380960"/>
                    <a:ext cx="59086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Графический процесс: синтез изображений (экранизация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5120" y="1716120"/>
          <a:ext cx="821052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716120"/>
                    <a:ext cx="82105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ображение текстуры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Texture mapp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щее отображение тексту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зор, определенный 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D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ласти, «наклеивается» на объект как кусок обоев и, фактически становится частью объектной базы данных. Т.е., когда объект перемещается, текстурный узор перемещается вместе с н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нообразие технолог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-dependent mapping techniq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mp mapping techniq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placement mapping techni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кстурирование: постановка зада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кстура – часть модели освещения и часть геометрической мод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ой атрибут или параметр модулируется, чтобы получить желаемый эффект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осуществляется отображение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текстура определена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ласти, а объект существует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ранстве, нам необходимо определить отображение между этими област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ункции отраж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97528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2:59:37Z</dcterms:created>
  <dc:creator>ymb</dc:creator>
  <dc:description/>
  <dc:language>en-US</dc:language>
  <cp:lastModifiedBy>02a_ign</cp:lastModifiedBy>
  <cp:lastPrinted>2002-04-08T16:35:46Z</cp:lastPrinted>
  <dcterms:modified xsi:type="dcterms:W3CDTF">2005-05-04T08:22:57Z</dcterms:modified>
  <cp:revision>109</cp:revision>
  <dc:subject/>
  <dc:title>Лекция 9 9 апреля 2002 г.</dc:title>
</cp:coreProperties>
</file>